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gif" ContentType="image/gif"/>
  <Override PartName="/ppt/media/image19.wmf" ContentType="image/x-wmf"/>
  <Override PartName="/ppt/media/image21.png" ContentType="image/png"/>
  <Override PartName="/ppt/media/image20.wmf" ContentType="image/x-wmf"/>
  <Override PartName="/ppt/media/image18.wmf" ContentType="image/x-wmf"/>
  <Override PartName="/ppt/media/image3.jpeg" ContentType="image/jpeg"/>
  <Override PartName="/ppt/media/image16.wmf" ContentType="image/x-wmf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4F7B-A3FD-44E0-9E3D-6A3C2E060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CD5C-EECD-4602-9EB0-67F9E653D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1591-38CD-4910-9568-2D7169FE3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0394-30AB-4E32-AEF2-057B43A61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0743-98B5-452E-9088-281B83956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8261-9BD4-4F04-8184-4136912A7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6AF4-8112-4656-B80C-4EF89E995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EE75-2B5E-4B64-9EF1-8B11B0ACC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BB06-7EF1-4EF2-8F8C-C1360968B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432D-29E4-491E-9CB8-F463FAD10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01DD-FA16-4FED-939D-068FA6796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1105-07BF-48FB-BA78-E964220D3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344520"/>
            <a:ext cx="819468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2" name="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a0b5c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ldNum" idx="1"/>
          </p:nvPr>
        </p:nvSpPr>
        <p:spPr>
          <a:xfrm>
            <a:off x="8286840" y="6386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6E7A-B47E-4AE8-8468-DA20F88372DA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10" name="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de884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9360" y="2138400"/>
            <a:ext cx="801504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a0b5c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90440" y="2324160"/>
            <a:ext cx="3276720" cy="3314520"/>
            <a:chOff x="190440" y="2324160"/>
            <a:chExt cx="3276720" cy="3314520"/>
          </a:xfrm>
        </p:grpSpPr>
        <p:sp>
          <p:nvSpPr>
            <p:cNvPr id="58" name=""/>
            <p:cNvSpPr/>
            <p:nvPr/>
          </p:nvSpPr>
          <p:spPr>
            <a:xfrm>
              <a:off x="190440" y="3162240"/>
              <a:ext cx="1752840" cy="1600200"/>
            </a:xfrm>
            <a:prstGeom prst="hexagon">
              <a:avLst>
                <a:gd name="adj" fmla="val 27385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38360" y="232416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00200" y="403848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3490920" y="2606760"/>
          <a:ext cx="43941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0920" y="2606760"/>
                    <a:ext cx="43941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143000" y="1371600"/>
          <a:ext cx="67626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1371600"/>
                    <a:ext cx="67626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429000" y="3581280"/>
          <a:ext cx="4419720" cy="270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581280"/>
                    <a:ext cx="441972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0" y="6383160"/>
            <a:ext cx="1905120" cy="474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86c2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5086c2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3" marL="1371600" algn="ctr">
              <a:spcBef>
                <a:spcPts val="601"/>
              </a:spcBef>
              <a:buClr>
                <a:srgbClr val="003366"/>
              </a:buClr>
              <a:buFont typeface="黑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4" marL="1828800" algn="ctr">
              <a:spcBef>
                <a:spcPts val="601"/>
              </a:spcBef>
              <a:buClr>
                <a:srgbClr val="003366"/>
              </a:buClr>
              <a:buFont typeface="黑体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5" marL="1828800">
              <a:spcBef>
                <a:spcPts val="601"/>
              </a:spcBef>
              <a:buClr>
                <a:srgbClr val="00336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6" marL="1828800">
              <a:spcBef>
                <a:spcPts val="601"/>
              </a:spcBef>
              <a:buClr>
                <a:srgbClr val="00336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slide" Target="slide11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1.png"/><Relationship Id="rId3" Type="http://schemas.openxmlformats.org/officeDocument/2006/relationships/slide" Target="slide27.xml"/><Relationship Id="rId4" Type="http://schemas.openxmlformats.org/officeDocument/2006/relationships/slide" Target="slide26.xml"/><Relationship Id="rId5" Type="http://schemas.openxmlformats.org/officeDocument/2006/relationships/slide" Target="slide24.xml"/><Relationship Id="rId6" Type="http://schemas.openxmlformats.org/officeDocument/2006/relationships/slide" Target="slide23.xml"/><Relationship Id="rId7" Type="http://schemas.openxmlformats.org/officeDocument/2006/relationships/slide" Target="slide21.xml"/><Relationship Id="rId8" Type="http://schemas.openxmlformats.org/officeDocument/2006/relationships/slide" Target="slide20.xml"/><Relationship Id="rId9" Type="http://schemas.openxmlformats.org/officeDocument/2006/relationships/slide" Target="slide19.xml"/><Relationship Id="rId10" Type="http://schemas.openxmlformats.org/officeDocument/2006/relationships/slide" Target="slide15.xml"/><Relationship Id="rId11" Type="http://schemas.openxmlformats.org/officeDocument/2006/relationships/image" Target="../media/image9.png"/><Relationship Id="rId12" Type="http://schemas.openxmlformats.org/officeDocument/2006/relationships/slide" Target="slide15.xml"/><Relationship Id="rId13" Type="http://schemas.openxmlformats.org/officeDocument/2006/relationships/image" Target="../media/image11.png"/><Relationship Id="rId14" Type="http://schemas.openxmlformats.org/officeDocument/2006/relationships/slide" Target="slide30.xml"/><Relationship Id="rId15" Type="http://schemas.openxmlformats.org/officeDocument/2006/relationships/slide" Target="slide29.xml"/><Relationship Id="rId16" Type="http://schemas.openxmlformats.org/officeDocument/2006/relationships/slide" Target="slide28.xml"/><Relationship Id="rId1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" Target="slide69.xm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" Target="slide18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8.xml"/><Relationship Id="rId3" Type="http://schemas.openxmlformats.org/officeDocument/2006/relationships/slide" Target="slide38.xml"/><Relationship Id="rId4" Type="http://schemas.openxmlformats.org/officeDocument/2006/relationships/slide" Target="slide40.xml"/><Relationship Id="rId5" Type="http://schemas.openxmlformats.org/officeDocument/2006/relationships/slide" Target="slide40.xml"/><Relationship Id="rId6" Type="http://schemas.openxmlformats.org/officeDocument/2006/relationships/slide" Target="slide40.xml"/><Relationship Id="rId7" Type="http://schemas.openxmlformats.org/officeDocument/2006/relationships/slide" Target="slide46.xml"/><Relationship Id="rId8" Type="http://schemas.openxmlformats.org/officeDocument/2006/relationships/slide" Target="slide46.xml"/><Relationship Id="rId9" Type="http://schemas.openxmlformats.org/officeDocument/2006/relationships/slide" Target="slide2.xm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" Target="slide36.xm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0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57.xml"/><Relationship Id="rId3" Type="http://schemas.openxmlformats.org/officeDocument/2006/relationships/slide" Target="slide60.xml"/><Relationship Id="rId4" Type="http://schemas.openxmlformats.org/officeDocument/2006/relationships/slide" Target="slide60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image" Target="../media/image21.png"/><Relationship Id="rId3" Type="http://schemas.openxmlformats.org/officeDocument/2006/relationships/slide" Target="slide57.xml"/><Relationship Id="rId4" Type="http://schemas.openxmlformats.org/officeDocument/2006/relationships/image" Target="../media/image21.png"/><Relationship Id="rId5" Type="http://schemas.openxmlformats.org/officeDocument/2006/relationships/slide" Target="slide58.xml"/><Relationship Id="rId6" Type="http://schemas.openxmlformats.org/officeDocument/2006/relationships/image" Target="../media/image21.png"/><Relationship Id="rId7" Type="http://schemas.openxmlformats.org/officeDocument/2006/relationships/slide" Target="slide57.xml"/><Relationship Id="rId8" Type="http://schemas.openxmlformats.org/officeDocument/2006/relationships/image" Target="../media/image21.png"/><Relationship Id="rId9" Type="http://schemas.openxmlformats.org/officeDocument/2006/relationships/slide" Target="slide58.xml"/><Relationship Id="rId10" Type="http://schemas.openxmlformats.org/officeDocument/2006/relationships/image" Target="../media/image21.png"/><Relationship Id="rId11" Type="http://schemas.openxmlformats.org/officeDocument/2006/relationships/slide" Target="slide58.xml"/><Relationship Id="rId12" Type="http://schemas.openxmlformats.org/officeDocument/2006/relationships/image" Target="../media/image21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" Target="slide62.xml"/><Relationship Id="rId5" Type="http://schemas.openxmlformats.org/officeDocument/2006/relationships/slide" Target="slide63.xml"/><Relationship Id="rId6" Type="http://schemas.openxmlformats.org/officeDocument/2006/relationships/slide" Target="slide63.xml"/><Relationship Id="rId7" Type="http://schemas.openxmlformats.org/officeDocument/2006/relationships/slide" Target="slide64.xml"/><Relationship Id="rId8" Type="http://schemas.openxmlformats.org/officeDocument/2006/relationships/slide" Target="slide64.xml"/><Relationship Id="rId9" Type="http://schemas.openxmlformats.org/officeDocument/2006/relationships/slide" Target="slide64.xml"/><Relationship Id="rId10" Type="http://schemas.openxmlformats.org/officeDocument/2006/relationships/slide" Target="slide64.xml"/><Relationship Id="rId11" Type="http://schemas.openxmlformats.org/officeDocument/2006/relationships/slide" Target="slide65.xml"/><Relationship Id="rId12" Type="http://schemas.openxmlformats.org/officeDocument/2006/relationships/slide" Target="slide65.xml"/><Relationship Id="rId13" Type="http://schemas.openxmlformats.org/officeDocument/2006/relationships/slide" Target="slide66.xml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二、指令字长和操作码扩展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16000" y="1523880"/>
            <a:ext cx="6732720" cy="3129120"/>
            <a:chOff x="1116000" y="1523880"/>
            <a:chExt cx="6732720" cy="3129120"/>
          </a:xfrm>
        </p:grpSpPr>
        <p:sp>
          <p:nvSpPr>
            <p:cNvPr id="186" name=""/>
            <p:cNvSpPr/>
            <p:nvPr/>
          </p:nvSpPr>
          <p:spPr>
            <a:xfrm>
              <a:off x="5562720" y="3247920"/>
              <a:ext cx="2286000" cy="14050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43000" y="3247920"/>
              <a:ext cx="2286000" cy="14050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>
              <a:hlinkClick r:id="rId1" action="ppaction://hlinksldjump"/>
            </p:cNvPr>
            <p:cNvSpPr/>
            <p:nvPr/>
          </p:nvSpPr>
          <p:spPr>
            <a:xfrm>
              <a:off x="1116000" y="3619440"/>
              <a:ext cx="218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黑体"/>
                  <a:ea typeface="黑体"/>
                  <a:hlinkClick r:id="rId2" action="ppaction://hlinksldjump"/>
                </a:rPr>
                <a:t>1</a:t>
              </a: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黑体"/>
                  <a:ea typeface="黑体"/>
                  <a:hlinkClick r:id="rId3" action="ppaction://hlinksldjump"/>
                </a:rPr>
                <a:t>、指令字长度</a:t>
              </a: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黑体"/>
                  <a:ea typeface="黑体"/>
                  <a:hlinkClick r:id="rId4" action="ppaction://hlinksldjump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22720" y="315108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b0d291"/>
                </a:gs>
                <a:gs pos="100000">
                  <a:srgbClr val="85ba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874400" y="315108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d7ea"/>
                </a:gs>
                <a:gs pos="100000">
                  <a:srgbClr val="5086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048120" y="1523880"/>
              <a:ext cx="2998440" cy="1601640"/>
              <a:chOff x="3048120" y="1523880"/>
              <a:chExt cx="2998440" cy="160164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3048120" y="1666800"/>
                <a:ext cx="2998440" cy="1458720"/>
                <a:chOff x="3048120" y="1666800"/>
                <a:chExt cx="2998440" cy="14587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080880" y="171324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6405d"/>
                    </a:gs>
                    <a:gs pos="100000">
                      <a:srgbClr val="5086c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048120" y="16668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086c2"/>
                    </a:gs>
                    <a:gs pos="100000">
                      <a:srgbClr val="b0c8e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3189600" y="152388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63e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224520" y="153180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f2d4be"/>
                  </a:gs>
                  <a:gs pos="100000">
                    <a:srgbClr val="de8848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251520" y="154476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de8848">
                      <a:alpha val="48235"/>
                    </a:srgbClr>
                  </a:gs>
                  <a:gs pos="100000">
                    <a:srgbClr val="af6b3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83280" y="157176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de8848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3419640" y="1773360"/>
              <a:ext cx="21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黑体"/>
                </a:rPr>
                <a:t>指令字长和操作码扩展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10400" y="3543480"/>
              <a:ext cx="203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黑体"/>
                  <a:ea typeface="黑体"/>
                  <a:hlinkClick r:id="rId5" action="ppaction://hlinksldjump"/>
                </a:rPr>
                <a:t>2</a:t>
              </a: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黑体"/>
                  <a:ea typeface="黑体"/>
                  <a:hlinkClick r:id="rId6" action="ppaction://hlinksldjump"/>
                </a:rPr>
                <a:t>、指令操作码扩展</a:t>
              </a: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黑体"/>
                  <a:ea typeface="黑体"/>
                  <a:hlinkClick r:id="rId7" action="ppaction://hlinksldjump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0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D470-DEB5-4B09-A7BB-D481473C2D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、指令字长度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556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机器指令是用二进制机器字来表示的，表示一条指令的机器字，就称为指令字。一条指令中所包含的二进制码的位数，称为指令字长度或指令字长。它主要取决于操作码的长度、操作数地址的长度和操作数地址的个数。不同机器的指令字长是不相同的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</a:rPr>
              <a:t>按指令长度固定与否可以分为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固定指令字长的指令：所有指令的字长均相等，一般等于机器字长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可变指令字长的指令：指令字长不固定，通常取字节的整数倍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2F37-BE7B-4A8D-9FF4-B1FB0D1F66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、指令字长度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556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</a:rPr>
              <a:t>按照指令字长与机器字长的关系分类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短格式指令：指令字长小于或等于机器字长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长格式指令：指令字长大于机器字长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一个机器的指令系统中，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短格式指令和长格式指令可以并存</a:t>
            </a:r>
            <a:r>
              <a:rPr b="1" lang="zh-CN" sz="2400" spc="-1" strike="noStrike">
                <a:solidFill>
                  <a:srgbClr val="4c59d2"/>
                </a:solidFill>
                <a:latin typeface="黑体"/>
              </a:rPr>
              <a:t>，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通常将最常用的指令设计成短格式指令，可以节省存储空间、提高指令的执行速度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0BF6-9873-41D5-B24F-32A9EF7B21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、指令操作码扩展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488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固定操作码长度的格式和可变操作码长度格式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在设计操作码不固定的指令系统时，应安排指令使用频度高的指令占用短的操作码，对使用频度低的指令可占用较长的操作码，这样可以缩短经常使用的指令的译码时间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采用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扩展操作码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技术，使操作码的长度随地址数的减少而增加，即不同地址数的指令可以具有不同长度的操作码，从而可以有效地缩短指令字长。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指令操作码扩展技术是一种重要的指令优化技术，它可以缩短指令的平均长度，增加指令字所能表示的操作信息。但指令操作码扩展技术需要更多的硬件支持，它的指令译码更加复杂，使控制器设计难度增大。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07CE-7F58-49B5-A201-2A04937A9A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5904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508720" y="836640"/>
          <a:ext cx="2808360" cy="272880"/>
        </p:xfrm>
        <a:graphic>
          <a:graphicData uri="http://schemas.openxmlformats.org/drawingml/2006/table">
            <a:tbl>
              <a:tblPr/>
              <a:tblGrid>
                <a:gridCol w="718920"/>
                <a:gridCol w="703440"/>
                <a:gridCol w="736560"/>
                <a:gridCol w="649440"/>
              </a:tblGrid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P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US" sz="1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US" sz="1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US" sz="1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494320" y="1268280"/>
          <a:ext cx="2809800" cy="941400"/>
        </p:xfrm>
        <a:graphic>
          <a:graphicData uri="http://schemas.openxmlformats.org/drawingml/2006/table">
            <a:tbl>
              <a:tblPr/>
              <a:tblGrid>
                <a:gridCol w="720720"/>
                <a:gridCol w="720720"/>
                <a:gridCol w="719280"/>
                <a:gridCol w="649080"/>
              </a:tblGrid>
              <a:tr h="106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4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4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4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4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4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4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4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4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4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1697400" y="148320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位操作码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,15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条三地址指令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508720" y="2637000"/>
          <a:ext cx="2808360" cy="820440"/>
        </p:xfrm>
        <a:graphic>
          <a:graphicData uri="http://schemas.openxmlformats.org/drawingml/2006/table">
            <a:tbl>
              <a:tblPr/>
              <a:tblGrid>
                <a:gridCol w="733320"/>
                <a:gridCol w="635040"/>
                <a:gridCol w="719280"/>
                <a:gridCol w="720720"/>
              </a:tblGrid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GB" sz="1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1670040" y="2923200"/>
            <a:ext cx="31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位操作码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,15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条二地址指令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495760" y="3873600"/>
          <a:ext cx="2808360" cy="820800"/>
        </p:xfrm>
        <a:graphic>
          <a:graphicData uri="http://schemas.openxmlformats.org/drawingml/2006/table">
            <a:tbl>
              <a:tblPr/>
              <a:tblGrid>
                <a:gridCol w="733680"/>
                <a:gridCol w="706320"/>
                <a:gridCol w="647640"/>
                <a:gridCol w="720720"/>
              </a:tblGrid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zh-CN" sz="1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093760" y="400428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位操作码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,15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条一地址指令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495760" y="5084640"/>
          <a:ext cx="2821320" cy="820800"/>
        </p:xfrm>
        <a:graphic>
          <a:graphicData uri="http://schemas.openxmlformats.org/drawingml/2006/table">
            <a:tbl>
              <a:tblPr/>
              <a:tblGrid>
                <a:gridCol w="738360"/>
                <a:gridCol w="655560"/>
                <a:gridCol w="714600"/>
                <a:gridCol w="7128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2647800" y="537264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位操作码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7C05-964D-4FED-93A3-A9B0842DE0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6.2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寻址方式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1116000" y="1523880"/>
            <a:ext cx="6732720" cy="3129120"/>
            <a:chOff x="1116000" y="1523880"/>
            <a:chExt cx="6732720" cy="3129120"/>
          </a:xfrm>
        </p:grpSpPr>
        <p:sp>
          <p:nvSpPr>
            <p:cNvPr id="223" name=""/>
            <p:cNvSpPr/>
            <p:nvPr/>
          </p:nvSpPr>
          <p:spPr>
            <a:xfrm>
              <a:off x="5562720" y="3247920"/>
              <a:ext cx="2286000" cy="14050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43000" y="3247920"/>
              <a:ext cx="2286000" cy="14050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>
              <a:hlinkClick r:id="rId3" action="ppaction://hlinksldjump"/>
            </p:cNvPr>
            <p:cNvSpPr/>
            <p:nvPr/>
          </p:nvSpPr>
          <p:spPr>
            <a:xfrm>
              <a:off x="1116000" y="3619440"/>
              <a:ext cx="218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Arial"/>
                  <a:ea typeface="黑体"/>
                  <a:hlinkClick r:id="rId4" action="ppaction://hlinksldjump"/>
                </a:rPr>
                <a:t>一、指令寻址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22720" y="315108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b0d291"/>
                </a:gs>
                <a:gs pos="100000">
                  <a:srgbClr val="85ba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874400" y="315108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d7ea"/>
                </a:gs>
                <a:gs pos="100000">
                  <a:srgbClr val="5086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048120" y="1523880"/>
              <a:ext cx="2998440" cy="1601640"/>
              <a:chOff x="3048120" y="1523880"/>
              <a:chExt cx="2998440" cy="1601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048120" y="1666800"/>
                <a:ext cx="2998440" cy="1458720"/>
                <a:chOff x="3048120" y="1666800"/>
                <a:chExt cx="2998440" cy="14587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080880" y="171324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6405d"/>
                    </a:gs>
                    <a:gs pos="100000">
                      <a:srgbClr val="5086c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048120" y="16668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086c2"/>
                    </a:gs>
                    <a:gs pos="100000">
                      <a:srgbClr val="b0c8e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3189600" y="152388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63e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224520" y="153180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f2d4be"/>
                  </a:gs>
                  <a:gs pos="100000">
                    <a:srgbClr val="de8848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51520" y="154476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de8848">
                      <a:alpha val="48235"/>
                    </a:srgbClr>
                  </a:gs>
                  <a:gs pos="100000">
                    <a:srgbClr val="af6b3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83280" y="157176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de8848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19640" y="1901880"/>
              <a:ext cx="21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寻址方式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10400" y="3543480"/>
              <a:ext cx="203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Arial"/>
                  <a:ea typeface="黑体"/>
                  <a:hlinkClick r:id="rId5" action="ppaction://hlinksldjump"/>
                </a:rPr>
                <a:t>二、数据寻址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314E-E590-48D0-B763-9A69C1B4ED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7600" y="322200"/>
            <a:ext cx="5685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一、指令寻址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</a:rPr>
              <a:t>、顺序寻址方式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控制器中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使用程序计数器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PC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来指示指令在内存中的地址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。在程序顺序执行时，指令的地址码由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PC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自加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得出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指令在内存中按顺序存放，当顺序执行一段程序时，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根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PC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从存储器取出当前指令， 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PC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自动＋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，然后执行这条指令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；接着又根据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PC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指示从存储器取出下一条指令， 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PC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自动＋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， 执行……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</a:rPr>
              <a:t>、跳跃寻址方式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当程序执行转移指令时，程序不再顺序执行，而是跳转到另一个地址去执行，此时，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由该条转移指令的地址码字段可以得到新指令地址，然后将其置入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PC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中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2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9951-5A64-426F-9675-0D878CE06D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二、数据寻址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7643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指令的地址码字段，通常都不代表操作数的真实地址，把它称作形式地址，记为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。操作数的真实地址称为有效地址，记作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E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，它是由寻址方式和形式地址共同来确定的。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124000" y="3068640"/>
          <a:ext cx="3708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068640"/>
                    <a:ext cx="37083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5719-C9DD-4D55-B1B6-CCB99C7569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二、数据寻址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47880" y="330372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5400000">
            <a:off x="4932360" y="354960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5ba54"/>
              </a:gs>
              <a:gs pos="100000">
                <a:srgbClr val="e4ef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6765480" y="1225440"/>
            <a:ext cx="685800" cy="685800"/>
          </a:xfrm>
          <a:prstGeom prst="diamond">
            <a:avLst/>
          </a:prstGeom>
          <a:solidFill>
            <a:srgbClr val="85ba5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8720" y="1328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4213080" y="354960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e8848"/>
              </a:gs>
              <a:gs pos="100000">
                <a:srgbClr val="f7e4d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6046560" y="1225440"/>
            <a:ext cx="685800" cy="685800"/>
          </a:xfrm>
          <a:prstGeom prst="diamond">
            <a:avLst/>
          </a:prstGeom>
          <a:solidFill>
            <a:srgbClr val="de8848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35920" y="136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3492360" y="354960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86c2"/>
              </a:gs>
              <a:gs pos="100000">
                <a:srgbClr val="d9e4f1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5325840" y="1225440"/>
            <a:ext cx="685800" cy="685800"/>
          </a:xfrm>
          <a:prstGeom prst="diamond">
            <a:avLst/>
          </a:prstGeom>
          <a:solidFill>
            <a:srgbClr val="4c59d2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88480" y="2060640"/>
            <a:ext cx="596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Arial"/>
                <a:ea typeface="黑体"/>
                <a:hlinkClick r:id="rId3" action="ppaction://hlinksldjump"/>
              </a:rPr>
              <a:t>基址寻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15200" y="136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5400000">
            <a:off x="2771640" y="354960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b5c4"/>
              </a:gs>
              <a:gs pos="100000">
                <a:srgbClr val="e9eef1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5400000">
            <a:off x="4605120" y="1225440"/>
            <a:ext cx="685800" cy="685800"/>
          </a:xfrm>
          <a:prstGeom prst="diamond">
            <a:avLst/>
          </a:prstGeom>
          <a:solidFill>
            <a:srgbClr val="a0b5c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96200" y="2021040"/>
            <a:ext cx="59652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Arial"/>
                <a:ea typeface="黑体"/>
                <a:hlinkClick r:id="rId4" action="ppaction://hlinksldjump"/>
              </a:rPr>
              <a:t>变址寻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94480" y="136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2052360" y="3539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5ba54"/>
              </a:gs>
              <a:gs pos="100000">
                <a:srgbClr val="e4ef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51280" y="1230480"/>
            <a:ext cx="685800" cy="685800"/>
          </a:xfrm>
          <a:prstGeom prst="diamond">
            <a:avLst/>
          </a:prstGeom>
          <a:solidFill>
            <a:srgbClr val="85ba5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48480" y="1851120"/>
            <a:ext cx="5965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Arial"/>
                <a:ea typeface="黑体"/>
                <a:hlinkClick r:id="rId5" action="ppaction://hlinksldjump"/>
              </a:rPr>
              <a:t>寄存器间接寻址方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03920" y="138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1333440" y="3539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e8848"/>
              </a:gs>
              <a:gs pos="100000">
                <a:srgbClr val="f7e4d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3166560" y="1216080"/>
            <a:ext cx="685800" cy="685800"/>
          </a:xfrm>
          <a:prstGeom prst="diamond">
            <a:avLst/>
          </a:prstGeom>
          <a:solidFill>
            <a:srgbClr val="de8848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54760" y="1916280"/>
            <a:ext cx="5965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Arial"/>
                <a:ea typeface="黑体"/>
                <a:hlinkClick r:id="rId6" action="ppaction://hlinksldjump"/>
              </a:rPr>
              <a:t>寄存器寻址方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356280" y="13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610920" y="3539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86c2"/>
              </a:gs>
              <a:gs pos="100000">
                <a:srgbClr val="d9e4f1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2444400" y="1214280"/>
            <a:ext cx="685800" cy="685800"/>
          </a:xfrm>
          <a:prstGeom prst="diamond">
            <a:avLst/>
          </a:prstGeom>
          <a:solidFill>
            <a:srgbClr val="4c59d2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95880" y="1989000"/>
            <a:ext cx="596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Arial"/>
                <a:ea typeface="黑体"/>
                <a:hlinkClick r:id="rId7" action="ppaction://hlinksldjump"/>
              </a:rPr>
              <a:t>间接寻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34120" y="1357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-107640" y="3539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b5c4"/>
              </a:gs>
              <a:gs pos="100000">
                <a:srgbClr val="e9eef1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5400000">
            <a:off x="1725120" y="1214280"/>
            <a:ext cx="685800" cy="685800"/>
          </a:xfrm>
          <a:prstGeom prst="diamond">
            <a:avLst/>
          </a:prstGeom>
          <a:solidFill>
            <a:srgbClr val="a0b5c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75160" y="1989000"/>
            <a:ext cx="596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Arial"/>
                <a:ea typeface="黑体"/>
                <a:hlinkClick r:id="rId8" action="ppaction://hlinksldjump"/>
              </a:rPr>
              <a:t>直接寻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14840" y="1357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-861840" y="3539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5ba54"/>
              </a:gs>
              <a:gs pos="100000">
                <a:srgbClr val="e4ef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969480" y="1217520"/>
            <a:ext cx="685800" cy="685800"/>
          </a:xfrm>
          <a:prstGeom prst="diamond">
            <a:avLst/>
          </a:prstGeom>
          <a:solidFill>
            <a:srgbClr val="85ba5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22760" y="1989000"/>
            <a:ext cx="596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Arial"/>
                <a:ea typeface="黑体"/>
                <a:hlinkClick r:id="rId9" action="ppaction://hlinksldjump"/>
              </a:rPr>
              <a:t>立即寻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59200" y="13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211640" y="610560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608960" y="3313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 rot="5400000">
            <a:off x="5653080" y="354960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b5c4"/>
              </a:gs>
              <a:gs pos="100000">
                <a:srgbClr val="e9eef1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5400000">
            <a:off x="7486200" y="1224000"/>
            <a:ext cx="685800" cy="685800"/>
          </a:xfrm>
          <a:prstGeom prst="diamond">
            <a:avLst/>
          </a:prstGeom>
          <a:solidFill>
            <a:srgbClr val="a0b5c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24720" y="1366920"/>
            <a:ext cx="5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50640" y="2060640"/>
            <a:ext cx="596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Arial"/>
                <a:ea typeface="黑体"/>
                <a:hlinkClick r:id="rId14" action="ppaction://hlinksldjump"/>
              </a:rPr>
              <a:t>堆栈寻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29920" y="2021040"/>
            <a:ext cx="59652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Arial"/>
                <a:ea typeface="黑体"/>
                <a:hlinkClick r:id="rId15" action="ppaction://hlinksldjump"/>
              </a:rPr>
              <a:t>相对寻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09200" y="2205000"/>
            <a:ext cx="5965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Arial"/>
                <a:ea typeface="黑体"/>
                <a:hlinkClick r:id="rId16" action="ppaction://hlinksldjump"/>
              </a:rPr>
              <a:t>基址变地寻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E056-4186-4CD6-9933-36BC465BC5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821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立即寻址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(Immediate Addressing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操作数在指令的地址码字段，即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黑体"/>
              </a:rPr>
              <a:t>DATA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</a:rPr>
              <a:t>＝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</a:rPr>
              <a:t>A</a:t>
            </a:r>
            <a:endParaRPr b="0" lang="en-US" sz="20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例如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86c2"/>
                </a:solidFill>
                <a:latin typeface="黑体"/>
              </a:rPr>
              <a:t>MOV  AL, 5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86c2"/>
                </a:solidFill>
                <a:latin typeface="黑体"/>
              </a:rPr>
              <a:t>MOV  AX, 3064H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86c2"/>
                </a:solidFill>
                <a:latin typeface="黑体"/>
              </a:rPr>
              <a:t>MOV  AL, ‘A’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2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859280" y="1773360"/>
          <a:ext cx="2808360" cy="15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773360"/>
                    <a:ext cx="280836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9D44-839D-45DC-BC02-CD3A23D427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1880" y="4549680"/>
            <a:ext cx="45417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5ba54"/>
              </a:gs>
              <a:gs pos="100000">
                <a:srgbClr val="e4efd9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第六章 指令系统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"/>
          <p:cNvSpPr/>
          <p:nvPr/>
        </p:nvSpPr>
        <p:spPr>
          <a:xfrm>
            <a:off x="1874880" y="1308240"/>
            <a:ext cx="45417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5ba54"/>
              </a:gs>
              <a:gs pos="100000">
                <a:srgbClr val="e4efd9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1195560"/>
            <a:ext cx="717480" cy="647640"/>
          </a:xfrm>
          <a:prstGeom prst="diamond">
            <a:avLst/>
          </a:prstGeom>
          <a:solidFill>
            <a:srgbClr val="85ba5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74880" y="2112840"/>
            <a:ext cx="45417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e8848"/>
              </a:gs>
              <a:gs pos="100000">
                <a:srgbClr val="f7e4d7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1987560"/>
            <a:ext cx="717480" cy="720720"/>
          </a:xfrm>
          <a:prstGeom prst="diamond">
            <a:avLst/>
          </a:prstGeom>
          <a:solidFill>
            <a:srgbClr val="de8848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74880" y="2867040"/>
            <a:ext cx="45417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86c2"/>
              </a:gs>
              <a:gs pos="100000">
                <a:srgbClr val="d9e4f1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2741760"/>
            <a:ext cx="717480" cy="720720"/>
          </a:xfrm>
          <a:prstGeom prst="diamond">
            <a:avLst/>
          </a:prstGeom>
          <a:solidFill>
            <a:srgbClr val="4c59d2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74880" y="3697200"/>
            <a:ext cx="45417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b5c4"/>
              </a:gs>
              <a:gs pos="100000">
                <a:srgbClr val="e9eef1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3571920"/>
            <a:ext cx="717480" cy="720720"/>
          </a:xfrm>
          <a:prstGeom prst="diamond">
            <a:avLst/>
          </a:prstGeom>
          <a:solidFill>
            <a:srgbClr val="a0b5c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4640" y="375588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9840" y="1314360"/>
            <a:ext cx="358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1" action="ppaction://hlinksldjump"/>
              </a:rPr>
              <a:t>指令格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18120" y="1328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.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14640" y="455436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本章小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14640" y="2147760"/>
            <a:ext cx="358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2" action="ppaction://hlinksldjump"/>
              </a:rPr>
              <a:t>寻址方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18120" y="21589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.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14640" y="292428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指令类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18120" y="29131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.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87880" y="37512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.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03360" y="4437000"/>
            <a:ext cx="717480" cy="647640"/>
          </a:xfrm>
          <a:prstGeom prst="diamond">
            <a:avLst/>
          </a:prstGeom>
          <a:solidFill>
            <a:srgbClr val="85ba5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37670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指令系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81440" y="6237360"/>
            <a:ext cx="719280" cy="26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3CBD-12D9-40F5-AC2E-3F6ADD1E20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．直接寻址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(Direct Addressing)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8232840" cy="27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操作数位于存储器中，操作数所在的存储器单元的地址存放在指令的地址字段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A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中，即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DAT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E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EA=A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2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419640" y="2205000"/>
          <a:ext cx="460836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2205000"/>
                    <a:ext cx="460836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592D-6DC7-497B-86A2-40FE420A72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893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间接寻址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( Indirect Addressing )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8082000" cy="34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操作数位于存储器中，操作数所在的存储器单元地址也存放在存储器中，该存储器地址则存放在指令的地址字段中，即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DAT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E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EA=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即：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A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为操作数地址的地址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916360" y="3141720"/>
          <a:ext cx="5040360" cy="27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141720"/>
                    <a:ext cx="504036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6897-60CC-4C47-9F3B-4E0E0828B1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698920" y="1414800"/>
            <a:ext cx="720720" cy="459720"/>
          </a:xfrm>
          <a:prstGeom prst="rect">
            <a:avLst/>
          </a:prstGeom>
          <a:solidFill>
            <a:srgbClr val="f4f92d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56000" y="90792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指令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38920" y="1052640"/>
            <a:ext cx="936720" cy="360360"/>
          </a:xfrm>
          <a:prstGeom prst="rect">
            <a:avLst/>
          </a:prstGeom>
          <a:solidFill>
            <a:srgbClr val="a0b5c4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38920" y="1484280"/>
            <a:ext cx="936720" cy="360360"/>
          </a:xfrm>
          <a:prstGeom prst="rect">
            <a:avLst/>
          </a:prstGeom>
          <a:solidFill>
            <a:srgbClr val="a0b5c4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938920" y="1916280"/>
            <a:ext cx="936720" cy="360360"/>
          </a:xfrm>
          <a:prstGeom prst="rect">
            <a:avLst/>
          </a:prstGeom>
          <a:solidFill>
            <a:srgbClr val="a0b5c4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40360" y="404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存储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38920" y="2347920"/>
            <a:ext cx="936720" cy="360360"/>
          </a:xfrm>
          <a:prstGeom prst="rect">
            <a:avLst/>
          </a:prstGeom>
          <a:solidFill>
            <a:srgbClr val="a0b5c4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38920" y="2779560"/>
            <a:ext cx="936720" cy="360360"/>
          </a:xfrm>
          <a:prstGeom prst="rect">
            <a:avLst/>
          </a:prstGeom>
          <a:solidFill>
            <a:srgbClr val="a0b5c4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0360" y="3189240"/>
            <a:ext cx="935280" cy="409680"/>
          </a:xfrm>
          <a:prstGeom prst="rect">
            <a:avLst/>
          </a:prstGeom>
          <a:solidFill>
            <a:srgbClr val="a0b5c4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938920" y="3645000"/>
            <a:ext cx="936720" cy="360360"/>
          </a:xfrm>
          <a:prstGeom prst="rect">
            <a:avLst/>
          </a:prstGeom>
          <a:solidFill>
            <a:srgbClr val="a0b5c4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38920" y="4076640"/>
            <a:ext cx="936720" cy="360360"/>
          </a:xfrm>
          <a:prstGeom prst="rect">
            <a:avLst/>
          </a:prstGeom>
          <a:solidFill>
            <a:srgbClr val="a0b5c4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938920" y="4508640"/>
            <a:ext cx="936720" cy="360360"/>
          </a:xfrm>
          <a:prstGeom prst="rect">
            <a:avLst/>
          </a:prstGeom>
          <a:solidFill>
            <a:srgbClr val="a0b5c4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38920" y="4941720"/>
            <a:ext cx="936720" cy="360360"/>
          </a:xfrm>
          <a:prstGeom prst="rect">
            <a:avLst/>
          </a:prstGeom>
          <a:solidFill>
            <a:srgbClr val="a0b5c4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490920" y="1700280"/>
            <a:ext cx="2449440" cy="1440"/>
          </a:xfrm>
          <a:prstGeom prst="line">
            <a:avLst/>
          </a:prstGeom>
          <a:ln cap="sq"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38920" y="1484280"/>
            <a:ext cx="936720" cy="368280"/>
          </a:xfrm>
          <a:prstGeom prst="rect">
            <a:avLst/>
          </a:prstGeom>
          <a:solidFill>
            <a:srgbClr val="a0b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操作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141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直接寻址方式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38920" y="4076640"/>
            <a:ext cx="936720" cy="368280"/>
          </a:xfrm>
          <a:prstGeom prst="rect">
            <a:avLst/>
          </a:prstGeom>
          <a:solidFill>
            <a:srgbClr val="a0b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操作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3141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间接寻址方式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00360" y="3218040"/>
            <a:ext cx="720720" cy="459720"/>
          </a:xfrm>
          <a:prstGeom prst="rect">
            <a:avLst/>
          </a:prstGeom>
          <a:solidFill>
            <a:srgbClr val="f4f92d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56000" y="263700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指令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92360" y="3429000"/>
            <a:ext cx="2448000" cy="0"/>
          </a:xfrm>
          <a:prstGeom prst="line">
            <a:avLst/>
          </a:prstGeom>
          <a:ln cap="sq"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40360" y="3211560"/>
            <a:ext cx="935280" cy="398880"/>
          </a:xfrm>
          <a:prstGeom prst="rect">
            <a:avLst/>
          </a:prstGeom>
          <a:solidFill>
            <a:srgbClr val="a0b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20000" y="3355920"/>
            <a:ext cx="287280" cy="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07280" y="3355920"/>
            <a:ext cx="0" cy="86364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46560" y="4219560"/>
            <a:ext cx="360360" cy="0"/>
          </a:xfrm>
          <a:prstGeom prst="line">
            <a:avLst/>
          </a:prstGeom>
          <a:ln w="28440">
            <a:solidFill>
              <a:srgbClr val="4c59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32360" y="407664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楷体_GB2312"/>
              </a:rPr>
              <a:t>EA</a:t>
            </a: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楷体_GB2312"/>
              </a:rPr>
              <a:t>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D3F2-0B40-4419-A37F-2467871EA2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001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黑体"/>
              </a:rPr>
              <a:t>4</a:t>
            </a:r>
            <a:r>
              <a:rPr b="0" lang="zh-CN" sz="3000" spc="-1" strike="noStrike">
                <a:solidFill>
                  <a:srgbClr val="ffffff"/>
                </a:solidFill>
                <a:latin typeface="黑体"/>
              </a:rPr>
              <a:t>、寄存器寻址方式 </a:t>
            </a:r>
            <a:r>
              <a:rPr b="0" lang="zh-CN" sz="3000" spc="-1" strike="noStrike">
                <a:solidFill>
                  <a:srgbClr val="ffffff"/>
                </a:solidFill>
                <a:latin typeface="黑体"/>
              </a:rPr>
              <a:t>( Register Addressing )</a:t>
            </a:r>
            <a:endParaRPr b="1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823284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操作数位于寄存器中，操作数所在的寄存器编号存放在指令的地址字段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A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中，即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DAT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R</a:t>
            </a:r>
            <a:r>
              <a:rPr b="1" lang="zh-CN" sz="2400" spc="-1" strike="noStrike" baseline="-25000">
                <a:solidFill>
                  <a:srgbClr val="003366"/>
                </a:solidFill>
                <a:latin typeface="黑体"/>
              </a:rPr>
              <a:t>i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MOV  AX, BX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MOV  AL, BH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3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987640" y="2421000"/>
          <a:ext cx="4680000" cy="27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421000"/>
                    <a:ext cx="468000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B12D-12C0-43AE-B7FE-DB019EBF4A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821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寄存器间接寻址方式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77756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操作数位于存储器中，操作数所在的存储器地址存放在寄存器中，而该寄存器编号存放在指令的地址字段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A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中，即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45396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DAT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E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45396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E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R</a:t>
            </a:r>
            <a:r>
              <a:rPr b="1" lang="zh-CN" sz="2400" spc="-1" strike="noStrike" baseline="-25000">
                <a:solidFill>
                  <a:srgbClr val="003366"/>
                </a:solidFill>
                <a:latin typeface="黑体"/>
              </a:rPr>
              <a:t>i 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692360" y="3354480"/>
          <a:ext cx="5616360" cy="24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354480"/>
                    <a:ext cx="561636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AC9A-16A5-4A03-A19B-48F7BB3251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971640" y="522360"/>
            <a:ext cx="5471640" cy="1672200"/>
            <a:chOff x="971640" y="522360"/>
            <a:chExt cx="5471640" cy="1672200"/>
          </a:xfrm>
        </p:grpSpPr>
        <p:sp>
          <p:nvSpPr>
            <p:cNvPr id="345" name=""/>
            <p:cNvSpPr/>
            <p:nvPr/>
          </p:nvSpPr>
          <p:spPr>
            <a:xfrm>
              <a:off x="1547640" y="1384200"/>
              <a:ext cx="1296720" cy="39888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00"/>
                  </a:solidFill>
                  <a:latin typeface="Arial"/>
                  <a:ea typeface="楷体_GB2312"/>
                </a:rPr>
                <a:t>寄存器号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63640" y="1025640"/>
              <a:ext cx="100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00"/>
                  </a:solidFill>
                  <a:latin typeface="Arial"/>
                  <a:ea typeface="楷体_GB2312"/>
                </a:rPr>
                <a:t>指令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9080" y="880920"/>
              <a:ext cx="936360" cy="360360"/>
            </a:xfrm>
            <a:prstGeom prst="rect">
              <a:avLst/>
            </a:prstGeom>
            <a:solidFill>
              <a:srgbClr val="6600cc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29080" y="1312920"/>
              <a:ext cx="936360" cy="360360"/>
            </a:xfrm>
            <a:prstGeom prst="rect">
              <a:avLst/>
            </a:prstGeom>
            <a:solidFill>
              <a:srgbClr val="6600cc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29080" y="1744560"/>
              <a:ext cx="936360" cy="360360"/>
            </a:xfrm>
            <a:prstGeom prst="rect">
              <a:avLst/>
            </a:prstGeom>
            <a:solidFill>
              <a:srgbClr val="6600cc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29080" y="1314360"/>
              <a:ext cx="936360" cy="368280"/>
            </a:xfrm>
            <a:prstGeom prst="rect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操作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44720" y="1600200"/>
              <a:ext cx="1512360" cy="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11640" y="880920"/>
              <a:ext cx="431640" cy="1313640"/>
            </a:xfrm>
            <a:prstGeom prst="rect">
              <a:avLst/>
            </a:prstGeom>
            <a:noFill/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寄存器堆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53080" y="880920"/>
              <a:ext cx="215280" cy="1152720"/>
            </a:xfrm>
            <a:custGeom>
              <a:avLst/>
              <a:gdLst>
                <a:gd name="textAreaLeft" fmla="*/ 0 w 215280"/>
                <a:gd name="textAreaRight" fmla="*/ 77760 w 215280"/>
                <a:gd name="textAreaTop" fmla="*/ 29880 h 1152720"/>
                <a:gd name="textAreaBottom" fmla="*/ 112284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71640" y="522360"/>
              <a:ext cx="27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寄存器寻址方式：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332000" y="2637000"/>
            <a:ext cx="5975280" cy="3351600"/>
            <a:chOff x="1332000" y="2637000"/>
            <a:chExt cx="5975280" cy="3351600"/>
          </a:xfrm>
        </p:grpSpPr>
        <p:sp>
          <p:nvSpPr>
            <p:cNvPr id="356" name=""/>
            <p:cNvSpPr/>
            <p:nvPr/>
          </p:nvSpPr>
          <p:spPr>
            <a:xfrm>
              <a:off x="3419280" y="3286080"/>
              <a:ext cx="71640" cy="129564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76720" y="5250600"/>
              <a:ext cx="790200" cy="39888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00"/>
                  </a:solidFill>
                  <a:latin typeface="Arial"/>
                  <a:ea typeface="楷体_GB2312"/>
                </a:rPr>
                <a:t>寄存器号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32000" y="5589720"/>
              <a:ext cx="100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00"/>
                  </a:solidFill>
                  <a:latin typeface="Arial"/>
                  <a:ea typeface="楷体_GB2312"/>
                </a:rPr>
                <a:t>指令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22560" y="3357720"/>
              <a:ext cx="1728720" cy="360360"/>
            </a:xfrm>
            <a:prstGeom prst="rect">
              <a:avLst/>
            </a:prstGeom>
            <a:solidFill>
              <a:srgbClr val="6600cc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22560" y="3756240"/>
              <a:ext cx="1725840" cy="379080"/>
            </a:xfrm>
            <a:prstGeom prst="rect">
              <a:avLst/>
            </a:prstGeom>
            <a:solidFill>
              <a:srgbClr val="6600cc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22560" y="4221360"/>
              <a:ext cx="1728720" cy="360360"/>
            </a:xfrm>
            <a:prstGeom prst="rect">
              <a:avLst/>
            </a:prstGeom>
            <a:solidFill>
              <a:srgbClr val="6600cc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16000" y="3596040"/>
              <a:ext cx="358920" cy="703800"/>
            </a:xfrm>
            <a:prstGeom prst="rect">
              <a:avLst/>
            </a:prstGeom>
            <a:noFill/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 anchorCtr="1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寄存器堆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24360" y="3789360"/>
              <a:ext cx="1725480" cy="368280"/>
            </a:xfrm>
            <a:prstGeom prst="rect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E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94200" y="3932280"/>
              <a:ext cx="1513080" cy="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706920" y="3933720"/>
              <a:ext cx="0" cy="136872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06920" y="3933720"/>
              <a:ext cx="215640" cy="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32000" y="2637000"/>
              <a:ext cx="33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楷体_GB2312"/>
                </a:rPr>
                <a:t>寄存器间接寻址方式：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378560" y="1125360"/>
            <a:ext cx="1154160" cy="4752720"/>
            <a:chOff x="7378560" y="1125360"/>
            <a:chExt cx="1154160" cy="4752720"/>
          </a:xfrm>
        </p:grpSpPr>
        <p:sp>
          <p:nvSpPr>
            <p:cNvPr id="369" name=""/>
            <p:cNvSpPr/>
            <p:nvPr/>
          </p:nvSpPr>
          <p:spPr>
            <a:xfrm>
              <a:off x="7378560" y="1628640"/>
              <a:ext cx="936720" cy="360360"/>
            </a:xfrm>
            <a:prstGeom prst="rect">
              <a:avLst/>
            </a:prstGeom>
            <a:solidFill>
              <a:srgbClr val="a0b5c4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78560" y="2060280"/>
              <a:ext cx="936720" cy="360360"/>
            </a:xfrm>
            <a:prstGeom prst="rect">
              <a:avLst/>
            </a:prstGeom>
            <a:solidFill>
              <a:srgbClr val="a0b5c4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78560" y="2491920"/>
              <a:ext cx="936720" cy="360360"/>
            </a:xfrm>
            <a:prstGeom prst="rect">
              <a:avLst/>
            </a:prstGeom>
            <a:solidFill>
              <a:srgbClr val="a0b5c4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78560" y="2925360"/>
              <a:ext cx="936720" cy="360360"/>
            </a:xfrm>
            <a:prstGeom prst="rect">
              <a:avLst/>
            </a:prstGeom>
            <a:solidFill>
              <a:srgbClr val="a0b5c4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78560" y="3357360"/>
              <a:ext cx="936720" cy="360360"/>
            </a:xfrm>
            <a:prstGeom prst="rect">
              <a:avLst/>
            </a:prstGeom>
            <a:solidFill>
              <a:srgbClr val="a0b5c4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78560" y="3789000"/>
              <a:ext cx="936720" cy="360360"/>
            </a:xfrm>
            <a:prstGeom prst="rect">
              <a:avLst/>
            </a:prstGeom>
            <a:solidFill>
              <a:srgbClr val="a0b5c4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78560" y="4221000"/>
              <a:ext cx="936720" cy="360360"/>
            </a:xfrm>
            <a:prstGeom prst="rect">
              <a:avLst/>
            </a:prstGeom>
            <a:solidFill>
              <a:srgbClr val="a0b5c4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78560" y="4654080"/>
              <a:ext cx="936720" cy="360360"/>
            </a:xfrm>
            <a:prstGeom prst="rect">
              <a:avLst/>
            </a:prstGeom>
            <a:solidFill>
              <a:srgbClr val="a0b5c4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78560" y="378900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操作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378560" y="5084640"/>
              <a:ext cx="936720" cy="360360"/>
            </a:xfrm>
            <a:prstGeom prst="rect">
              <a:avLst/>
            </a:prstGeom>
            <a:solidFill>
              <a:srgbClr val="a0b5c4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78560" y="5517720"/>
              <a:ext cx="936720" cy="360360"/>
            </a:xfrm>
            <a:prstGeom prst="rect">
              <a:avLst/>
            </a:prstGeom>
            <a:solidFill>
              <a:srgbClr val="a0b5c4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51640" y="1125360"/>
              <a:ext cx="10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存储器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3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32360" y="5877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4D81-282D-44DF-9237-50572FCD9F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4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001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变址寻址（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Indexed Addressing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77151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操作数位于存储器中，操作数所在的存储器地址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EA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由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变址寄存器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RI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和指令的地址字段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A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指出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DAT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E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E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RI</a:t>
            </a:r>
            <a:r>
              <a:rPr b="1" lang="zh-CN" sz="2400" spc="-1" strike="noStrike" baseline="-25000">
                <a:solidFill>
                  <a:srgbClr val="003366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＋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3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826920" y="2781360"/>
          <a:ext cx="691380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781360"/>
                    <a:ext cx="691380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B71C-AB6A-4672-B3E3-C5FEA9D548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基址寻址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( Based Addressing )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77151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操作数位于存储器中，操作数所在的存储器地址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EA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由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基址寄存器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Rb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和指令的地址字段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A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指出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DAT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E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E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Rb</a:t>
            </a:r>
            <a:r>
              <a:rPr b="1" lang="zh-CN" sz="2400" spc="-1" strike="noStrike" baseline="-25000">
                <a:solidFill>
                  <a:srgbClr val="003366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＋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3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684360" y="2708280"/>
          <a:ext cx="6767280" cy="27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708280"/>
                    <a:ext cx="676728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33B6-DE5D-422D-B748-83E98F6024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、基址变址寻址 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187280" y="1527120"/>
          <a:ext cx="6193080" cy="30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27120"/>
                    <a:ext cx="619308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2EF9-60E1-4AE4-AC3C-A64C77394F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821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相对寻址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( Relative Addressing )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77151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操作数位于存储器中，操作数所在的存储器地址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EA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由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程序计数器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PC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和指令的地址字段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A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指出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DAT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E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E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PC</a:t>
            </a:r>
            <a:r>
              <a:rPr b="1" lang="zh-CN" sz="2400" spc="-1" strike="noStrike" baseline="-25000">
                <a:solidFill>
                  <a:srgbClr val="003366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＋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通常称作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</a:rPr>
              <a:t>相对偏移量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</a:rPr>
              <a:t>DISP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相对寻址主要用于转移指令，执行之后，程序将转移到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</a:rPr>
              <a:t>（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</a:rPr>
              <a:t>PC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</a:rPr>
              <a:t>）＋偏移量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为地址的指令去执行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</a:rPr>
              <a:t>偏移量可正、可负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，通常用补码表示，即可相对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PC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值向后或向前转移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4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DC91-BAE8-4209-BB92-93E994FF98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6.1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指令格式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368960" y="5950080"/>
            <a:ext cx="419040" cy="4190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1143000" y="1523880"/>
            <a:ext cx="6705720" cy="3129120"/>
            <a:chOff x="1143000" y="1523880"/>
            <a:chExt cx="6705720" cy="3129120"/>
          </a:xfrm>
        </p:grpSpPr>
        <p:sp>
          <p:nvSpPr>
            <p:cNvPr id="132" name=""/>
            <p:cNvSpPr/>
            <p:nvPr/>
          </p:nvSpPr>
          <p:spPr>
            <a:xfrm>
              <a:off x="5562720" y="3247920"/>
              <a:ext cx="2286000" cy="14050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43000" y="3247920"/>
              <a:ext cx="2286000" cy="14050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38400" y="3448080"/>
              <a:ext cx="203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Arial"/>
                  <a:ea typeface="黑体"/>
                  <a:hlinkClick r:id="rId3" action="ppaction://hlinksldjump"/>
                </a:rPr>
                <a:t>一、指令操作码与地址码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22720" y="315108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b0d291"/>
                </a:gs>
                <a:gs pos="100000">
                  <a:srgbClr val="85ba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874400" y="315108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d7ea"/>
                </a:gs>
                <a:gs pos="100000">
                  <a:srgbClr val="5086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048120" y="1523880"/>
              <a:ext cx="2998440" cy="1601640"/>
              <a:chOff x="3048120" y="1523880"/>
              <a:chExt cx="2998440" cy="160164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3048120" y="1666800"/>
                <a:ext cx="2998440" cy="1458720"/>
                <a:chOff x="3048120" y="1666800"/>
                <a:chExt cx="2998440" cy="14587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080880" y="171324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6405d"/>
                    </a:gs>
                    <a:gs pos="100000">
                      <a:srgbClr val="5086c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8120" y="16668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086c2"/>
                    </a:gs>
                    <a:gs pos="100000">
                      <a:srgbClr val="b0c8e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3189600" y="152388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63e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24520" y="153180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f2d4be"/>
                  </a:gs>
                  <a:gs pos="100000">
                    <a:srgbClr val="de8848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51520" y="154476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de8848">
                      <a:alpha val="48235"/>
                    </a:srgbClr>
                  </a:gs>
                  <a:gs pos="100000">
                    <a:srgbClr val="af6b3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383280" y="157176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de8848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4058640" y="1892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指令格式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10400" y="3429000"/>
              <a:ext cx="203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黑体"/>
                  <a:ea typeface="黑体"/>
                  <a:hlinkClick r:id="rId4" action="ppaction://hlinksldjump"/>
                </a:rPr>
                <a:t>二、指令字长和操作码扩展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D876-BC92-4FFD-9547-1DE2D5AC66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2453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堆栈寻址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( Stack Addressing )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操作数位于存储器中，操作数所在的存储器地址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EA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由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堆栈指针寄存器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SP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隐含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指出，通常用于堆栈指令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堆栈是由若干个连续主存单元组成的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先进后出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first in last out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即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FILO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存储区，第一个放入堆栈的数据存放在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栈底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最近放入的数据存放在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栈顶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。栈底是固定不变的，而栈顶是随着数据的入栈和出栈在时刻变化。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栈顶的地址由堆栈指针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SP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指明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一般计算机中，堆栈从高地址向低地址扩展，即栈底的地址总是大于或等于栈顶的地址，称为</a:t>
            </a:r>
            <a:r>
              <a:rPr b="0" lang="zh-CN" sz="2400" spc="-1" strike="noStrike">
                <a:solidFill>
                  <a:srgbClr val="cc3300"/>
                </a:solidFill>
                <a:latin typeface="黑体"/>
              </a:rPr>
              <a:t>上推堆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；也有少数计算机相反，称为下推堆栈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堆栈寻址主要用来暂存中断和子程序调用时现场数据及返回地址。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D19A-F3C7-460C-BE51-959DBBDF47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5796000" y="404640"/>
            <a:ext cx="3009960" cy="6193080"/>
            <a:chOff x="5796000" y="404640"/>
            <a:chExt cx="3009960" cy="6193080"/>
          </a:xfrm>
        </p:grpSpPr>
        <p:sp>
          <p:nvSpPr>
            <p:cNvPr id="405" name=""/>
            <p:cNvSpPr/>
            <p:nvPr/>
          </p:nvSpPr>
          <p:spPr>
            <a:xfrm>
              <a:off x="7164720" y="1052280"/>
              <a:ext cx="936360" cy="360360"/>
            </a:xfrm>
            <a:prstGeom prst="rect">
              <a:avLst/>
            </a:prstGeom>
            <a:solidFill>
              <a:srgbClr val="a0b5c4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64720" y="1484280"/>
              <a:ext cx="936360" cy="360360"/>
            </a:xfrm>
            <a:prstGeom prst="rect">
              <a:avLst/>
            </a:prstGeom>
            <a:solidFill>
              <a:srgbClr val="a0b5c4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164720" y="1915920"/>
              <a:ext cx="936360" cy="360360"/>
            </a:xfrm>
            <a:prstGeom prst="rect">
              <a:avLst/>
            </a:prstGeom>
            <a:solidFill>
              <a:srgbClr val="a0b5c4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64720" y="2347920"/>
              <a:ext cx="936360" cy="36036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64720" y="2779560"/>
              <a:ext cx="936360" cy="36036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64720" y="3211560"/>
              <a:ext cx="936360" cy="36036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64720" y="3644640"/>
              <a:ext cx="936360" cy="36036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64720" y="4076640"/>
              <a:ext cx="936360" cy="36036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64720" y="4508280"/>
              <a:ext cx="936360" cy="36036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64720" y="4940280"/>
              <a:ext cx="936360" cy="36036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64720" y="5373720"/>
              <a:ext cx="936360" cy="360360"/>
            </a:xfrm>
            <a:prstGeom prst="rect">
              <a:avLst/>
            </a:prstGeom>
            <a:solidFill>
              <a:srgbClr val="a0b5c4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04360" y="40464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存储器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64720" y="5803920"/>
              <a:ext cx="936360" cy="360360"/>
            </a:xfrm>
            <a:prstGeom prst="rect">
              <a:avLst/>
            </a:prstGeom>
            <a:solidFill>
              <a:srgbClr val="a0b5c4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164720" y="6237360"/>
              <a:ext cx="936360" cy="360360"/>
            </a:xfrm>
            <a:prstGeom prst="rect">
              <a:avLst/>
            </a:prstGeom>
            <a:solidFill>
              <a:srgbClr val="a0b5c4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7080" y="2349360"/>
              <a:ext cx="71640" cy="27367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71280 h 2736720"/>
                <a:gd name="textAreaBottom" fmla="*/ 2665440 h 27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solidFill>
              <a:srgbClr val="ffff00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15760" y="3429000"/>
              <a:ext cx="79020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00"/>
                  </a:solidFill>
                  <a:latin typeface="Arial"/>
                  <a:ea typeface="楷体_GB2312"/>
                </a:rPr>
                <a:t>堆栈段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72360" y="494172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00"/>
                  </a:solidFill>
                  <a:latin typeface="Arial"/>
                  <a:ea typeface="楷体_GB2312"/>
                </a:rPr>
                <a:t>栈底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88360" y="3286080"/>
              <a:ext cx="576360" cy="0"/>
            </a:xfrm>
            <a:prstGeom prst="line">
              <a:avLst/>
            </a:prstGeom>
            <a:ln cap="sq"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96000" y="3213000"/>
              <a:ext cx="720720" cy="398880"/>
            </a:xfrm>
            <a:prstGeom prst="rect">
              <a:avLst/>
            </a:prstGeom>
            <a:solidFill>
              <a:srgbClr val="ff6600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"/>
                  <a:ea typeface="楷体_GB2312"/>
                </a:rPr>
                <a:t>SP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88360" y="3357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00"/>
                  </a:solidFill>
                  <a:latin typeface="Arial"/>
                  <a:ea typeface="楷体_GB2312"/>
                </a:rPr>
                <a:t>栈顶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堆栈的结构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5256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堆栈的操作：</a:t>
            </a:r>
            <a:r>
              <a:rPr b="0" lang="zh-CN" sz="2400" spc="-1" strike="noStrike">
                <a:solidFill>
                  <a:srgbClr val="cc3300"/>
                </a:solidFill>
                <a:latin typeface="黑体"/>
              </a:rPr>
              <a:t>压入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（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PUSH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）和</a:t>
            </a:r>
            <a:r>
              <a:rPr b="0" lang="zh-CN" sz="2400" spc="-1" strike="noStrike">
                <a:solidFill>
                  <a:srgbClr val="cc3300"/>
                </a:solidFill>
                <a:latin typeface="黑体"/>
              </a:rPr>
              <a:t>弹出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（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POP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），对应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PUSH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和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POP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指令，假设数据字长为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1B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533520" indent="-17172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压入指令 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PUSH Ri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：将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Ri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寄存器内容压入堆栈。其操作是：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2" marL="808200" indent="-92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（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SP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）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-1→(SP),(Ri) →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（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(SP)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533520" indent="-17172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弹出指令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POP Ri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：从堆栈中弹出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个数据送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Ri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寄存器，其操作是：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2" marL="808200" indent="-92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((SP)) →(Ri)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，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(SP)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＋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1→(SP)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533520" indent="-17172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其中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(SP)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表示堆栈指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SP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的内容；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((SP))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表示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SP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所指的栈顶的内容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4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36C2-74B9-4D39-94E6-B1D1DE1573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6.3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指令类型 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77151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． 数据传送指令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包括寄存器与寄存器、寄存器与存储单元、存储单元与存储单元之间的传送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．算术逻辑运算指令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实现算术运算（加、减、乘、除等）和逻辑运算（与、或、非、异或）。有些计算机还设置有位操作指令，如位测试（测试指定位的值）、位清零、位求反指令等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． 移位操作指令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可分为算术移位、逻辑移位和循环移位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F50F-6AE8-455D-B185-B4A9132A6F5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1563840" y="404640"/>
            <a:ext cx="4992480" cy="1009440"/>
            <a:chOff x="1563840" y="404640"/>
            <a:chExt cx="4992480" cy="1009440"/>
          </a:xfrm>
        </p:grpSpPr>
        <p:sp>
          <p:nvSpPr>
            <p:cNvPr id="431" name=""/>
            <p:cNvSpPr/>
            <p:nvPr/>
          </p:nvSpPr>
          <p:spPr>
            <a:xfrm>
              <a:off x="1763640" y="404640"/>
              <a:ext cx="47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逻辑左移、算术左移</a:t>
              </a:r>
              <a:r>
                <a:rPr b="0" lang="zh-CN" sz="1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1563840" y="954360"/>
              <a:ext cx="4952880" cy="459720"/>
              <a:chOff x="1563840" y="954360"/>
              <a:chExt cx="4952880" cy="45972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2325600" y="955440"/>
                <a:ext cx="3733920" cy="381240"/>
                <a:chOff x="2325600" y="955440"/>
                <a:chExt cx="3733920" cy="3812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240000" y="955440"/>
                  <a:ext cx="2590920" cy="381240"/>
                </a:xfrm>
                <a:prstGeom prst="rect">
                  <a:avLst/>
                </a:prstGeom>
                <a:solidFill>
                  <a:srgbClr val="de8848"/>
                </a:solidFill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325600" y="955440"/>
                  <a:ext cx="457200" cy="381240"/>
                </a:xfrm>
                <a:prstGeom prst="rect">
                  <a:avLst/>
                </a:prstGeom>
                <a:solidFill>
                  <a:srgbClr val="de8848"/>
                </a:solidFill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240000" y="955440"/>
                  <a:ext cx="457200" cy="381240"/>
                </a:xfrm>
                <a:prstGeom prst="rect">
                  <a:avLst/>
                </a:prstGeom>
                <a:solidFill>
                  <a:srgbClr val="de8848"/>
                </a:solidFill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>
                  <a:off x="2554200" y="1145880"/>
                  <a:ext cx="914400" cy="0"/>
                </a:xfrm>
                <a:prstGeom prst="line">
                  <a:avLst/>
                </a:prstGeom>
                <a:ln cap="sq"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373720" y="955440"/>
                  <a:ext cx="457200" cy="381240"/>
                </a:xfrm>
                <a:prstGeom prst="rect">
                  <a:avLst/>
                </a:prstGeom>
                <a:solidFill>
                  <a:srgbClr val="de8848"/>
                </a:solidFill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>
                  <a:off x="5602320" y="1145880"/>
                  <a:ext cx="457200" cy="0"/>
                </a:xfrm>
                <a:prstGeom prst="line">
                  <a:avLst/>
                </a:prstGeom>
                <a:ln cap="sq"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>
                  <a:off x="3849840" y="1145880"/>
                  <a:ext cx="1371600" cy="0"/>
                </a:xfrm>
                <a:prstGeom prst="line">
                  <a:avLst/>
                </a:prstGeom>
                <a:ln cap="sq"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1563840" y="954360"/>
                <a:ext cx="495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   </a:t>
                </a:r>
                <a:r>
                  <a:rPr b="1" lang="zh-CN" sz="2000" spc="-1" strike="noStrike">
                    <a:solidFill>
                      <a:srgbClr val="4c59d2"/>
                    </a:solidFill>
                    <a:latin typeface="Times New Roman"/>
                  </a:rPr>
                  <a:t>CF                                                              0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324000" y="1524600"/>
            <a:ext cx="4343400" cy="3751560"/>
            <a:chOff x="324000" y="1524600"/>
            <a:chExt cx="4343400" cy="3751560"/>
          </a:xfrm>
        </p:grpSpPr>
        <p:sp>
          <p:nvSpPr>
            <p:cNvPr id="443" name=""/>
            <p:cNvSpPr/>
            <p:nvPr/>
          </p:nvSpPr>
          <p:spPr>
            <a:xfrm>
              <a:off x="1138320" y="26668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086c2"/>
                  </a:solidFill>
                  <a:latin typeface="楷体_GB2312"/>
                  <a:ea typeface="楷体_GB2312"/>
                </a:rPr>
                <a:t>循环左移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324000" y="1524600"/>
              <a:ext cx="4343400" cy="3751560"/>
              <a:chOff x="324000" y="1524600"/>
              <a:chExt cx="4343400" cy="3751560"/>
            </a:xfrm>
          </p:grpSpPr>
          <p:sp>
            <p:nvSpPr>
              <p:cNvPr id="445" name=""/>
              <p:cNvSpPr/>
              <p:nvPr/>
            </p:nvSpPr>
            <p:spPr>
              <a:xfrm>
                <a:off x="324000" y="1524600"/>
                <a:ext cx="609480" cy="37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c59d2"/>
                    </a:solidFill>
                    <a:latin typeface="Times New Roman"/>
                  </a:rPr>
                  <a:t>CF</a:t>
                </a:r>
                <a:r>
                  <a:rPr b="1" lang="en-US" sz="2000" spc="-1" strike="noStrike">
                    <a:solidFill>
                      <a:srgbClr val="5086c2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                                                   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933480" y="3171600"/>
                <a:ext cx="3733920" cy="609840"/>
                <a:chOff x="933480" y="3171600"/>
                <a:chExt cx="3733920" cy="60984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933480" y="3171600"/>
                  <a:ext cx="3733920" cy="406440"/>
                  <a:chOff x="933480" y="3171600"/>
                  <a:chExt cx="3733920" cy="40644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1847880" y="3171600"/>
                    <a:ext cx="2590920" cy="406440"/>
                  </a:xfrm>
                  <a:prstGeom prst="rect">
                    <a:avLst/>
                  </a:prstGeom>
                  <a:solidFill>
                    <a:srgbClr val="de8848"/>
                  </a:solidFill>
                  <a:ln cap="sq"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933480" y="3171600"/>
                    <a:ext cx="457200" cy="406440"/>
                  </a:xfrm>
                  <a:prstGeom prst="rect">
                    <a:avLst/>
                  </a:prstGeom>
                  <a:solidFill>
                    <a:srgbClr val="de8848"/>
                  </a:solidFill>
                  <a:ln cap="sq"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847880" y="3171600"/>
                    <a:ext cx="457200" cy="406440"/>
                  </a:xfrm>
                  <a:prstGeom prst="rect">
                    <a:avLst/>
                  </a:prstGeom>
                  <a:solidFill>
                    <a:srgbClr val="de8848"/>
                  </a:solidFill>
                  <a:ln cap="sq"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>
                    <a:off x="1162080" y="3374640"/>
                    <a:ext cx="914400" cy="0"/>
                  </a:xfrm>
                  <a:prstGeom prst="line">
                    <a:avLst/>
                  </a:prstGeom>
                  <a:ln cap="sq" w="12600">
                    <a:solidFill>
                      <a:srgbClr val="0033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981600" y="3171600"/>
                    <a:ext cx="457200" cy="406440"/>
                  </a:xfrm>
                  <a:prstGeom prst="rect">
                    <a:avLst/>
                  </a:prstGeom>
                  <a:solidFill>
                    <a:srgbClr val="de8848"/>
                  </a:solidFill>
                  <a:ln cap="sq"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>
                    <a:off x="4210200" y="3374640"/>
                    <a:ext cx="457200" cy="0"/>
                  </a:xfrm>
                  <a:prstGeom prst="line">
                    <a:avLst/>
                  </a:prstGeom>
                  <a:ln cap="sq" w="12600">
                    <a:solidFill>
                      <a:srgbClr val="0033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>
                    <a:off x="2457720" y="3374640"/>
                    <a:ext cx="1371600" cy="0"/>
                  </a:xfrm>
                  <a:prstGeom prst="line">
                    <a:avLst/>
                  </a:prstGeom>
                  <a:ln cap="sq" w="12600">
                    <a:solidFill>
                      <a:srgbClr val="0033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5" name=""/>
                <p:cNvSpPr/>
                <p:nvPr/>
              </p:nvSpPr>
              <p:spPr>
                <a:xfrm>
                  <a:off x="1619280" y="3374640"/>
                  <a:ext cx="0" cy="406440"/>
                </a:xfrm>
                <a:prstGeom prst="line">
                  <a:avLst/>
                </a:prstGeom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619280" y="3781440"/>
                  <a:ext cx="3048120" cy="0"/>
                </a:xfrm>
                <a:prstGeom prst="line">
                  <a:avLst/>
                </a:prstGeom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V="1">
                  <a:off x="4667400" y="3374280"/>
                  <a:ext cx="0" cy="406440"/>
                </a:xfrm>
                <a:prstGeom prst="line">
                  <a:avLst/>
                </a:prstGeom>
                <a:ln cap="sq"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8" name=""/>
          <p:cNvGrpSpPr/>
          <p:nvPr/>
        </p:nvGrpSpPr>
        <p:grpSpPr>
          <a:xfrm>
            <a:off x="4642920" y="3243240"/>
            <a:ext cx="3962520" cy="1262160"/>
            <a:chOff x="4642920" y="3243240"/>
            <a:chExt cx="3962520" cy="1262160"/>
          </a:xfrm>
        </p:grpSpPr>
        <p:grpSp>
          <p:nvGrpSpPr>
            <p:cNvPr id="459" name=""/>
            <p:cNvGrpSpPr/>
            <p:nvPr/>
          </p:nvGrpSpPr>
          <p:grpSpPr>
            <a:xfrm>
              <a:off x="4642920" y="3819600"/>
              <a:ext cx="3962520" cy="685800"/>
              <a:chOff x="4642920" y="3819600"/>
              <a:chExt cx="3962520" cy="68580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4871520" y="3819600"/>
                <a:ext cx="3732840" cy="411120"/>
                <a:chOff x="4871520" y="3819600"/>
                <a:chExt cx="3732840" cy="4111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785560" y="3819600"/>
                  <a:ext cx="2590560" cy="411120"/>
                </a:xfrm>
                <a:prstGeom prst="rect">
                  <a:avLst/>
                </a:prstGeom>
                <a:solidFill>
                  <a:srgbClr val="de8848"/>
                </a:solidFill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871520" y="3819600"/>
                  <a:ext cx="456840" cy="411120"/>
                </a:xfrm>
                <a:prstGeom prst="rect">
                  <a:avLst/>
                </a:prstGeom>
                <a:solidFill>
                  <a:srgbClr val="de8848"/>
                </a:solidFill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785560" y="3819600"/>
                  <a:ext cx="456840" cy="411120"/>
                </a:xfrm>
                <a:prstGeom prst="rect">
                  <a:avLst/>
                </a:prstGeom>
                <a:solidFill>
                  <a:srgbClr val="de8848"/>
                </a:solidFill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5099400" y="4025160"/>
                  <a:ext cx="914040" cy="0"/>
                </a:xfrm>
                <a:prstGeom prst="line">
                  <a:avLst/>
                </a:prstGeom>
                <a:ln cap="sq"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919280" y="3819600"/>
                  <a:ext cx="456840" cy="411120"/>
                </a:xfrm>
                <a:prstGeom prst="rect">
                  <a:avLst/>
                </a:prstGeom>
                <a:solidFill>
                  <a:srgbClr val="de8848"/>
                </a:solidFill>
                <a:ln cap="sq"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8147520" y="4025160"/>
                  <a:ext cx="456840" cy="0"/>
                </a:xfrm>
                <a:prstGeom prst="line">
                  <a:avLst/>
                </a:prstGeom>
                <a:ln cap="sq"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6395040" y="4025160"/>
                  <a:ext cx="1371240" cy="0"/>
                </a:xfrm>
                <a:prstGeom prst="line">
                  <a:avLst/>
                </a:prstGeom>
                <a:ln cap="sq"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 flipH="1">
                <a:off x="4642920" y="4025880"/>
                <a:ext cx="380520" cy="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43280" y="4025880"/>
                <a:ext cx="0" cy="47952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43280" y="4505400"/>
                <a:ext cx="3962160" cy="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8605440" y="4025880"/>
                <a:ext cx="0" cy="47952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5220000" y="4107600"/>
              <a:ext cx="60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4c59d2"/>
                  </a:solidFill>
                  <a:latin typeface="Times New Roman"/>
                </a:rPr>
                <a:t> </a:t>
              </a:r>
              <a:r>
                <a:rPr b="1" lang="zh-CN" sz="1800" spc="-1" strike="noStrike">
                  <a:solidFill>
                    <a:srgbClr val="4c59d2"/>
                  </a:solidFill>
                  <a:latin typeface="Times New Roman"/>
                </a:rPr>
                <a:t>CF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03640" y="324324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086c2"/>
                  </a:solidFill>
                  <a:latin typeface="楷体_GB2312"/>
                  <a:ea typeface="楷体_GB2312"/>
                </a:rPr>
                <a:t>带进位循环左移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932360" y="1442880"/>
            <a:ext cx="3776400" cy="1250280"/>
            <a:chOff x="4932360" y="1442880"/>
            <a:chExt cx="3776400" cy="1250280"/>
          </a:xfrm>
        </p:grpSpPr>
        <p:sp>
          <p:nvSpPr>
            <p:cNvPr id="475" name=""/>
            <p:cNvSpPr/>
            <p:nvPr/>
          </p:nvSpPr>
          <p:spPr>
            <a:xfrm>
              <a:off x="8113680" y="2294280"/>
              <a:ext cx="59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c59d2"/>
                  </a:solidFill>
                  <a:latin typeface="Times New Roman"/>
                </a:rPr>
                <a:t>CF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41760" y="1952280"/>
              <a:ext cx="2249640" cy="397080"/>
            </a:xfrm>
            <a:prstGeom prst="rect">
              <a:avLst/>
            </a:prstGeom>
            <a:solidFill>
              <a:srgbClr val="de8848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08720" y="1952280"/>
              <a:ext cx="397080" cy="397080"/>
            </a:xfrm>
            <a:prstGeom prst="rect">
              <a:avLst/>
            </a:prstGeom>
            <a:solidFill>
              <a:srgbClr val="de8848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60960" y="1952280"/>
              <a:ext cx="396720" cy="397080"/>
            </a:xfrm>
            <a:prstGeom prst="rect">
              <a:avLst/>
            </a:prstGeom>
            <a:solidFill>
              <a:srgbClr val="de8848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94320" y="1952280"/>
              <a:ext cx="397080" cy="397080"/>
            </a:xfrm>
            <a:prstGeom prst="rect">
              <a:avLst/>
            </a:prstGeom>
            <a:solidFill>
              <a:srgbClr val="de8848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932360" y="2150280"/>
              <a:ext cx="396720" cy="1800"/>
            </a:xfrm>
            <a:prstGeom prst="line">
              <a:avLst/>
            </a:prstGeom>
            <a:ln cap="sq"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5890320" y="2150280"/>
              <a:ext cx="1190520" cy="1800"/>
            </a:xfrm>
            <a:prstGeom prst="line">
              <a:avLst/>
            </a:prstGeom>
            <a:ln cap="sq"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32360" y="2558880"/>
              <a:ext cx="396720" cy="1440"/>
            </a:xfrm>
            <a:prstGeom prst="line">
              <a:avLst/>
            </a:prstGeom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5329080" y="2221920"/>
              <a:ext cx="0" cy="336600"/>
            </a:xfrm>
            <a:prstGeom prst="line">
              <a:avLst/>
            </a:prstGeom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582680" y="2150280"/>
              <a:ext cx="793800" cy="1800"/>
            </a:xfrm>
            <a:prstGeom prst="line">
              <a:avLst/>
            </a:prstGeom>
            <a:ln cap="sq"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808600" y="144288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086c2"/>
                  </a:solidFill>
                  <a:latin typeface="楷体_GB2312"/>
                  <a:ea typeface="楷体_GB2312"/>
                </a:rPr>
                <a:t>算术右移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08000" y="1442880"/>
            <a:ext cx="4824360" cy="1094040"/>
            <a:chOff x="108000" y="1442880"/>
            <a:chExt cx="4824360" cy="1094040"/>
          </a:xfrm>
        </p:grpSpPr>
        <p:sp>
          <p:nvSpPr>
            <p:cNvPr id="487" name=""/>
            <p:cNvSpPr/>
            <p:nvPr/>
          </p:nvSpPr>
          <p:spPr>
            <a:xfrm>
              <a:off x="717480" y="1982880"/>
              <a:ext cx="2590920" cy="380880"/>
            </a:xfrm>
            <a:prstGeom prst="rect">
              <a:avLst/>
            </a:prstGeom>
            <a:solidFill>
              <a:srgbClr val="de8848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65600" y="1982880"/>
              <a:ext cx="457200" cy="380880"/>
            </a:xfrm>
            <a:prstGeom prst="rect">
              <a:avLst/>
            </a:prstGeom>
            <a:solidFill>
              <a:srgbClr val="de8848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17480" y="1982880"/>
              <a:ext cx="457200" cy="380880"/>
            </a:xfrm>
            <a:prstGeom prst="rect">
              <a:avLst/>
            </a:prstGeom>
            <a:solidFill>
              <a:srgbClr val="de8848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851200" y="1982880"/>
              <a:ext cx="457200" cy="380880"/>
            </a:xfrm>
            <a:prstGeom prst="rect">
              <a:avLst/>
            </a:prstGeom>
            <a:solidFill>
              <a:srgbClr val="de8848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1327320" y="2173320"/>
              <a:ext cx="1371600" cy="1440"/>
            </a:xfrm>
            <a:prstGeom prst="line">
              <a:avLst/>
            </a:prstGeom>
            <a:ln cap="sq"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000" y="19818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4c59d2"/>
                  </a:solidFill>
                  <a:latin typeface="Times New Roman"/>
                </a:rPr>
                <a:t>0                                                              CF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932360" y="2112840"/>
              <a:ext cx="0" cy="424080"/>
            </a:xfrm>
            <a:prstGeom prst="line">
              <a:avLst/>
            </a:prstGeom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079800" y="2173320"/>
              <a:ext cx="914400" cy="1440"/>
            </a:xfrm>
            <a:prstGeom prst="line">
              <a:avLst/>
            </a:prstGeom>
            <a:ln cap="sq"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88880" y="2173320"/>
              <a:ext cx="457200" cy="1440"/>
            </a:xfrm>
            <a:prstGeom prst="line">
              <a:avLst/>
            </a:prstGeom>
            <a:ln cap="sq"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00000" y="1442880"/>
              <a:ext cx="21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086c2"/>
                  </a:solidFill>
                  <a:latin typeface="Arial"/>
                  <a:ea typeface="楷体_GB2312"/>
                </a:rPr>
                <a:t>逻辑右移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394560" y="4251240"/>
            <a:ext cx="4419720" cy="1125360"/>
            <a:chOff x="394560" y="4251240"/>
            <a:chExt cx="4419720" cy="1125360"/>
          </a:xfrm>
        </p:grpSpPr>
        <p:grpSp>
          <p:nvGrpSpPr>
            <p:cNvPr id="498" name=""/>
            <p:cNvGrpSpPr/>
            <p:nvPr/>
          </p:nvGrpSpPr>
          <p:grpSpPr>
            <a:xfrm>
              <a:off x="394560" y="4767120"/>
              <a:ext cx="4419720" cy="609480"/>
              <a:chOff x="394560" y="4767120"/>
              <a:chExt cx="4419720" cy="609480"/>
            </a:xfrm>
          </p:grpSpPr>
          <p:sp>
            <p:nvSpPr>
              <p:cNvPr id="499" name=""/>
              <p:cNvSpPr/>
              <p:nvPr/>
            </p:nvSpPr>
            <p:spPr>
              <a:xfrm>
                <a:off x="623520" y="4767120"/>
                <a:ext cx="2590560" cy="398160"/>
              </a:xfrm>
              <a:prstGeom prst="rect">
                <a:avLst/>
              </a:prstGeom>
              <a:solidFill>
                <a:srgbClr val="de8848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671640" y="4767120"/>
                <a:ext cx="456840" cy="398160"/>
              </a:xfrm>
              <a:prstGeom prst="rect">
                <a:avLst/>
              </a:prstGeom>
              <a:solidFill>
                <a:srgbClr val="de8848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23520" y="4767120"/>
                <a:ext cx="456840" cy="398160"/>
              </a:xfrm>
              <a:prstGeom prst="rect">
                <a:avLst/>
              </a:prstGeom>
              <a:solidFill>
                <a:srgbClr val="de8848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757240" y="4767120"/>
                <a:ext cx="456840" cy="398160"/>
              </a:xfrm>
              <a:prstGeom prst="rect">
                <a:avLst/>
              </a:prstGeom>
              <a:solidFill>
                <a:srgbClr val="de8848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94560" y="4965480"/>
                <a:ext cx="456840" cy="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32280" y="4965480"/>
                <a:ext cx="1371240" cy="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204800" y="477072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c59d2"/>
                    </a:solidFill>
                    <a:latin typeface="Times New Roman"/>
                  </a:rPr>
                  <a:t>CF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443040" y="4970160"/>
                <a:ext cx="0" cy="40608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395280" y="5376600"/>
                <a:ext cx="3047760" cy="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395280" y="4970160"/>
                <a:ext cx="0" cy="40608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985120" y="4965480"/>
                <a:ext cx="914040" cy="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1214280" y="42512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086c2"/>
                  </a:solidFill>
                  <a:latin typeface="楷体_GB2312"/>
                  <a:ea typeface="楷体_GB2312"/>
                </a:rPr>
                <a:t>循环右移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43280" y="4970520"/>
            <a:ext cx="3962160" cy="1267920"/>
            <a:chOff x="4643280" y="4970520"/>
            <a:chExt cx="3962160" cy="1267920"/>
          </a:xfrm>
        </p:grpSpPr>
        <p:grpSp>
          <p:nvGrpSpPr>
            <p:cNvPr id="512" name=""/>
            <p:cNvGrpSpPr/>
            <p:nvPr/>
          </p:nvGrpSpPr>
          <p:grpSpPr>
            <a:xfrm>
              <a:off x="4643280" y="5475600"/>
              <a:ext cx="3962160" cy="762840"/>
              <a:chOff x="4643280" y="5475600"/>
              <a:chExt cx="3962160" cy="762840"/>
            </a:xfrm>
          </p:grpSpPr>
          <p:sp>
            <p:nvSpPr>
              <p:cNvPr id="513" name=""/>
              <p:cNvSpPr/>
              <p:nvPr/>
            </p:nvSpPr>
            <p:spPr>
              <a:xfrm>
                <a:off x="4871880" y="5475600"/>
                <a:ext cx="2590560" cy="447480"/>
              </a:xfrm>
              <a:prstGeom prst="rect">
                <a:avLst/>
              </a:prstGeom>
              <a:solidFill>
                <a:srgbClr val="de8848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919640" y="5475600"/>
                <a:ext cx="457200" cy="447480"/>
              </a:xfrm>
              <a:prstGeom prst="rect">
                <a:avLst/>
              </a:prstGeom>
              <a:solidFill>
                <a:srgbClr val="de8848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871880" y="5475600"/>
                <a:ext cx="457200" cy="447480"/>
              </a:xfrm>
              <a:prstGeom prst="rect">
                <a:avLst/>
              </a:prstGeom>
              <a:solidFill>
                <a:srgbClr val="de8848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005240" y="5475600"/>
                <a:ext cx="457200" cy="447480"/>
              </a:xfrm>
              <a:prstGeom prst="rect">
                <a:avLst/>
              </a:prstGeom>
              <a:solidFill>
                <a:srgbClr val="de8848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643280" y="5699160"/>
                <a:ext cx="457200" cy="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81360" y="5699160"/>
                <a:ext cx="1371600" cy="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224560" y="5704200"/>
                <a:ext cx="380880" cy="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605440" y="5704200"/>
                <a:ext cx="0" cy="45720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4643280" y="6161400"/>
                <a:ext cx="3962160" cy="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4643280" y="5704200"/>
                <a:ext cx="0" cy="45720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908480" y="58701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c59d2"/>
                    </a:solidFill>
                    <a:latin typeface="Times New Roman"/>
                  </a:rPr>
                  <a:t>CF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233840" y="5699160"/>
                <a:ext cx="914400" cy="0"/>
              </a:xfrm>
              <a:prstGeom prst="line">
                <a:avLst/>
              </a:prstGeom>
              <a:ln cap="sq"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5219640" y="497052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086c2"/>
                  </a:solidFill>
                  <a:latin typeface="楷体_GB2312"/>
                  <a:ea typeface="楷体_GB2312"/>
                </a:rPr>
                <a:t>带进位循环右移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F093-2244-480B-85EF-A6EC9F87E3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6.3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指令类型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7488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．程序控制类指令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822240" indent="-457200">
              <a:lnSpc>
                <a:spcPct val="90000"/>
              </a:lnSpc>
              <a:spcAft>
                <a:spcPts val="601"/>
              </a:spcAft>
              <a:buClr>
                <a:srgbClr val="de884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无条件转移指令：无条件转至目的地址处执行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822240" indent="-457200">
              <a:lnSpc>
                <a:spcPct val="90000"/>
              </a:lnSpc>
              <a:spcAft>
                <a:spcPts val="601"/>
              </a:spcAft>
              <a:buClr>
                <a:srgbClr val="de884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条件转移指令：条件满足转至目的地址处执行，否则顺序执行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822240" indent="-457200">
              <a:lnSpc>
                <a:spcPct val="90000"/>
              </a:lnSpc>
              <a:spcAft>
                <a:spcPts val="601"/>
              </a:spcAft>
              <a:buClr>
                <a:srgbClr val="de884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调用与返回指令：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2" marL="1265400" indent="-457200">
              <a:lnSpc>
                <a:spcPct val="90000"/>
              </a:lnSpc>
              <a:spcAft>
                <a:spcPts val="601"/>
              </a:spcAft>
              <a:buClr>
                <a:srgbClr val="003366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调用指令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CALL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用于从当前的程序位置转至子程序的入口；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2" marL="1265400" indent="-457200">
              <a:lnSpc>
                <a:spcPct val="90000"/>
              </a:lnSpc>
              <a:spcAft>
                <a:spcPts val="601"/>
              </a:spcAft>
              <a:buClr>
                <a:srgbClr val="003366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返回指令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RETURN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用于子程序执行完后重新返回到原程序的断点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822240" indent="-457200">
              <a:lnSpc>
                <a:spcPct val="90000"/>
              </a:lnSpc>
              <a:spcAft>
                <a:spcPts val="601"/>
              </a:spcAft>
              <a:buClr>
                <a:srgbClr val="de8848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陷阱指令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2" marL="1265400" indent="-457200">
              <a:lnSpc>
                <a:spcPct val="90000"/>
              </a:lnSpc>
              <a:spcAft>
                <a:spcPts val="601"/>
              </a:spcAft>
              <a:buClr>
                <a:srgbClr val="003366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陷阱其实是一种意外事故的中断。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E91A-4E78-478B-99D7-05E4AD13D1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6.3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指令类型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7488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．堆栈操作指令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182520" indent="-18252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．输入输出指令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它完成从外设端口读入一个数据到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CPU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的寄存器内，或将数据从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CPU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的寄存器输出到某外设的端口中。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182520" indent="-18252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7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．处理器控制指令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包括等待指令、停机指令、空操作指令、开中断指令等</a:t>
            </a:r>
            <a:r>
              <a:rPr b="0" lang="zh-CN" sz="2400" spc="-1" strike="noStrike">
                <a:solidFill>
                  <a:srgbClr val="5086c2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182520" indent="-18252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8.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特权指令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: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特权指令只能给操作系统或其他系统软件，而不能提供给用户使用，以防止破坏系统或其他用户信息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5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001C-9F36-4731-B676-440CC75571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6.4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指令系统的设计技术 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619280" y="1204920"/>
            <a:ext cx="4724280" cy="685800"/>
            <a:chOff x="1619280" y="1204920"/>
            <a:chExt cx="4724280" cy="685800"/>
          </a:xfrm>
        </p:grpSpPr>
        <p:sp>
          <p:nvSpPr>
            <p:cNvPr id="533" name=""/>
            <p:cNvSpPr/>
            <p:nvPr/>
          </p:nvSpPr>
          <p:spPr>
            <a:xfrm>
              <a:off x="2000160" y="1324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ba54"/>
                </a:gs>
                <a:gs pos="100000">
                  <a:srgbClr val="e4efd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619280" y="1204920"/>
              <a:ext cx="685800" cy="68580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28760" y="137952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黑体"/>
                  <a:ea typeface="黑体"/>
                  <a:hlinkClick r:id="rId1" action="ppaction://hlinksldjump"/>
                </a:rPr>
                <a:t>指令系统的要求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08920" y="1284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一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619280" y="2070000"/>
            <a:ext cx="4724280" cy="685800"/>
            <a:chOff x="1619280" y="2070000"/>
            <a:chExt cx="4724280" cy="685800"/>
          </a:xfrm>
        </p:grpSpPr>
        <p:sp>
          <p:nvSpPr>
            <p:cNvPr id="538" name=""/>
            <p:cNvSpPr/>
            <p:nvPr/>
          </p:nvSpPr>
          <p:spPr>
            <a:xfrm>
              <a:off x="2000160" y="2189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8848"/>
                </a:gs>
                <a:gs pos="100000">
                  <a:srgbClr val="f7e4d7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19280" y="2070000"/>
              <a:ext cx="685800" cy="68580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28760" y="224460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黑体"/>
                  <a:ea typeface="黑体"/>
                  <a:hlinkClick r:id="rId2" action="ppaction://hlinksldjump"/>
                </a:rPr>
                <a:t>指令系统的发展</a:t>
              </a: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黑体"/>
                  <a:ea typeface="黑体"/>
                  <a:hlinkClick r:id="rId3" action="ppaction://hlinksldjump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70120" y="2149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619280" y="2908440"/>
            <a:ext cx="4724280" cy="685800"/>
            <a:chOff x="1619280" y="2908440"/>
            <a:chExt cx="4724280" cy="685800"/>
          </a:xfrm>
        </p:grpSpPr>
        <p:sp>
          <p:nvSpPr>
            <p:cNvPr id="543" name=""/>
            <p:cNvSpPr/>
            <p:nvPr/>
          </p:nvSpPr>
          <p:spPr>
            <a:xfrm>
              <a:off x="2000160" y="30276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86c2"/>
                </a:gs>
                <a:gs pos="100000">
                  <a:srgbClr val="d9e4f1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19280" y="2908440"/>
              <a:ext cx="685800" cy="685800"/>
            </a:xfrm>
            <a:prstGeom prst="diamond">
              <a:avLst/>
            </a:prstGeom>
            <a:solidFill>
              <a:srgbClr val="4c59d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28760" y="308304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黑体"/>
                  <a:ea typeface="黑体"/>
                  <a:hlinkClick r:id="rId4" action="ppaction://hlinksldjump"/>
                </a:rPr>
                <a:t>CISC</a:t>
              </a: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黑体"/>
                  <a:ea typeface="黑体"/>
                  <a:hlinkClick r:id="rId5" action="ppaction://hlinksldjump"/>
                </a:rPr>
                <a:t>的特点</a:t>
              </a: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黑体"/>
                  <a:ea typeface="黑体"/>
                  <a:hlinkClick r:id="rId6" action="ppaction://hlinksldjump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70120" y="298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三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619280" y="3822840"/>
            <a:ext cx="4724280" cy="685800"/>
            <a:chOff x="1619280" y="3822840"/>
            <a:chExt cx="4724280" cy="685800"/>
          </a:xfrm>
        </p:grpSpPr>
        <p:sp>
          <p:nvSpPr>
            <p:cNvPr id="548" name=""/>
            <p:cNvSpPr/>
            <p:nvPr/>
          </p:nvSpPr>
          <p:spPr>
            <a:xfrm>
              <a:off x="2000160" y="39420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0b5c4"/>
                </a:gs>
                <a:gs pos="100000">
                  <a:srgbClr val="e9eef1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19280" y="3822840"/>
              <a:ext cx="685800" cy="685800"/>
            </a:xfrm>
            <a:prstGeom prst="diamond">
              <a:avLst/>
            </a:prstGeom>
            <a:solidFill>
              <a:srgbClr val="a0b5c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28760" y="399744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3366"/>
                  </a:solidFill>
                  <a:latin typeface="黑体"/>
                  <a:ea typeface="黑体"/>
                </a:rPr>
                <a:t>RISC</a:t>
              </a:r>
              <a:r>
                <a:rPr b="1" lang="zh-CN" sz="2400" spc="-1" strike="noStrike">
                  <a:solidFill>
                    <a:srgbClr val="003366"/>
                  </a:solidFill>
                  <a:latin typeface="黑体"/>
                  <a:ea typeface="黑体"/>
                </a:rPr>
                <a:t>的特点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黑体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0120" y="3902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四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619280" y="4687920"/>
            <a:ext cx="4724280" cy="685800"/>
            <a:chOff x="1619280" y="4687920"/>
            <a:chExt cx="4724280" cy="685800"/>
          </a:xfrm>
        </p:grpSpPr>
        <p:sp>
          <p:nvSpPr>
            <p:cNvPr id="553" name=""/>
            <p:cNvSpPr/>
            <p:nvPr/>
          </p:nvSpPr>
          <p:spPr>
            <a:xfrm>
              <a:off x="2000160" y="4807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ba54"/>
                </a:gs>
                <a:gs pos="100000">
                  <a:srgbClr val="e4efd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19280" y="4687920"/>
              <a:ext cx="685800" cy="68580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28760" y="486252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黑体"/>
                  <a:ea typeface="黑体"/>
                  <a:hlinkClick r:id="rId7" action="ppaction://hlinksldjump"/>
                </a:rPr>
                <a:t>指令系统举例</a:t>
              </a: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黑体"/>
                  <a:ea typeface="黑体"/>
                  <a:hlinkClick r:id="rId8" action="ppaction://hlinksldjump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70120" y="4767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五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1FF3-F4C0-4403-AE71-094E4B87EC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一、指令系统的要求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</a:rPr>
              <a:t>、完备性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指令系统直接提供的指令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足够使用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而不必用软件来实现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</a:rPr>
              <a:t>、有效性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是指利用该指令系统所编写的程序能够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高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地运行。程序占据存储空间小、执行速度快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黑体"/>
              </a:rPr>
              <a:t>3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</a:rPr>
              <a:t>、规整性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对称性：所有的指令都可使用各种寻址方式；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匀齐性：指令可以支持各种数据类型；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指令格式和数据格式的一致性：指令长度和数据长度有一定的关系，以方便处理和存取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800000"/>
                </a:solidFill>
                <a:latin typeface="黑体"/>
              </a:rPr>
              <a:t>、兼容性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“向上兼容”，即低档机上运行的软件可以在高档机上运行。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43BA-DAD1-4F25-83B0-8E4B667F2E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二、指令系统的发展 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7632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复杂指令系统计算机”，简称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CIS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Complex Instruction Set Compute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格式不固定，寻址方式丰富，功能复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一些比较简单的指令，在程序中仅占指令系统中指令总数的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20%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但出现的频率却占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80%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；占指令总数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20%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的最复杂的指令，却占用了控制存储器容量的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80%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且使用频率却不高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C4BB-1DFE-419B-A2B9-06EC341975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416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精简指令系统计算机（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Reduced Instruction Set Compute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简称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RIS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RIS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体系结构的芯片经历了三代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第一代以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3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位数据通路为代表，支持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Cache,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软件支持较少，性能与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CIS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体系结构的产品相当，如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RISC Ⅰ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、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MIPS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、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IBM80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等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第二代产品提高了集成度，增加了对多处理机系统的支持，提高了时钟频率，建立了完善的存储管理体系，软件支持系统也逐渐完善。它们已具有单指令流水线，可同时执行多条指令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第三代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RIS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产品为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64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位微处理器，采用了超级流水线技术和超标量技术，提高了指令级的并行处理能力，使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RIS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处理器的整体性能更好。如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MIPS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的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R400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处理器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二、指令系统的发展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5D16-39C2-4D15-8B87-CFB7E7346C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一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指令操作码与地址码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0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是由操作码和地址码两部分组成的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: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26920" y="1627200"/>
          <a:ext cx="7253280" cy="662040"/>
        </p:xfrm>
        <a:graphic>
          <a:graphicData uri="http://schemas.openxmlformats.org/drawingml/2006/table">
            <a:tbl>
              <a:tblPr/>
              <a:tblGrid>
                <a:gridCol w="3632400"/>
                <a:gridCol w="3620880"/>
              </a:tblGrid>
              <a:tr h="66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操作码字段（</a:t>
                      </a:r>
                      <a:r>
                        <a:rPr b="0" lang="zh-CN" sz="24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OP</a:t>
                      </a:r>
                      <a:r>
                        <a:rPr b="0" lang="zh-CN" sz="24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地址码字段（</a:t>
                      </a:r>
                      <a:r>
                        <a:rPr b="0" lang="zh-CN" sz="24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A</a:t>
                      </a:r>
                      <a:r>
                        <a:rPr b="0" lang="zh-CN" sz="24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4360" y="2349360"/>
            <a:ext cx="7488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操作码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用来指明该指令所要完成的操作，如加法、减法、传送、移位、转移等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位数反映了机器的操作种类，也即机器允许的指令条数，如果操作码有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  <a:ea typeface="黑体"/>
              </a:rPr>
              <a:t>n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位二进制数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则最多可表示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  <a:ea typeface="黑体"/>
              </a:rPr>
              <a:t>2</a:t>
            </a:r>
            <a:r>
              <a:rPr b="1" lang="en-GB" sz="2400" spc="-1" strike="noStrike" baseline="30000">
                <a:solidFill>
                  <a:srgbClr val="003366"/>
                </a:solidFill>
                <a:latin typeface="黑体"/>
                <a:ea typeface="黑体"/>
              </a:rPr>
              <a:t>n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种指令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地址码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用来寻找运算所需要的操作数（源操作数和目的操作数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地址码包括：源操作数地址、目的操作数地址和下一条指令的地址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地址含义：主存的地址、寄存器地址或者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I/O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设备地址。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8A2B-ACF2-430B-B70E-AC06D00C69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CIS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特点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77151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早期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CISC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指令系统的主要特点是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14400" indent="-457200">
              <a:spcBef>
                <a:spcPts val="601"/>
              </a:spcBef>
              <a:buClr>
                <a:srgbClr val="de8848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系统复杂。具体表现为指令条数多、寻址方式多、指令格式多。指令串行执行，大多数指令需要多个时钟周期完成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14400" indent="-457200">
              <a:spcBef>
                <a:spcPts val="601"/>
              </a:spcBef>
              <a:buClr>
                <a:srgbClr val="de8848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采用微程序控制，因为微程序控制器适合于实现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CIS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执行过程的控制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14400" indent="-457200">
              <a:spcBef>
                <a:spcPts val="601"/>
              </a:spcBef>
              <a:buClr>
                <a:srgbClr val="de8848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有较多的专用寄存器，大部分运算所需的数据均需访问存储器获取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14400" indent="-457200">
              <a:spcBef>
                <a:spcPts val="601"/>
              </a:spcBef>
              <a:buClr>
                <a:srgbClr val="de8848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编译程序难以用优化措施生成高效的目标代码程序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9666-4BAA-4165-B6FB-D4628DF7CD2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CIS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特点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77151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CISC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主要在以下方面来对增强指令的功能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1" marL="914400" indent="-457200">
              <a:spcBef>
                <a:spcPts val="601"/>
              </a:spcBef>
              <a:buClr>
                <a:srgbClr val="de8848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面向目标程序增强指令功能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具体方法有：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2" marL="1371600" indent="-45720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提高运算类指令的功能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2" marL="1371600" indent="-45720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提高传送类指令的功能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2" marL="1371600" indent="-45720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增强程序控制指令功能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14400" indent="-457200">
              <a:spcBef>
                <a:spcPts val="601"/>
              </a:spcBef>
              <a:buClr>
                <a:srgbClr val="de8848"/>
              </a:buClr>
              <a:buFont typeface="黑体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面向编译程序目标代码生成优化的改进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14400" indent="-457200">
              <a:spcBef>
                <a:spcPts val="601"/>
              </a:spcBef>
              <a:buClr>
                <a:srgbClr val="de8848"/>
              </a:buClr>
              <a:buFont typeface="黑体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提供面向操作系统优化的指令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C6F3-89B8-4A7C-81EA-04886283B2D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561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</a:rPr>
              <a:t>大部分</a:t>
            </a:r>
            <a:r>
              <a:rPr b="0" lang="en-GB" sz="2800" spc="-1" strike="noStrike">
                <a:solidFill>
                  <a:srgbClr val="003366"/>
                </a:solidFill>
                <a:latin typeface="黑体"/>
              </a:rPr>
              <a:t>RISC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</a:rPr>
              <a:t>机具有以下特点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 指令系统设计时选择一些使用频率较高的简单指令，且选择一些很有用但不复杂的指令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 指令长度固定，指令格式种类少，寻址方式种类少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 只有取数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/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存数指令访问存储器，其余指令的操作都在寄存器之间进行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四、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RIS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的特点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EE75-87EC-4C3B-A6CE-7C2B6D695BA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74883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 采用流水线技术。超级标量及超级流水线技术，增加了指令执行的并行度，使得一条指令的平均指令执行时间小于一个机器周期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5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 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CPU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中通用寄存器数量相当多，可以减少访存次数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 以硬布线控制逻辑为主，不用或少用微码控制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7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 采用优化的编译程序，力求有效地支持高级语言程序。  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四、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RIS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的特点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68CE-960C-424B-BA0F-AE1926D54CF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 可以充分利用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VLSI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芯片面积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 可以提高计算机运算速度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数、寻址方式和指令格式的种类都较少，且指令的编码很有规律，使指令译码加快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在简化指令的情况下，硬布线连接比微程序控制的延迟小，可缩短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CPU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的周期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CPU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的通用寄存器多，减少了访存次数，加快了速度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大部分指令能在一个周期内完成，特别适合于流水线工作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有的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RIS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机采用寄存器窗口重叠技术，程序嵌套时不必将寄存器内容保存到存储器中，加快了速度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同</a:t>
            </a:r>
            <a:r>
              <a:rPr b="0" lang="en-GB" sz="3200" spc="-1" strike="noStrike">
                <a:solidFill>
                  <a:srgbClr val="ffffff"/>
                </a:solidFill>
                <a:latin typeface="黑体"/>
              </a:rPr>
              <a:t>CIS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比较，</a:t>
            </a:r>
            <a:r>
              <a:rPr b="0" lang="en-GB" sz="3200" spc="-1" strike="noStrike">
                <a:solidFill>
                  <a:srgbClr val="ffffff"/>
                </a:solidFill>
                <a:latin typeface="黑体"/>
              </a:rPr>
              <a:t>RIS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的优点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0777-E20D-4803-8418-78C12C706D5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7848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 设计容易，可降低成本，提高可靠性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 能有效支持高级语言程序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RIS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靠编译程序的优化来支持高级语言程序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少，寻址方式少，反而使编译程序容易选择更有效的指令和寻址方式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通用寄存器多，可尽量安排快速的寄存器操作，使编译程序的代码优化效率较高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有的</a:t>
            </a: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RIS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机采用寄存器窗口重叠技术，使过程间的参数传送快，且不必保存与恢复现场，因而能直接支持调用子程序和过程的高级语言程序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在编译时尽量做好程序优化工作，而减少程序执行时间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同</a:t>
            </a:r>
            <a:r>
              <a:rPr b="0" lang="en-GB" sz="3200" spc="-1" strike="noStrike">
                <a:solidFill>
                  <a:srgbClr val="ffffff"/>
                </a:solidFill>
                <a:latin typeface="黑体"/>
              </a:rPr>
              <a:t>CIS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比较，</a:t>
            </a:r>
            <a:r>
              <a:rPr b="0" lang="en-GB" sz="3200" spc="-1" strike="noStrike">
                <a:solidFill>
                  <a:srgbClr val="ffffff"/>
                </a:solidFill>
                <a:latin typeface="黑体"/>
              </a:rPr>
              <a:t>RIS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的优点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5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722F-A2BF-4BF6-ADBB-5E5E587AB82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五、指令系统举例 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582" name=""/>
          <p:cNvSpPr/>
          <p:nvPr/>
        </p:nvSpPr>
        <p:spPr>
          <a:xfrm>
            <a:off x="5562720" y="3247920"/>
            <a:ext cx="2286000" cy="140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3247920"/>
            <a:ext cx="2286000" cy="140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38400" y="3448080"/>
            <a:ext cx="2038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en-GB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1" action="ppaction://hlinksldjump"/>
              </a:rPr>
              <a:t>Pentium 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2" action="ppaction://hlinksldjump"/>
              </a:rPr>
              <a:t>指令系统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22272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0d291"/>
              </a:gs>
              <a:gs pos="100000">
                <a:srgbClr val="85ba5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487440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6d7ea"/>
              </a:gs>
              <a:gs pos="100000">
                <a:srgbClr val="5086c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3048120" y="1523880"/>
            <a:ext cx="2998440" cy="1601640"/>
            <a:chOff x="3048120" y="1523880"/>
            <a:chExt cx="2998440" cy="1601640"/>
          </a:xfrm>
        </p:grpSpPr>
        <p:grpSp>
          <p:nvGrpSpPr>
            <p:cNvPr id="588" name=""/>
            <p:cNvGrpSpPr/>
            <p:nvPr/>
          </p:nvGrpSpPr>
          <p:grpSpPr>
            <a:xfrm>
              <a:off x="3048120" y="1666800"/>
              <a:ext cx="2998440" cy="1458720"/>
              <a:chOff x="3048120" y="1666800"/>
              <a:chExt cx="2998440" cy="1458720"/>
            </a:xfrm>
          </p:grpSpPr>
          <p:sp>
            <p:nvSpPr>
              <p:cNvPr id="589" name=""/>
              <p:cNvSpPr/>
              <p:nvPr/>
            </p:nvSpPr>
            <p:spPr>
              <a:xfrm>
                <a:off x="3080880" y="17132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26405d"/>
                  </a:gs>
                  <a:gs pos="100000">
                    <a:srgbClr val="5086c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048120" y="16668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0c8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3189600" y="15238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663e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224520" y="15318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f2d4be"/>
                </a:gs>
                <a:gs pos="100000">
                  <a:srgbClr val="de8848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51520" y="15447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de8848">
                    <a:alpha val="48235"/>
                  </a:srgbClr>
                </a:gs>
                <a:gs pos="100000">
                  <a:srgbClr val="af6b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383280" y="15717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de8848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3929760" y="1916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令系统举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810400" y="3429000"/>
            <a:ext cx="2038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4" action="ppaction://hlinksldjump"/>
              </a:rPr>
              <a:t>模型机上</a:t>
            </a:r>
            <a:r>
              <a:rPr b="0" lang="en-GB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5" action="ppaction://hlinksldjump"/>
              </a:rPr>
              <a:t>8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6" action="ppaction://hlinksldjump"/>
              </a:rPr>
              <a:t>位字长的指令系统设计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B8C1-867F-4284-B8BD-24C0CE1C68A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</a:t>
            </a:r>
            <a:r>
              <a:rPr b="0" lang="en-GB" sz="3200" spc="-1" strike="noStrike">
                <a:solidFill>
                  <a:srgbClr val="ffffff"/>
                </a:solidFill>
                <a:latin typeface="黑体"/>
              </a:rPr>
              <a:t>Pentium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指令系统 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77151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类型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（</a:t>
            </a:r>
            <a:r>
              <a:rPr b="1" lang="en-GB" sz="2400" spc="-1" strike="noStrike">
                <a:solidFill>
                  <a:srgbClr val="0066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）算术逻辑操作指令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（</a:t>
            </a:r>
            <a:r>
              <a:rPr b="1" lang="en-GB" sz="2400" spc="-1" strike="noStrike">
                <a:solidFill>
                  <a:srgbClr val="0066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）串操作</a:t>
            </a:r>
            <a:r>
              <a:rPr b="1" lang="en-GB" sz="2400" spc="-1" strike="noStrike">
                <a:solidFill>
                  <a:srgbClr val="006600"/>
                </a:solidFill>
                <a:latin typeface="黑体"/>
              </a:rPr>
              <a:t>/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转移控制指令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（</a:t>
            </a:r>
            <a:r>
              <a:rPr b="1" lang="en-GB" sz="2400" spc="-1" strike="noStrike">
                <a:solidFill>
                  <a:srgbClr val="0066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）标志控制</a:t>
            </a:r>
            <a:r>
              <a:rPr b="1" lang="en-GB" sz="2400" spc="-1" strike="noStrike">
                <a:solidFill>
                  <a:srgbClr val="006600"/>
                </a:solidFill>
                <a:latin typeface="黑体"/>
              </a:rPr>
              <a:t>/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高级语言支持指令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（</a:t>
            </a:r>
            <a:r>
              <a:rPr b="1" lang="en-GB" sz="2400" spc="-1" strike="noStrike">
                <a:solidFill>
                  <a:srgbClr val="0066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）数据传送指令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（</a:t>
            </a:r>
            <a:r>
              <a:rPr b="1" lang="en-GB" sz="2400" spc="-1" strike="noStrike">
                <a:solidFill>
                  <a:srgbClr val="0066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）系统控制</a:t>
            </a:r>
            <a:r>
              <a:rPr b="1" lang="en-GB" sz="2400" spc="-1" strike="noStrike">
                <a:solidFill>
                  <a:srgbClr val="006600"/>
                </a:solidFill>
                <a:latin typeface="黑体"/>
              </a:rPr>
              <a:t>/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段寄存器操作指令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（</a:t>
            </a:r>
            <a:r>
              <a:rPr b="1" lang="en-GB" sz="2400" spc="-1" strike="noStrike">
                <a:solidFill>
                  <a:srgbClr val="0066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）保护</a:t>
            </a:r>
            <a:r>
              <a:rPr b="1" lang="en-GB" sz="2400" spc="-1" strike="noStrike">
                <a:solidFill>
                  <a:srgbClr val="006600"/>
                </a:solidFill>
                <a:latin typeface="黑体"/>
              </a:rPr>
              <a:t>/CACHE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管理指令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黑体"/>
              </a:rPr>
              <a:t>Pentium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的指令格式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68B1-48BD-4751-8510-917804CC22E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84360" y="4653000"/>
            <a:ext cx="77040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主要由两部分组成：指令前缀，指令本身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指令前缀为可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969840" y="1127160"/>
          <a:ext cx="6050160" cy="33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9840" y="1127160"/>
                    <a:ext cx="60501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"/>
          <p:cNvSpPr/>
          <p:nvPr/>
        </p:nvSpPr>
        <p:spPr>
          <a:xfrm>
            <a:off x="114300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GB" sz="3200" spc="-1" strike="noStrike">
                <a:solidFill>
                  <a:srgbClr val="ffffff"/>
                </a:solidFill>
                <a:latin typeface="黑体"/>
                <a:ea typeface="黑体"/>
              </a:rPr>
              <a:t>Pentium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系统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D3B1-2F2D-4361-A168-3D8409416FC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174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模型机上</a:t>
            </a:r>
            <a:r>
              <a:rPr b="0" lang="en-GB" sz="3200" spc="-1" strike="noStrike">
                <a:solidFill>
                  <a:srgbClr val="ffffff"/>
                </a:solidFill>
                <a:latin typeface="黑体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位字长的指令系统设计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066680" y="1413000"/>
            <a:ext cx="6782040" cy="4114800"/>
            <a:chOff x="1066680" y="1413000"/>
            <a:chExt cx="6782040" cy="4114800"/>
          </a:xfrm>
        </p:grpSpPr>
        <p:sp>
          <p:nvSpPr>
            <p:cNvPr id="609" name=""/>
            <p:cNvSpPr/>
            <p:nvPr/>
          </p:nvSpPr>
          <p:spPr>
            <a:xfrm>
              <a:off x="3570120" y="32418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4c59d2"/>
                  </a:solidFill>
                  <a:uFillTx/>
                  <a:latin typeface="Arial"/>
                  <a:ea typeface="黑体"/>
                  <a:hlinkClick r:id="rId1" action="ppaction://hlinksldjump"/>
                </a:rPr>
                <a:t>模型机寻址方式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66680" y="32418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4c59d2"/>
                  </a:solidFill>
                  <a:uFillTx/>
                  <a:latin typeface="Arial"/>
                  <a:ea typeface="黑体"/>
                  <a:hlinkClick r:id="rId2" action="ppaction://hlinksldjump"/>
                </a:rPr>
                <a:t>模型机指令格式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3241800"/>
              <a:ext cx="1752840" cy="2286000"/>
            </a:xfrm>
            <a:custGeom>
              <a:avLst/>
              <a:gdLst>
                <a:gd name="textAreaLeft" fmla="*/ 70560 w 1752840"/>
                <a:gd name="textAreaRight" fmla="*/ 1682280 w 175284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69">
                  <a:moveTo>
                    <a:pt x="2969" y="0"/>
                  </a:moveTo>
                  <a:arcTo wR="2969" hR="2969" stAng="16200000" swAng="-5400000"/>
                  <a:lnTo>
                    <a:pt x="0" y="25200"/>
                  </a:lnTo>
                  <a:arcTo wR="2969" hR="2969" stAng="10800000" swAng="-5400000"/>
                  <a:lnTo>
                    <a:pt x="18631" y="2816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模型机指令系统设计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98800" y="20368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de8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60840" y="20368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c5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1143000" y="1413000"/>
              <a:ext cx="1703520" cy="1687320"/>
              <a:chOff x="1143000" y="1413000"/>
              <a:chExt cx="1703520" cy="1687320"/>
            </a:xfrm>
          </p:grpSpPr>
          <p:sp>
            <p:nvSpPr>
              <p:cNvPr id="615" name=""/>
              <p:cNvSpPr/>
              <p:nvPr/>
            </p:nvSpPr>
            <p:spPr>
              <a:xfrm>
                <a:off x="1143000" y="1413000"/>
                <a:ext cx="1703520" cy="168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a0b5c4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43000" y="1413000"/>
                <a:ext cx="1703520" cy="1687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a0b5c4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254240" y="1522440"/>
                <a:ext cx="1481040" cy="1467000"/>
              </a:xfrm>
              <a:prstGeom prst="ellipse">
                <a:avLst/>
              </a:prstGeom>
              <a:gradFill rotWithShape="0">
                <a:gsLst>
                  <a:gs pos="0">
                    <a:srgbClr val="566169"/>
                  </a:gs>
                  <a:gs pos="50000">
                    <a:srgbClr val="a0b5c4"/>
                  </a:gs>
                  <a:gs pos="100000">
                    <a:srgbClr val="56616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55680" y="1525680"/>
                <a:ext cx="1481040" cy="1466640"/>
              </a:xfrm>
              <a:prstGeom prst="ellipse">
                <a:avLst/>
              </a:prstGeom>
              <a:gradFill rotWithShape="0">
                <a:gsLst>
                  <a:gs pos="0">
                    <a:srgbClr val="a0b5c4">
                      <a:alpha val="0"/>
                    </a:srgbClr>
                  </a:gs>
                  <a:gs pos="100000">
                    <a:srgbClr val="65727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28760" y="1596960"/>
                <a:ext cx="1333440" cy="1320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349280" y="1616040"/>
                <a:ext cx="1290600" cy="1278000"/>
                <a:chOff x="1349280" y="1616040"/>
                <a:chExt cx="1290600" cy="12780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349280" y="1616040"/>
                  <a:ext cx="129060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365480" y="1622880"/>
                  <a:ext cx="1259640" cy="124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379160" y="1635480"/>
                  <a:ext cx="1197720" cy="116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449000" y="1667880"/>
                  <a:ext cx="1064880" cy="94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" name=""/>
              <p:cNvSpPr/>
              <p:nvPr/>
            </p:nvSpPr>
            <p:spPr>
              <a:xfrm>
                <a:off x="1758960" y="2017800"/>
                <a:ext cx="48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3366"/>
                    </a:solidFill>
                    <a:latin typeface="Arial"/>
                    <a:ea typeface="黑体"/>
                  </a:rPr>
                  <a:t>①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3606840" y="1417680"/>
              <a:ext cx="1703520" cy="1687320"/>
              <a:chOff x="3606840" y="1417680"/>
              <a:chExt cx="1703520" cy="1687320"/>
            </a:xfrm>
          </p:grpSpPr>
          <p:sp>
            <p:nvSpPr>
              <p:cNvPr id="627" name=""/>
              <p:cNvSpPr/>
              <p:nvPr/>
            </p:nvSpPr>
            <p:spPr>
              <a:xfrm>
                <a:off x="3606840" y="1417680"/>
                <a:ext cx="1703520" cy="168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de884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606840" y="1417680"/>
                <a:ext cx="1703520" cy="1687320"/>
              </a:xfrm>
              <a:prstGeom prst="ellipse">
                <a:avLst/>
              </a:prstGeom>
              <a:gradFill rotWithShape="0">
                <a:gsLst>
                  <a:gs pos="0">
                    <a:srgbClr val="663e21"/>
                  </a:gs>
                  <a:gs pos="100000">
                    <a:srgbClr val="de884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718080" y="1528920"/>
                <a:ext cx="1481040" cy="1466640"/>
              </a:xfrm>
              <a:prstGeom prst="ellipse">
                <a:avLst/>
              </a:prstGeom>
              <a:gradFill rotWithShape="0">
                <a:gsLst>
                  <a:gs pos="0">
                    <a:srgbClr val="774926"/>
                  </a:gs>
                  <a:gs pos="50000">
                    <a:srgbClr val="de8848"/>
                  </a:gs>
                  <a:gs pos="100000">
                    <a:srgbClr val="77492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719520" y="1530360"/>
                <a:ext cx="1481040" cy="1467000"/>
              </a:xfrm>
              <a:prstGeom prst="ellipse">
                <a:avLst/>
              </a:prstGeom>
              <a:gradFill rotWithShape="0">
                <a:gsLst>
                  <a:gs pos="0">
                    <a:srgbClr val="de8848">
                      <a:alpha val="0"/>
                    </a:srgbClr>
                  </a:gs>
                  <a:gs pos="100000">
                    <a:srgbClr val="8c562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790800" y="1600200"/>
                <a:ext cx="1333800" cy="1320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3813120" y="1616040"/>
                <a:ext cx="1290600" cy="1278000"/>
                <a:chOff x="3813120" y="1616040"/>
                <a:chExt cx="1290600" cy="12780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3813120" y="1616040"/>
                  <a:ext cx="129060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829320" y="1622880"/>
                  <a:ext cx="1259640" cy="124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843000" y="1635480"/>
                  <a:ext cx="1197720" cy="116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912840" y="1667880"/>
                  <a:ext cx="1064880" cy="94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4227480" y="2017800"/>
                <a:ext cx="48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3366"/>
                    </a:solidFill>
                    <a:latin typeface="Arial"/>
                    <a:ea typeface="黑体"/>
                  </a:rPr>
                  <a:t>②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6068880" y="1417680"/>
              <a:ext cx="1703520" cy="1687320"/>
              <a:chOff x="6068880" y="1417680"/>
              <a:chExt cx="1703520" cy="1687320"/>
            </a:xfrm>
          </p:grpSpPr>
          <p:sp>
            <p:nvSpPr>
              <p:cNvPr id="639" name=""/>
              <p:cNvSpPr/>
              <p:nvPr/>
            </p:nvSpPr>
            <p:spPr>
              <a:xfrm>
                <a:off x="6068880" y="1417680"/>
                <a:ext cx="1703520" cy="168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59d2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068880" y="1417680"/>
                <a:ext cx="1703520" cy="1687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4c59d2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180120" y="1528920"/>
                <a:ext cx="1481040" cy="1466640"/>
              </a:xfrm>
              <a:prstGeom prst="ellipse">
                <a:avLst/>
              </a:prstGeom>
              <a:gradFill rotWithShape="0">
                <a:gsLst>
                  <a:gs pos="0">
                    <a:srgbClr val="282f71"/>
                  </a:gs>
                  <a:gs pos="50000">
                    <a:srgbClr val="4c59d2"/>
                  </a:gs>
                  <a:gs pos="100000">
                    <a:srgbClr val="282f7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05680" y="1536840"/>
                <a:ext cx="1481040" cy="1466640"/>
              </a:xfrm>
              <a:prstGeom prst="ellipse">
                <a:avLst/>
              </a:prstGeom>
              <a:gradFill rotWithShape="0">
                <a:gsLst>
                  <a:gs pos="0">
                    <a:srgbClr val="4c59d2">
                      <a:alpha val="0"/>
                    </a:srgbClr>
                  </a:gs>
                  <a:gs pos="100000">
                    <a:srgbClr val="30388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59680" y="1600200"/>
                <a:ext cx="1334880" cy="1320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644" name=""/>
              <p:cNvGrpSpPr/>
              <p:nvPr/>
            </p:nvGrpSpPr>
            <p:grpSpPr>
              <a:xfrm>
                <a:off x="6283440" y="1616040"/>
                <a:ext cx="1292040" cy="1278000"/>
                <a:chOff x="6283440" y="1616040"/>
                <a:chExt cx="1292040" cy="127800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6283440" y="1616040"/>
                  <a:ext cx="12920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299640" y="1622880"/>
                  <a:ext cx="1261080" cy="124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313320" y="1635480"/>
                  <a:ext cx="1199160" cy="116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383520" y="1667880"/>
                  <a:ext cx="1065960" cy="94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" name=""/>
              <p:cNvSpPr/>
              <p:nvPr/>
            </p:nvSpPr>
            <p:spPr>
              <a:xfrm>
                <a:off x="6694560" y="2017800"/>
                <a:ext cx="48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3366"/>
                    </a:solidFill>
                    <a:latin typeface="Arial"/>
                    <a:ea typeface="黑体"/>
                  </a:rPr>
                  <a:t>③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5713-CFD1-4034-8C56-B197211E6A2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一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指令操作码与地址码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/>
          <p:nvPr/>
        </p:nvSpPr>
        <p:spPr>
          <a:xfrm rot="20805000">
            <a:off x="4784760" y="2593800"/>
            <a:ext cx="1150920" cy="33163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fefefe"/>
              </a:gs>
            </a:gsLst>
            <a:lin ang="11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61200">
            <a:off x="2990520" y="2145960"/>
            <a:ext cx="1150920" cy="33163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9900"/>
              </a:gs>
              <a:gs pos="100000">
                <a:srgbClr val="fefefe"/>
              </a:gs>
            </a:gsLst>
            <a:lin ang="5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4128200">
            <a:off x="4840920" y="616320"/>
            <a:ext cx="1150920" cy="331776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565868"/>
              </a:gs>
              <a:gs pos="100000">
                <a:srgbClr val="fefefe"/>
              </a:gs>
            </a:gsLst>
            <a:lin ang="182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816920" y="1366200"/>
            <a:ext cx="5481000" cy="4643640"/>
            <a:chOff x="1816920" y="1366200"/>
            <a:chExt cx="5481000" cy="4643640"/>
          </a:xfrm>
        </p:grpSpPr>
        <p:sp>
          <p:nvSpPr>
            <p:cNvPr id="156" name=""/>
            <p:cNvSpPr/>
            <p:nvPr/>
          </p:nvSpPr>
          <p:spPr>
            <a:xfrm>
              <a:off x="4587120" y="2693880"/>
              <a:ext cx="1150560" cy="33159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6256200">
              <a:off x="2990520" y="1993320"/>
              <a:ext cx="115056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4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4922600">
              <a:off x="4968360" y="845640"/>
              <a:ext cx="1150560" cy="33170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74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076640" y="2657520"/>
            <a:ext cx="1339920" cy="1338120"/>
            <a:chOff x="4076640" y="2657520"/>
            <a:chExt cx="1339920" cy="1338120"/>
          </a:xfrm>
        </p:grpSpPr>
        <p:sp>
          <p:nvSpPr>
            <p:cNvPr id="160" name=""/>
            <p:cNvSpPr/>
            <p:nvPr/>
          </p:nvSpPr>
          <p:spPr>
            <a:xfrm>
              <a:off x="4076640" y="2657520"/>
              <a:ext cx="133992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1282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29640" y="2679480"/>
              <a:ext cx="1033560" cy="505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924360" y="29671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指令操作码与地址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38680" y="278136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1" action="ppaction://hlinksldjump"/>
              </a:rPr>
              <a:t>1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2" action="ppaction://hlinksldjump"/>
              </a:rPr>
              <a:t>、操作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83480" y="195264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3" action="ppaction://hlinksldjump"/>
              </a:rPr>
              <a:t>2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4" action="ppaction://hlinksldjump"/>
              </a:rPr>
              <a:t>、地址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4120" y="450360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5" action="ppaction://hlinksldjump"/>
              </a:rPr>
              <a:t>3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6" action="ppaction://hlinksldjump"/>
              </a:rPr>
              <a:t>、操作数类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24060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9CE9-A398-4370-8F01-3C68A251A7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模型机指令格式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46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086c2"/>
                </a:solidFill>
                <a:latin typeface="黑体"/>
              </a:rPr>
              <a:t> 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</a:rPr>
              <a:t>格式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</a:rPr>
              <a:t>：</a:t>
            </a:r>
            <a:r>
              <a:rPr b="0" lang="zh-CN" sz="2800" spc="-1" strike="noStrike">
                <a:solidFill>
                  <a:srgbClr val="5086c2"/>
                </a:solidFill>
                <a:latin typeface="黑体"/>
              </a:rPr>
              <a:t>一般指令格式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5435640" y="1341360"/>
          <a:ext cx="3168720" cy="978120"/>
        </p:xfrm>
        <a:graphic>
          <a:graphicData uri="http://schemas.openxmlformats.org/drawingml/2006/table">
            <a:tbl>
              <a:tblPr/>
              <a:tblGrid>
                <a:gridCol w="1584360"/>
                <a:gridCol w="760320"/>
                <a:gridCol w="824040"/>
              </a:tblGrid>
              <a:tr h="356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7  I6  I5  I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3 I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1 I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O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S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10680"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DATA/ADDR/DISP/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4" name=""/>
          <p:cNvSpPr/>
          <p:nvPr/>
        </p:nvSpPr>
        <p:spPr>
          <a:xfrm>
            <a:off x="611280" y="3068640"/>
            <a:ext cx="813744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：源寄存器号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位，用于对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个通用寄存器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R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R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R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R3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的选择，其内容送总线，作为源操作数之一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D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：目的寄存器号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位，用于对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个通用寄存器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R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R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R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R3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的选择，其内容可送总线，也可以从总线上接收数据，通常作为目的操作数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DATA/ADDR/DISP/X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：指令的第二个字，可有可无，其含义也可以由用户自定义，可以是立即数，可以是直接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间接地址，也可以是其它寻址方式用到的地址信息，如相对偏移量、形式地址等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11280" y="1844640"/>
            <a:ext cx="468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OP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：指令操作码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位，用于对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16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条机器指令进行编码，是识别指令的标志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41E7-D4B2-49FF-A911-4BEF3751CE0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77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770" fill="hold"/>
                                        <p:tgtEl>
                                          <p:spTgt spid="6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</a:rPr>
              <a:t>格式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带寻址方式码的指令格式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OP1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：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第一指令操作码，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    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位，是带寻址方式码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    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的指令（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条）的特征位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MOD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寻址方式码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位，用于对</a:t>
            </a:r>
            <a:r>
              <a:rPr b="0" lang="zh-CN" sz="2400" spc="-1" strike="noStrike">
                <a:solidFill>
                  <a:srgbClr val="0066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6600"/>
                </a:solidFill>
                <a:latin typeface="黑体"/>
              </a:rPr>
              <a:t>种寻址方式的编码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至于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种寻址方式的定义，可以自行设计，例如：可设计为直接、间接、变址、相对寻址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OP2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第二指令操作码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位，是</a:t>
            </a:r>
            <a:r>
              <a:rPr b="0" lang="zh-CN" sz="2400" spc="-1" strike="noStrike">
                <a:solidFill>
                  <a:srgbClr val="0066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6600"/>
                </a:solidFill>
                <a:latin typeface="黑体"/>
              </a:rPr>
              <a:t>条带寻址方式码的指令本身的编码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DR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同格式一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ADDR/DISP/X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的第二个字，为寻址方式中所用到的直接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/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间接地址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ADD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或者是相对寻址的偏移量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DISP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或者是变址寻址的形式地址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X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4859280" y="1125360"/>
          <a:ext cx="3456000" cy="132084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792360"/>
                <a:gridCol w="792000"/>
              </a:tblGrid>
              <a:tr h="432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7  I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5  I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3 I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1 I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OP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MO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OP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31640"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ADDR/DISP/X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CB14-B2B9-4BE8-A45A-6D3882B3181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77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4" dur="77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</a:rPr>
              <a:t>格式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三字指令</a:t>
            </a:r>
            <a:r>
              <a:rPr b="1" lang="zh-CN" sz="3200" spc="-1" strike="noStrike">
                <a:solidFill>
                  <a:srgbClr val="5086c2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4859280" y="1125360"/>
          <a:ext cx="3738600" cy="1882800"/>
        </p:xfrm>
        <a:graphic>
          <a:graphicData uri="http://schemas.openxmlformats.org/drawingml/2006/table">
            <a:tbl>
              <a:tblPr/>
              <a:tblGrid>
                <a:gridCol w="881280"/>
                <a:gridCol w="1110960"/>
                <a:gridCol w="873360"/>
                <a:gridCol w="873000"/>
              </a:tblGrid>
              <a:tr h="501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7  I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5  I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3 I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1 I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OP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MO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OP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2520"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ADDR/DISP/X1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DATA/ADDR/DISP/X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1" name=""/>
          <p:cNvSpPr/>
          <p:nvPr/>
        </p:nvSpPr>
        <p:spPr>
          <a:xfrm>
            <a:off x="539640" y="3213000"/>
            <a:ext cx="7561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指令包含三字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指令第一字：包含操作码、寻址方式、寄存器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指令第二字和第三字：为寻址方式中所用到的直接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间接地址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ADD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，或者是相对寻址的偏移量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DISP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，或者是变址寻址的形式地址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，也可以是立即数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双存储器操作数的指令：既指令的两个操作数均在存储器内。其余同格式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457200" y="1170000"/>
          <a:ext cx="4033800" cy="1851120"/>
        </p:xfrm>
        <a:graphic>
          <a:graphicData uri="http://schemas.openxmlformats.org/drawingml/2006/table">
            <a:tbl>
              <a:tblPr/>
              <a:tblGrid>
                <a:gridCol w="2017800"/>
                <a:gridCol w="966600"/>
                <a:gridCol w="1049400"/>
              </a:tblGrid>
              <a:tr h="48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7  I6  I5  I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3 I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1 I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O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S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4320"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ADDR/DISP/X1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DATA/ADDR/DISP/X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7B63-B6CB-46F6-9391-C17A0BE231C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5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</a:rPr>
              <a:t>格式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操作码扩展指令格式</a:t>
            </a:r>
            <a:r>
              <a:rPr b="1" lang="zh-CN" sz="3200" spc="-1" strike="noStrike">
                <a:solidFill>
                  <a:srgbClr val="5086c2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4033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</a:rPr>
              <a:t>OP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——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操作码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位，是单寄存器地址指令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16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条）的操作码，可通过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</a:rPr>
              <a:t>I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黑体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</a:rPr>
              <a:t> I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为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1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方式实现散转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4653000" y="1076400"/>
          <a:ext cx="4033800" cy="1584360"/>
        </p:xfrm>
        <a:graphic>
          <a:graphicData uri="http://schemas.openxmlformats.org/drawingml/2006/table">
            <a:tbl>
              <a:tblPr/>
              <a:tblGrid>
                <a:gridCol w="1141200"/>
                <a:gridCol w="1678320"/>
                <a:gridCol w="1214280"/>
              </a:tblGrid>
              <a:tr h="5284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I7  I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I5 I4 I3 I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I1 I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宋体"/>
                        </a:rPr>
                        <a:t>O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宋体"/>
                        </a:rPr>
                        <a:t>SR/ 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8840"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宋体"/>
                        </a:rPr>
                        <a:t>DATA/ADDR/DISP/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6" name=""/>
          <p:cNvSpPr/>
          <p:nvPr/>
        </p:nvSpPr>
        <p:spPr>
          <a:xfrm>
            <a:off x="611280" y="2708280"/>
            <a:ext cx="7921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R/D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同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ADDR/DISP/X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指令的第二个字，为寻址方式中所用到的立即数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DATA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、直接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间接地址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ADD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，或者是相对寻址的偏移量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DISP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，或者是变址寻址的形式地址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CF95-0AA1-4370-B401-5A08D6DA8BD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模型机寻址方式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488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模型机的指令系统，可实现：寄存器直接、寄存器间接、直接、间接、相对、变址、立即数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</a:rPr>
              <a:t>种基本寻址方式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对于其中相对复杂的寻址方式（直接、间接、相对、变址），可以由指令中的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MOD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字段来定义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简单的寻址方式可以直接由指令操作码指定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注意：任何一种寻址方式，均可以直接由指令操作码隐含指定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用户也可以根据需要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</a:rPr>
              <a:t>自行设计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一些特殊的寻址方式，例如相对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的偏移量寻址方法，即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EA=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+ADD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BA2D-8367-4394-B73D-93D98CE6323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带寻址方式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MOD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的指令格式（格式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77151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对于指令格式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假设定义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MOD=0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：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直接寻址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则有效地址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EA=ADD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操作数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=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ADD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；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MOD=0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：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间接寻址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则有效地址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EA=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ADD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，操作数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=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ADD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）；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MOD=1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：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变址寻址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则有效地址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EA=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I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+X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操作数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=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I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+X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；其中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I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为变址寄存器，隐含为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R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；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MOD=1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：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相对寻址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则有效地址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EA=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P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+DISP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操作数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=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P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+DISP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；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558E-624F-4626-8402-1E2F1A4E19C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416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设计原则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的格式必须按照规定的格式设计，即操作码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OP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、源寄存器号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、目的寄存器号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D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必须按格式规定固定长度和位置，若按照格式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设计指令，则操作码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OP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分为两段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寻址方式的设计，可以根据需要，或由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MOD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字段定义，或由操作码隐含指定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类型及功能的设计，只需满足程序设计的要求和需求即可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操作码的分配设计，要注意规整性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hlinkClick r:id="rId1" action="ppaction://hlinksldjump"/>
              </a:rPr>
              <a:t>模型机指令设计举例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hlinkClick r:id="rId2" action="ppaction://hlinksldjump"/>
              </a:rPr>
              <a:t>1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hlinkClick r:id="rId3" action="ppaction://hlinksldjump"/>
              </a:rPr>
              <a:t>模型机指令设计举例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hlinkClick r:id="rId4" action="ppaction://hlinksldjump"/>
              </a:rPr>
              <a:t>2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③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模型机指令系统设计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46EB-5998-4836-B3B3-0299B4FFBC1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指令系统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77151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不用专门的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MOD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字段指出寻址方式，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寻址方式由指令码定义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4649760" y="2085840"/>
          <a:ext cx="4033800" cy="911520"/>
        </p:xfrm>
        <a:graphic>
          <a:graphicData uri="http://schemas.openxmlformats.org/drawingml/2006/table">
            <a:tbl>
              <a:tblPr/>
              <a:tblGrid>
                <a:gridCol w="1593720"/>
                <a:gridCol w="1182960"/>
                <a:gridCol w="1257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00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*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R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825120" y="2173320"/>
            <a:ext cx="358848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1.  MOV1  #DATA , Rd 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DATA</a:t>
            </a:r>
            <a:r>
              <a:rPr b="1" lang="zh-CN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26920" y="3211560"/>
            <a:ext cx="3529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2. MOV2  Rs, [Addr]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(Rs)</a:t>
            </a:r>
            <a:r>
              <a:rPr b="1" lang="zh-CN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Add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4649760" y="3465360"/>
          <a:ext cx="4033800" cy="935280"/>
        </p:xfrm>
        <a:graphic>
          <a:graphicData uri="http://schemas.openxmlformats.org/drawingml/2006/table">
            <a:tbl>
              <a:tblPr/>
              <a:tblGrid>
                <a:gridCol w="1593720"/>
                <a:gridCol w="1182960"/>
                <a:gridCol w="1257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000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*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5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Add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>
            <a:off x="826920" y="4364280"/>
            <a:ext cx="352908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3. ADD  [Addr], Rd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(Addr)+(Rd)</a:t>
            </a:r>
            <a:r>
              <a:rPr b="1" lang="zh-CN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4649760" y="4933800"/>
          <a:ext cx="4033800" cy="936720"/>
        </p:xfrm>
        <a:graphic>
          <a:graphicData uri="http://schemas.openxmlformats.org/drawingml/2006/table">
            <a:tbl>
              <a:tblPr/>
              <a:tblGrid>
                <a:gridCol w="1593720"/>
                <a:gridCol w="1182960"/>
                <a:gridCol w="125712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01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*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R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6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Add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4" name=""/>
          <p:cNvSpPr/>
          <p:nvPr/>
        </p:nvSpPr>
        <p:spPr>
          <a:xfrm>
            <a:off x="3203640" y="6114960"/>
            <a:ext cx="914400" cy="482760"/>
          </a:xfrm>
          <a:prstGeom prst="rect">
            <a:avLst/>
          </a:prstGeom>
          <a:solidFill>
            <a:srgbClr val="ff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Times New Roman"/>
                <a:ea typeface="黑体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A933-9481-4C0F-B494-C1E75C42E0F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684000" y="475920"/>
            <a:ext cx="4322520" cy="865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4.   IN Rd,[Addr];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(Port Addr)</a:t>
            </a:r>
            <a:r>
              <a:rPr b="0" lang="zh-CN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Rd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686" name=""/>
          <p:cNvSpPr/>
          <p:nvPr/>
        </p:nvSpPr>
        <p:spPr>
          <a:xfrm>
            <a:off x="684360" y="1630440"/>
            <a:ext cx="4322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5.   OUT [Addr],Rs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(Rs)</a:t>
            </a:r>
            <a:r>
              <a:rPr b="1" lang="zh-CN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 Port Add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5292720" y="476280"/>
          <a:ext cx="2873520" cy="792000"/>
        </p:xfrm>
        <a:graphic>
          <a:graphicData uri="http://schemas.openxmlformats.org/drawingml/2006/table">
            <a:tbl>
              <a:tblPr/>
              <a:tblGrid>
                <a:gridCol w="863640"/>
                <a:gridCol w="1114560"/>
                <a:gridCol w="895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00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R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5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Port Ad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5299200" y="1630440"/>
          <a:ext cx="2873160" cy="804960"/>
        </p:xfrm>
        <a:graphic>
          <a:graphicData uri="http://schemas.openxmlformats.org/drawingml/2006/table">
            <a:tbl>
              <a:tblPr/>
              <a:tblGrid>
                <a:gridCol w="863640"/>
                <a:gridCol w="1114200"/>
                <a:gridCol w="895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0001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R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82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Port Ad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9" name=""/>
          <p:cNvSpPr/>
          <p:nvPr/>
        </p:nvSpPr>
        <p:spPr>
          <a:xfrm>
            <a:off x="684360" y="3718080"/>
            <a:ext cx="424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7. HL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5292720" y="3789360"/>
          <a:ext cx="2873520" cy="433440"/>
        </p:xfrm>
        <a:graphic>
          <a:graphicData uri="http://schemas.openxmlformats.org/drawingml/2006/table">
            <a:tbl>
              <a:tblPr/>
              <a:tblGrid>
                <a:gridCol w="934920"/>
                <a:gridCol w="1043280"/>
                <a:gridCol w="8953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0011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**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691" name=""/>
          <p:cNvSpPr/>
          <p:nvPr/>
        </p:nvSpPr>
        <p:spPr>
          <a:xfrm>
            <a:off x="684360" y="2709720"/>
            <a:ext cx="431928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6.   Jmp [Addr]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(Addr)</a:t>
            </a:r>
            <a:r>
              <a:rPr b="1" lang="zh-CN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 P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299200" y="2709720"/>
          <a:ext cx="2873160" cy="804960"/>
        </p:xfrm>
        <a:graphic>
          <a:graphicData uri="http://schemas.openxmlformats.org/drawingml/2006/table">
            <a:tbl>
              <a:tblPr/>
              <a:tblGrid>
                <a:gridCol w="863640"/>
                <a:gridCol w="1114200"/>
                <a:gridCol w="89532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001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**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07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Ad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93" name=""/>
          <p:cNvSpPr/>
          <p:nvPr/>
        </p:nvSpPr>
        <p:spPr>
          <a:xfrm>
            <a:off x="684360" y="4340160"/>
            <a:ext cx="4249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8. DEC Rd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(Rd)-1 </a:t>
            </a:r>
            <a:r>
              <a:rPr b="1" lang="zh-CN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5292720" y="4341960"/>
          <a:ext cx="2873520" cy="433080"/>
        </p:xfrm>
        <a:graphic>
          <a:graphicData uri="http://schemas.openxmlformats.org/drawingml/2006/table">
            <a:tbl>
              <a:tblPr/>
              <a:tblGrid>
                <a:gridCol w="934920"/>
                <a:gridCol w="1043280"/>
                <a:gridCol w="895320"/>
              </a:tblGrid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01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R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695" name=""/>
          <p:cNvSpPr/>
          <p:nvPr/>
        </p:nvSpPr>
        <p:spPr>
          <a:xfrm>
            <a:off x="684360" y="5661000"/>
            <a:ext cx="42480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JZ  Addr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FZ=1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则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Addr</a:t>
            </a: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PC;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否则结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5299200" y="4941720"/>
          <a:ext cx="2873160" cy="409680"/>
        </p:xfrm>
        <a:graphic>
          <a:graphicData uri="http://schemas.openxmlformats.org/drawingml/2006/table">
            <a:tbl>
              <a:tblPr/>
              <a:tblGrid>
                <a:gridCol w="934920"/>
                <a:gridCol w="1042920"/>
                <a:gridCol w="89532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0101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R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684360" y="4941720"/>
            <a:ext cx="4248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9. INC Rd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(Rd)+1 </a:t>
            </a:r>
            <a:r>
              <a:rPr b="1" lang="zh-CN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292720" y="5589720"/>
          <a:ext cx="2873520" cy="804600"/>
        </p:xfrm>
        <a:graphic>
          <a:graphicData uri="http://schemas.openxmlformats.org/drawingml/2006/table">
            <a:tbl>
              <a:tblPr/>
              <a:tblGrid>
                <a:gridCol w="863640"/>
                <a:gridCol w="1114560"/>
                <a:gridCol w="895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011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**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07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Ad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99" name=""/>
          <p:cNvSpPr/>
          <p:nvPr/>
        </p:nvSpPr>
        <p:spPr>
          <a:xfrm>
            <a:off x="8229600" y="5877000"/>
            <a:ext cx="735120" cy="360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Times New Roman"/>
                <a:ea typeface="黑体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D095-DE3B-4ADF-B22C-E2FC1899F71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5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466560" y="189000"/>
          <a:ext cx="8209080" cy="6481800"/>
        </p:xfrm>
        <a:graphic>
          <a:graphicData uri="http://schemas.openxmlformats.org/drawingml/2006/table">
            <a:tbl>
              <a:tblPr/>
              <a:tblGrid>
                <a:gridCol w="2160720"/>
                <a:gridCol w="3456000"/>
                <a:gridCol w="25923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程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功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汇编结果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(M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地址：机器指令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MOV1 #04H,R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4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R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0H:000000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1H:00000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MOV2 R1, [11H]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(R1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11H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2H:00010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3H:000100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IN [01H], R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(INPUT DEVICE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R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4H:110000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5H:000000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MOV2 R1, [10H]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(R1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10H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6H:00010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7H:000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IN [01H], R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(INPUT DEVICE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(R1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8H:110000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9H:000000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ADD [10H], R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(10H)+(R1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R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AH:001000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BH:000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OUT R1, [02H]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(R1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OUTPUT DEV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CH:110001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DH:000000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JMP [11H]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(11H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P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EH:11001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Times New Roman"/>
                        </a:rPr>
                        <a:t>0FH:000100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pic>
        <p:nvPicPr>
          <p:cNvPr id="7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92280" y="1057320"/>
            <a:ext cx="819360" cy="4287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29000" y="1704960"/>
            <a:ext cx="819000" cy="42876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529000" y="2424240"/>
            <a:ext cx="819000" cy="4284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529000" y="4657680"/>
            <a:ext cx="819000" cy="42876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529000" y="5376960"/>
            <a:ext cx="819000" cy="4284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529000" y="6095880"/>
            <a:ext cx="819000" cy="42876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6084720" y="836640"/>
            <a:ext cx="2594160" cy="647640"/>
          </a:xfrm>
          <a:prstGeom prst="rect">
            <a:avLst/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084720" y="1557360"/>
            <a:ext cx="2594160" cy="720720"/>
          </a:xfrm>
          <a:prstGeom prst="rect">
            <a:avLst/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84720" y="2349360"/>
            <a:ext cx="2594160" cy="648000"/>
          </a:xfrm>
          <a:prstGeom prst="rect">
            <a:avLst/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084720" y="3068640"/>
            <a:ext cx="2594160" cy="647640"/>
          </a:xfrm>
          <a:prstGeom prst="rect">
            <a:avLst/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084720" y="3860640"/>
            <a:ext cx="2594160" cy="576360"/>
          </a:xfrm>
          <a:prstGeom prst="rect">
            <a:avLst/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084720" y="4508640"/>
            <a:ext cx="2594160" cy="649080"/>
          </a:xfrm>
          <a:prstGeom prst="rect">
            <a:avLst/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084720" y="5300640"/>
            <a:ext cx="2594160" cy="576360"/>
          </a:xfrm>
          <a:prstGeom prst="rect">
            <a:avLst/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084720" y="6021360"/>
            <a:ext cx="2594160" cy="576360"/>
          </a:xfrm>
          <a:prstGeom prst="rect">
            <a:avLst/>
          </a:prstGeom>
          <a:solidFill>
            <a:srgbClr val="de884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3"/>
          <a:stretch/>
        </p:blipFill>
        <p:spPr>
          <a:xfrm>
            <a:off x="872496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6E3F-B6E2-48A7-9D09-4277C1FFBB0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3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操作码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488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操作码长度固定：将操作码集中放在指令字的一个字段内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这种格式便于硬件设计，指令译码时间短，广泛应用于字长较长的、大中型计算机和超级小型计算机以及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RISC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Reduced Instruction Set Computer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中。如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IBM370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和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VAX-11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系列机，操作码长度均为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8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位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操作码长度不固定：指令操作码分散在指令字的不同字段中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这种格式可有效地压缩操作码的平均长度，在字长较短的微机中被广泛采用。如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PDP-11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，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Intel8086/80386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等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1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DEEC-E35C-4607-9183-C30D9DA7BC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指令系统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</a:rPr>
              <a:t>共有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</a:rPr>
              <a:t>12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</a:rPr>
              <a:t>条指令，分为：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59d2"/>
                </a:solidFill>
                <a:uFillTx/>
                <a:latin typeface="黑体"/>
                <a:hlinkClick r:id="rId1" action="ppaction://hlinksldjump"/>
              </a:rPr>
              <a:t>5</a:t>
            </a:r>
            <a:r>
              <a:rPr b="0" lang="zh-CN" sz="2800" spc="-1" strike="noStrike" u="sng">
                <a:solidFill>
                  <a:srgbClr val="4c59d2"/>
                </a:solidFill>
                <a:uFillTx/>
                <a:latin typeface="黑体"/>
                <a:hlinkClick r:id="rId2" action="ppaction://hlinksldjump"/>
              </a:rPr>
              <a:t>条双寄存器算术逻辑运算类指令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59d2"/>
                </a:solidFill>
                <a:uFillTx/>
                <a:latin typeface="黑体"/>
                <a:hlinkClick r:id="rId3" action="ppaction://hlinksldjump"/>
              </a:rPr>
              <a:t>3</a:t>
            </a:r>
            <a:r>
              <a:rPr b="0" lang="zh-CN" sz="2800" spc="-1" strike="noStrike" u="sng">
                <a:solidFill>
                  <a:srgbClr val="4c59d2"/>
                </a:solidFill>
                <a:uFillTx/>
                <a:latin typeface="黑体"/>
                <a:hlinkClick r:id="rId4" action="ppaction://hlinksldjump"/>
              </a:rPr>
              <a:t>条单寄存器指令 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59d2"/>
                </a:solidFill>
                <a:uFillTx/>
                <a:latin typeface="黑体"/>
                <a:hlinkClick r:id="rId5" action="ppaction://hlinksldjump"/>
              </a:rPr>
              <a:t>4</a:t>
            </a:r>
            <a:r>
              <a:rPr b="0" lang="zh-CN" sz="2800" spc="-1" strike="noStrike" u="sng">
                <a:solidFill>
                  <a:srgbClr val="4c59d2"/>
                </a:solidFill>
                <a:uFillTx/>
                <a:latin typeface="黑体"/>
                <a:hlinkClick r:id="rId6" action="ppaction://hlinksldjump"/>
              </a:rPr>
              <a:t>条存储器访问类指令 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59d2"/>
                </a:solidFill>
                <a:uFillTx/>
                <a:latin typeface="黑体"/>
                <a:hlinkClick r:id="rId7" action="ppaction://hlinksldjump"/>
              </a:rPr>
              <a:t>2</a:t>
            </a:r>
            <a:r>
              <a:rPr b="0" lang="zh-CN" sz="2800" spc="-1" strike="noStrike" u="sng">
                <a:solidFill>
                  <a:srgbClr val="4c59d2"/>
                </a:solidFill>
                <a:uFillTx/>
                <a:latin typeface="黑体"/>
                <a:hlinkClick r:id="rId8" action="ppaction://hlinksldjump"/>
              </a:rPr>
              <a:t>条</a:t>
            </a:r>
            <a:r>
              <a:rPr b="0" lang="zh-CN" sz="2800" spc="-1" strike="noStrike" u="sng">
                <a:solidFill>
                  <a:srgbClr val="4c59d2"/>
                </a:solidFill>
                <a:uFillTx/>
                <a:latin typeface="黑体"/>
                <a:hlinkClick r:id="rId9" action="ppaction://hlinksldjump"/>
              </a:rPr>
              <a:t>I/O</a:t>
            </a:r>
            <a:r>
              <a:rPr b="0" lang="zh-CN" sz="2800" spc="-1" strike="noStrike" u="sng">
                <a:solidFill>
                  <a:srgbClr val="4c59d2"/>
                </a:solidFill>
                <a:uFillTx/>
                <a:latin typeface="黑体"/>
                <a:hlinkClick r:id="rId10" action="ppaction://hlinksldjump"/>
              </a:rPr>
              <a:t>指令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59d2"/>
                </a:solidFill>
                <a:uFillTx/>
                <a:latin typeface="黑体"/>
                <a:hlinkClick r:id="rId11" action="ppaction://hlinksldjump"/>
              </a:rPr>
              <a:t>2</a:t>
            </a:r>
            <a:r>
              <a:rPr b="0" lang="zh-CN" sz="2800" spc="-1" strike="noStrike" u="sng">
                <a:solidFill>
                  <a:srgbClr val="4c59d2"/>
                </a:solidFill>
                <a:uFillTx/>
                <a:latin typeface="黑体"/>
                <a:hlinkClick r:id="rId12" action="ppaction://hlinksldjump"/>
              </a:rPr>
              <a:t>条过程控制类指令 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59d2"/>
                </a:solidFill>
                <a:uFillTx/>
                <a:latin typeface="黑体"/>
                <a:hlinkClick r:id="rId13" action="ppaction://hlinksldjump"/>
              </a:rPr>
              <a:t>程序设计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4"/>
          <a:stretch/>
        </p:blipFill>
        <p:spPr>
          <a:xfrm>
            <a:off x="4572000" y="6165720"/>
            <a:ext cx="419040" cy="4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3F0A-C5BD-4AD6-B3A2-CA729793891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条双寄存器算术逻辑运算类指令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411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格式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操作码及功能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4497480" y="1076400"/>
          <a:ext cx="3887640" cy="1062000"/>
        </p:xfrm>
        <a:graphic>
          <a:graphicData uri="http://schemas.openxmlformats.org/drawingml/2006/table">
            <a:tbl>
              <a:tblPr/>
              <a:tblGrid>
                <a:gridCol w="1944720"/>
                <a:gridCol w="931680"/>
                <a:gridCol w="1011240"/>
              </a:tblGrid>
              <a:tr h="531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7  I6  I5  I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3 I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1 I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O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S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468360" y="2276640"/>
          <a:ext cx="8136000" cy="3725640"/>
        </p:xfrm>
        <a:graphic>
          <a:graphicData uri="http://schemas.openxmlformats.org/drawingml/2006/table">
            <a:tbl>
              <a:tblPr/>
              <a:tblGrid>
                <a:gridCol w="2374920"/>
                <a:gridCol w="1728720"/>
                <a:gridCol w="403236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操作码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功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V  DR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SR)→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DD  DR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SR)+(DR)→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B  DR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DR)-(SR)→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ND  DR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SR)∧(DR)→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RC  DR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SR)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进行带进位循环右移→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4572000" y="6165720"/>
            <a:ext cx="419040" cy="4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A513-36F1-4037-B1F1-FEE353ED7E3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条单寄存器指令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3581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格式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操作码及功能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4211640" y="1197000"/>
          <a:ext cx="3887640" cy="1079640"/>
        </p:xfrm>
        <a:graphic>
          <a:graphicData uri="http://schemas.openxmlformats.org/drawingml/2006/table">
            <a:tbl>
              <a:tblPr/>
              <a:tblGrid>
                <a:gridCol w="915840"/>
                <a:gridCol w="1828800"/>
                <a:gridCol w="1143000"/>
              </a:tblGrid>
              <a:tr h="5493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7  I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5  I4  I3 I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1 I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O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DR/S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836640" y="2708280"/>
          <a:ext cx="7167240" cy="2803320"/>
        </p:xfrm>
        <a:graphic>
          <a:graphicData uri="http://schemas.openxmlformats.org/drawingml/2006/table">
            <a:tbl>
              <a:tblPr/>
              <a:tblGrid>
                <a:gridCol w="2006640"/>
                <a:gridCol w="1730160"/>
                <a:gridCol w="343044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操作码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功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C  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DR)+1→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EC  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DR)-1→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LR  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→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4572000" y="6165720"/>
            <a:ext cx="419040" cy="4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46FE-E81E-4658-B61F-45732F89489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条存储器访问类指令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4032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格式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操作码及功能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I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隐含为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R2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4140360" y="1170000"/>
          <a:ext cx="4033800" cy="1297080"/>
        </p:xfrm>
        <a:graphic>
          <a:graphicData uri="http://schemas.openxmlformats.org/drawingml/2006/table">
            <a:tbl>
              <a:tblPr/>
              <a:tblGrid>
                <a:gridCol w="946080"/>
                <a:gridCol w="1238040"/>
                <a:gridCol w="925560"/>
                <a:gridCol w="924120"/>
              </a:tblGrid>
              <a:tr h="423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7  I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5  I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3 I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1 I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MO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OP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4080"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ADDR/DISP/X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503280" y="2997360"/>
          <a:ext cx="8101080" cy="2447640"/>
        </p:xfrm>
        <a:graphic>
          <a:graphicData uri="http://schemas.openxmlformats.org/drawingml/2006/table">
            <a:tbl>
              <a:tblPr/>
              <a:tblGrid>
                <a:gridCol w="828720"/>
                <a:gridCol w="1295280"/>
                <a:gridCol w="1440000"/>
                <a:gridCol w="1009440"/>
                <a:gridCol w="719280"/>
                <a:gridCol w="2808360"/>
              </a:tblGrid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M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寻址方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E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助记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P</a:t>
                      </a:r>
                      <a:r>
                        <a:rPr b="0" lang="en-US" sz="16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功能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直接寻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ADD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LD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[EA]→D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0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间接寻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[ADDR]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T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R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）→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变址寻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SI</a:t>
                      </a: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）</a:t>
                      </a: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+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JMP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A→P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相对寻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PC</a:t>
                      </a: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）</a:t>
                      </a:r>
                      <a:r>
                        <a:rPr b="0" lang="zh-CN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+DISP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JZ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若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C+FZ=1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，则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A→ PC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，否则，结束指令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4572000" y="6165720"/>
            <a:ext cx="419040" cy="4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1CD4-1AFD-485F-8447-9BFFB7C051A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8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条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I/O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指令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3581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格式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操作码及功能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4421160" y="1170000"/>
          <a:ext cx="3887640" cy="1636560"/>
        </p:xfrm>
        <a:graphic>
          <a:graphicData uri="http://schemas.openxmlformats.org/drawingml/2006/table">
            <a:tbl>
              <a:tblPr/>
              <a:tblGrid>
                <a:gridCol w="915840"/>
                <a:gridCol w="1828800"/>
                <a:gridCol w="1143000"/>
              </a:tblGrid>
              <a:tr h="5763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7  I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5  I4  I3 I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1 I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O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9920"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PORTA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973080" y="3357720"/>
          <a:ext cx="7344000" cy="1649160"/>
        </p:xfrm>
        <a:graphic>
          <a:graphicData uri="http://schemas.openxmlformats.org/drawingml/2006/table">
            <a:tbl>
              <a:tblPr/>
              <a:tblGrid>
                <a:gridCol w="2470320"/>
                <a:gridCol w="1633320"/>
                <a:gridCol w="3240360"/>
              </a:tblGrid>
              <a:tr h="50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操作码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功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  DR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[PORTAR]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PORTAR)→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UT  DR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[PORTAR]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DR)→ PORTAR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4572000" y="6165720"/>
            <a:ext cx="419040" cy="4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85C3-091F-4CE8-A0E9-67E27EBC82A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7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条过程控制类指令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365904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格式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CALL  ADDR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(PC)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→(SP),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(SP)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－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→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SP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</a:rPr>
              <a:t>ADDR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→PC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4421160" y="1170000"/>
          <a:ext cx="3887640" cy="1636560"/>
        </p:xfrm>
        <a:graphic>
          <a:graphicData uri="http://schemas.openxmlformats.org/drawingml/2006/table">
            <a:tbl>
              <a:tblPr/>
              <a:tblGrid>
                <a:gridCol w="915840"/>
                <a:gridCol w="1828800"/>
                <a:gridCol w="1143000"/>
              </a:tblGrid>
              <a:tr h="5763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7  I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5  I4  I3 I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1 I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00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××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9920"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ADD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2" name=""/>
          <p:cNvSpPr/>
          <p:nvPr/>
        </p:nvSpPr>
        <p:spPr>
          <a:xfrm>
            <a:off x="755640" y="3303720"/>
            <a:ext cx="3456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格式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R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(SP)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＋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→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SP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((SP))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Times New Roman"/>
              </a:rPr>
              <a:t>→P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4498920" y="3376440"/>
          <a:ext cx="3672000" cy="1106640"/>
        </p:xfrm>
        <a:graphic>
          <a:graphicData uri="http://schemas.openxmlformats.org/drawingml/2006/table">
            <a:tbl>
              <a:tblPr/>
              <a:tblGrid>
                <a:gridCol w="865080"/>
                <a:gridCol w="1727280"/>
                <a:gridCol w="1079640"/>
              </a:tblGrid>
              <a:tr h="5763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7  I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5  I4  I3 I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I1 I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00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黑体"/>
                          <a:ea typeface="宋体"/>
                        </a:rPr>
                        <a:t>××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4572000" y="6165720"/>
            <a:ext cx="419040" cy="4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2CE5-E3BF-45C8-89F7-EB36C197067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400" fill="hold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400" fill="hold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2" dur="2000"/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5" name=""/>
          <p:cNvGraphicFramePr/>
          <p:nvPr/>
        </p:nvGraphicFramePr>
        <p:xfrm>
          <a:off x="468360" y="476280"/>
          <a:ext cx="8280360" cy="5072040"/>
        </p:xfrm>
        <a:graphic>
          <a:graphicData uri="http://schemas.openxmlformats.org/drawingml/2006/table">
            <a:tbl>
              <a:tblPr/>
              <a:tblGrid>
                <a:gridCol w="733320"/>
                <a:gridCol w="1567080"/>
                <a:gridCol w="2019240"/>
                <a:gridCol w="3960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地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机器码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助记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备注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10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LR  R</a:t>
                      </a:r>
                      <a:r>
                        <a:rPr b="0" lang="en-US" sz="16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zh-CN" sz="16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当作累加器。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1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0000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1010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LDA  R</a:t>
                      </a:r>
                      <a:r>
                        <a:rPr b="0" lang="zh-CN" sz="16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[2BH]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直接地址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B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zh-CN" sz="16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当作计数器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变址寄存器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其初值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AH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存放在单元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BH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中。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2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3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10000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111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L1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LDA  R</a:t>
                      </a:r>
                      <a:r>
                        <a:rPr b="0" lang="zh-CN" sz="16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[SI+1FH]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取出需要累加的数据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采用变址寻址方式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第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次地址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=29H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4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5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101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DD  R</a:t>
                      </a:r>
                      <a:r>
                        <a:rPr b="0" lang="zh-CN" sz="16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zh-CN" sz="16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累加。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6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1000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EC  R</a:t>
                      </a:r>
                      <a:r>
                        <a:rPr b="0" lang="en-US" sz="16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计数器递减；并影响标志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Z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7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1111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000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JZC  L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相对位移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3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C+FZ=1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循环，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C+FZ=0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（无借位不为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）退出循环。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8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9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0001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1010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TA  [2AH],R</a:t>
                      </a:r>
                      <a:r>
                        <a:rPr b="0" lang="zh-CN" sz="16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直接地址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A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存储累加和；采用直接寻址方式。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A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B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001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000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JMP  L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直接地址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3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无条件转移；采用直接寻址方式。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C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D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00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L2: JMP [00H]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转移至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H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单元。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0675-6415-4AD6-9802-FF13DCFF739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"/>
          <p:cNvGraphicFramePr/>
          <p:nvPr/>
        </p:nvGraphicFramePr>
        <p:xfrm>
          <a:off x="468360" y="692280"/>
          <a:ext cx="8280360" cy="3054240"/>
        </p:xfrm>
        <a:graphic>
          <a:graphicData uri="http://schemas.openxmlformats.org/drawingml/2006/table">
            <a:tbl>
              <a:tblPr/>
              <a:tblGrid>
                <a:gridCol w="733320"/>
                <a:gridCol w="1567080"/>
                <a:gridCol w="2019240"/>
                <a:gridCol w="3960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地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机器码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助记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备注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黑体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0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数据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数据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9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数据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A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1+N2+……+N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累加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B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0001010B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计数值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A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747" name=""/>
          <p:cNvSpPr/>
          <p:nvPr/>
        </p:nvSpPr>
        <p:spPr>
          <a:xfrm>
            <a:off x="539640" y="479736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作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请仿照前例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写出例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给出的程序中每条机器指令对应的二进制代码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用</a:t>
            </a:r>
            <a:r>
              <a:rPr b="1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存储器地址：机器语言程序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的形式写出来 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4572000" y="6165720"/>
            <a:ext cx="419040" cy="41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291F-D295-4DB9-B6B9-AD0CE143355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本章小结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77151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机器指令由操作码字段和地址码字段组成。扩展操作码技术实现指令优化，但也增加了硬件设计难度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的寻址方式包括指令寻址和数据寻址，指令寻址主要是顺序和跳跃两种方式；数据寻址有许多种寻址方式，其目的是获得本条指令执行所需要的操作数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根据指令的功能，可将指令分类为数据传送、算术逻辑运算类、移位操作类、转移类、堆栈操作类、输入输出类等指令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系统的设计应满足完备性、有效性、规整性、兼容性四个方面的要求。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CIS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系统庞大的指令集及其存在问题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RIS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指令以它简洁、高效等特点而得到快速地发展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通过两种指令系统例子，细述了模型机指令系统设计方法，使读者结合实际理解和掌握指令系统的设计方法。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4572000" y="6165720"/>
            <a:ext cx="419040" cy="4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584B-04C8-435F-BBCF-D434354F956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2124000" y="2133720"/>
            <a:ext cx="4535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Rounded MT Bold"/>
              </a:rPr>
              <a:t>The  End 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E088-9019-4028-8EA6-5BB8EE429B4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地址码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000" y="1076400"/>
            <a:ext cx="442116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（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）三地址指令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A1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OP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A2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→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A3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076720" y="1268280"/>
          <a:ext cx="3672000" cy="504720"/>
        </p:xfrm>
        <a:graphic>
          <a:graphicData uri="http://schemas.openxmlformats.org/drawingml/2006/table">
            <a:tbl>
              <a:tblPr/>
              <a:tblGrid>
                <a:gridCol w="918000"/>
                <a:gridCol w="918000"/>
                <a:gridCol w="918000"/>
                <a:gridCol w="918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黑体"/>
                        </a:rPr>
                        <a:t>O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黑体"/>
                        </a:rPr>
                        <a:t>A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黑体"/>
                        </a:rPr>
                        <a:t>A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黑体"/>
                        </a:rPr>
                        <a:t>A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84360" y="2349360"/>
            <a:ext cx="4248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  <a:ea typeface="黑体"/>
              </a:rPr>
              <a:t>）二地址指令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A1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OP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A2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）→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A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A1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：目的操作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A2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：源操作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4076640"/>
            <a:ext cx="5111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  <a:ea typeface="黑体"/>
              </a:rPr>
              <a:t>）单地址指令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ACC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OP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）→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AC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OP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）→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单目操作：如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NEG(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取反，即加负号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INC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（自增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）等指令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076720" y="2492280"/>
          <a:ext cx="3598920" cy="365400"/>
        </p:xfrm>
        <a:graphic>
          <a:graphicData uri="http://schemas.openxmlformats.org/drawingml/2006/table">
            <a:tbl>
              <a:tblPr/>
              <a:tblGrid>
                <a:gridCol w="1200240"/>
                <a:gridCol w="1198440"/>
                <a:gridCol w="1200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黑体"/>
                        </a:rPr>
                        <a:t>O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黑体"/>
                        </a:rPr>
                        <a:t>A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黑体"/>
                        </a:rPr>
                        <a:t>A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227640" y="4076640"/>
          <a:ext cx="2376720" cy="365040"/>
        </p:xfrm>
        <a:graphic>
          <a:graphicData uri="http://schemas.openxmlformats.org/drawingml/2006/table">
            <a:tbl>
              <a:tblPr/>
              <a:tblGrid>
                <a:gridCol w="1189080"/>
                <a:gridCol w="118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黑体"/>
                        </a:rPr>
                        <a:t>O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黑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9E13-8BD0-4F26-8DB3-206487B7C1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按照地址码分类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44211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（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）零地址指令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441360" indent="-25884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不涉及操作数：如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NOP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HLT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指令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441360" indent="-25884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操作数隐含：如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PUSH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POP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指令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对于寄存器类型的操作数，地址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A</a:t>
            </a: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指寄存器编号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364000" y="1844640"/>
          <a:ext cx="2737080" cy="365040"/>
        </p:xfrm>
        <a:graphic>
          <a:graphicData uri="http://schemas.openxmlformats.org/drawingml/2006/table">
            <a:tbl>
              <a:tblPr/>
              <a:tblGrid>
                <a:gridCol w="2737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黑体"/>
                        </a:rPr>
                        <a:t>O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27640" y="5889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8268-35F8-4136-924B-269B929B0D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、操作数类型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7643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按照指令处理的操作数存放位置分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441360" indent="-258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存储器类型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操作数存放在主存中，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为其地址信息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441360" indent="-258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寄存器类型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操作数存放在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CPU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的通用寄存器中，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为寄存器号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441360" indent="-258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立即数类型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操作数存放在指令（地址字段）中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59d2"/>
                </a:solidFill>
                <a:latin typeface="黑体"/>
              </a:rPr>
              <a:t>按照指令处理的操作数性质分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441360" indent="-258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地址（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addresses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：存储器地址，是无符号整数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441360" indent="-258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数字（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numbers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：整数、浮点数、十进制数。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441360" indent="-258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字符（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characters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 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441360" indent="-258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逻辑数据：真假两种状态</a:t>
            </a:r>
            <a:endParaRPr b="0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595008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CA20-0896-42B8-8AA9-3B7EE21EDB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5:40:17Z</dcterms:created>
  <dc:creator>冯建文</dc:creator>
  <dc:description/>
  <dc:language>en-US</dc:language>
  <cp:lastModifiedBy>a</cp:lastModifiedBy>
  <dcterms:modified xsi:type="dcterms:W3CDTF">2011-05-12T12:16:32Z</dcterms:modified>
  <cp:revision>161</cp:revision>
  <dc:subject>第6章 指令系统</dc:subject>
  <dc:title>计算机组成原理</dc:title>
</cp:coreProperties>
</file>