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89B-E250-4BC9-857E-48B2CDD3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11C-5B39-447D-A31D-E318E3B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992-A820-41FA-8A68-9329E15D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4C4-6967-46A3-8E16-33246482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87E-3D0D-4CCE-8009-5C27328D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C4-77E1-44A0-B8D8-8747626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708-CE3C-4FDB-A27A-7B6B12D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10A-8DD0-494A-BD45-9B44298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CED-BF7E-4D41-B2AB-CE5B9A88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DDD-EB3D-4230-A251-E44F7CF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DEE-16D9-47AC-8911-CE90B78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CB5-A623-4A73-9E06-5931025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08320" y="0"/>
            <a:ext cx="32353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章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erilog HDL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基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16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5C7-787A-45FE-8DA9-FF46EEAFCB3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C7F1-2C12-4926-8008-24D34BF86C7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260280"/>
            <a:ext cx="556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计算机组成原理课程设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5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54.xml"/><Relationship Id="rId19" Type="http://schemas.openxmlformats.org/officeDocument/2006/relationships/slide" Target="slide54.xml"/><Relationship Id="rId20" Type="http://schemas.openxmlformats.org/officeDocument/2006/relationships/slide" Target="slide54.xml"/><Relationship Id="rId21" Type="http://schemas.openxmlformats.org/officeDocument/2006/relationships/slide" Target="slide66.xml"/><Relationship Id="rId22" Type="http://schemas.openxmlformats.org/officeDocument/2006/relationships/slide" Target="slide66.xml"/><Relationship Id="rId23" Type="http://schemas.openxmlformats.org/officeDocument/2006/relationships/slide" Target="slide66.xml"/><Relationship Id="rId24" Type="http://schemas.openxmlformats.org/officeDocument/2006/relationships/slide" Target="slide66.xml"/><Relationship Id="rId2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章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Verilog HD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基础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宋体"/>
              </a:rPr>
              <a:t>主讲教师：冯建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fengjianwen@hdu.edu.c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735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40000"/>
              </a:lnSpc>
              <a:spcBef>
                <a:spcPts val="9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Arial"/>
              </a:rPr>
              <a:t>举例：</a:t>
            </a:r>
            <a:endParaRPr b="1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26920" y="2205000"/>
                <a:ext cx="2808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4284720" y="1268280"/>
          <a:ext cx="360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268280"/>
                    <a:ext cx="360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55640" y="3848040"/>
            <a:ext cx="7993080" cy="244008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ul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First_M (A, B, C, D, E, F ); 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端口名和端口列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, B, C, D, E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声明输入端口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声明输出端口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, B, C, D, E, F;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声明端口的数据类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ssign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  F = ~ (( A &amp; B &amp;C) | ( D &amp;E ))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逻辑功能描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851280" y="62802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BAA-AAE6-4386-AEB3-1EF6D27809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4A722-4D38-46AD-ABBF-95A622958E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完整的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erilog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模块由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个部分组成：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模块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端口类型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数据类型声明和变量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逻辑功能描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ED0-C700-46DF-9A8F-F277D943371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65700-3F12-4980-879D-77373FBD4A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模块声明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odule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模块名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端口名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1,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端口名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,……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端口名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n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……               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其他语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ndmodule          //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模块结束关键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个模块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必须有一个模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惟一地标识这个模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端口列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描述这个模块的输入和输出端口，它是可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没有端口列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模块进行调用时，按端口列表定义分别连接到模块实例的端口列表信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中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不允许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模块声明中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嵌套模块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39A-79FB-47A5-8F02-411D523558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0BB73-7C3D-4263-964E-B799A788B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端口类型定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是指模块与外界或其他模块进行连接、通信的信号线，它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模块与外界环境交互的接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就好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芯片的输入、输出引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外界来说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模块内部是不可见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对模块的调用只能通过模块实例的端口进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定义用于指明端口列表中每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端口的类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端口：输入引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端口：输出引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向端口，双向引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64B-595A-4685-9B1A-F211958D9C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DFDF5-4BD7-4162-A81A-BB6C646A35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端口类型定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989000"/>
            <a:ext cx="7200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[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位宽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]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入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, 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入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,……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入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[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位宽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]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出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, 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出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,……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输出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in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[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位宽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]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双向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, 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双向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,……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双向端口名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500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位宽的格式是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[high:low]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，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high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指明最高位的序号，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low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指明最低位的序号，它们都是常量，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low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一般是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或者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0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位宽省略时，表明是默认位宽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；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不同位宽的端口要分别定义。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37B-F1BD-4575-84E0-0F1AF6B7DE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46A15-0817-4295-9A64-9FE65D0174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端口类型定义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565360"/>
            <a:ext cx="8351640" cy="247212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put[3:0]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 b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位宽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的输入端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,a[3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高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,a[0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为低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cin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 c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输入端口，默认位宽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output[4:1]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um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 su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的输出端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,sum[4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高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,sum[1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为低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out [31:0]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bus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bu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的双向端口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24C-7334-45F0-90D1-692C412FD4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0AA33-9C56-410D-9B31-B8225F3317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数据类型声明和变量定义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描述中使用的所有信号（包括端口、寄存器和中间变量等）都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必须要事先定义，声明其数据类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方可使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数据类型，最常用的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线网型（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寄存器型（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参数型（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rameter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、寄存器、信号和参数等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声明部分必须在使用前出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数据类型声明缺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器将其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默认为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B01-9055-46F3-85FD-389BBEF3EA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2D4C6-1A9D-4DEB-B999-DCCA656C7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数据类型声明和变量定义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492280"/>
            <a:ext cx="7954920" cy="142344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 [3:0]  a,b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的数据类型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的寄存器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re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cin, cou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c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cou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的数据类型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位线网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wi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50720" indent="-450720">
              <a:lnSpc>
                <a:spcPct val="13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parameter x=8, y=x*2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定义常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，常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AF9-36A7-494C-B7C6-8E33055AA2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FB15-702E-47E1-8A8C-BB5091C1F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声明与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逻辑功能描述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一个模块中最重要的部分，用于描述模块的行为和功能、子模块的调用和连接、逻辑门的调用、用户自定义部件的调用、初始态赋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、连续赋值语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中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方式描述其逻辑功能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结构描述方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使用开关级原语、门级原语和用户定义的原语方式描述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数据流描述方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连续赋值语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行描述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行为描述方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过程结构描述时序行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描述方式的混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9280" y="6021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313-5CF7-4CD7-A777-C6511092AA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D0398-A9CE-4F94-8B5E-9DF7E57F2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实例与调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块的声明类似于一个模板，使用这个模板就可以创建实际的对象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创建对象方法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调用模块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从模板创建对象的过程，称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实例化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；创建的对象称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模块实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块间的相互调用就是通过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引用实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来完成的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90360" y="4357800"/>
            <a:ext cx="5865840" cy="1769760"/>
          </a:xfrm>
          <a:prstGeom prst="rect">
            <a:avLst/>
          </a:prstGeom>
          <a:solidFill>
            <a:srgbClr val="ffffcc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华文中宋"/>
              </a:rPr>
              <a:t>顺序端口连接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模块名称 实例名称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(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, 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,……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)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华文中宋"/>
              </a:rPr>
              <a:t>命名端口连接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模块名称 实例名称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( .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模块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(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1), .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模块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(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2)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……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,.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模块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(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华文中宋"/>
              </a:rPr>
              <a:t>实例端口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华文中宋"/>
              </a:rPr>
              <a:t>n))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1ED-4171-49DC-893F-63B5DD71D2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6AE4B-D663-4DD6-AFFA-2681F25C0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403280" y="1333440"/>
            <a:ext cx="6454440" cy="655200"/>
            <a:chOff x="1403280" y="1333440"/>
            <a:chExt cx="6454440" cy="655200"/>
          </a:xfrm>
        </p:grpSpPr>
        <p:sp>
          <p:nvSpPr>
            <p:cNvPr id="102" name=""/>
            <p:cNvSpPr/>
            <p:nvPr/>
          </p:nvSpPr>
          <p:spPr>
            <a:xfrm>
              <a:off x="1403280" y="133344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5520" y="144936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基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03280" y="2781360"/>
            <a:ext cx="6454440" cy="655200"/>
            <a:chOff x="1403280" y="2781360"/>
            <a:chExt cx="6454440" cy="655200"/>
          </a:xfrm>
        </p:grpSpPr>
        <p:sp>
          <p:nvSpPr>
            <p:cNvPr id="106" name=""/>
            <p:cNvSpPr/>
            <p:nvPr/>
          </p:nvSpPr>
          <p:spPr>
            <a:xfrm>
              <a:off x="1403280" y="278136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5520" y="289728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03280" y="2060640"/>
            <a:ext cx="6454440" cy="655200"/>
            <a:chOff x="1403280" y="2060640"/>
            <a:chExt cx="6454440" cy="655200"/>
          </a:xfrm>
        </p:grpSpPr>
        <p:sp>
          <p:nvSpPr>
            <p:cNvPr id="109" name=""/>
            <p:cNvSpPr/>
            <p:nvPr/>
          </p:nvSpPr>
          <p:spPr>
            <a:xfrm>
              <a:off x="1403280" y="206064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1360" y="2151360"/>
              <a:ext cx="6085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908000" y="2131920"/>
            <a:ext cx="456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" action="ppaction://hlinksldjump"/>
              </a:rPr>
              <a:t>3.2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" action="ppaction://hlinksldjump"/>
              </a:rPr>
              <a:t>Verilog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3" action="ppaction://hlinksldjump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4" action="ppaction://hlinksldjump"/>
              </a:rPr>
              <a:t>HDL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5" action="ppaction://hlinksldjump"/>
              </a:rPr>
              <a:t>的模块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6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96640" y="1415880"/>
            <a:ext cx="327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7" action="ppaction://hlinksldjump"/>
              </a:rPr>
              <a:t>3.1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8" action="ppaction://hlinksldjump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9" action="ppaction://hlinksldjump"/>
              </a:rPr>
              <a:t>Verilog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0" action="ppaction://hlinksldjump"/>
              </a:rPr>
              <a:t> HDL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1" action="ppaction://hlinksldjump"/>
              </a:rPr>
              <a:t>概述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12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8680" y="2838600"/>
            <a:ext cx="1879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3" action="ppaction://hlinksldjump"/>
              </a:rPr>
              <a:t>3.3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4" action="ppaction://hlinksldjump"/>
              </a:rPr>
              <a:t>词法约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15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4213080"/>
            <a:ext cx="6454440" cy="655560"/>
            <a:chOff x="1403280" y="4213080"/>
            <a:chExt cx="6454440" cy="655560"/>
          </a:xfrm>
        </p:grpSpPr>
        <p:sp>
          <p:nvSpPr>
            <p:cNvPr id="115" name=""/>
            <p:cNvSpPr/>
            <p:nvPr/>
          </p:nvSpPr>
          <p:spPr>
            <a:xfrm>
              <a:off x="1403280" y="4213080"/>
              <a:ext cx="6454440" cy="655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95520" y="432900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403280" y="3494160"/>
            <a:ext cx="6454440" cy="655200"/>
            <a:chOff x="1403280" y="3494160"/>
            <a:chExt cx="6454440" cy="655200"/>
          </a:xfrm>
        </p:grpSpPr>
        <p:sp>
          <p:nvSpPr>
            <p:cNvPr id="118" name=""/>
            <p:cNvSpPr/>
            <p:nvPr/>
          </p:nvSpPr>
          <p:spPr>
            <a:xfrm>
              <a:off x="1403280" y="349416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11360" y="3584880"/>
              <a:ext cx="6085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08000" y="3573360"/>
            <a:ext cx="456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6" action="ppaction://hlinksldjump"/>
              </a:rPr>
              <a:t>3.4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7" action="ppaction://hlinksldjump"/>
              </a:rPr>
              <a:t>数据类型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3880" y="4278240"/>
            <a:ext cx="246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8" action="ppaction://hlinksldjump"/>
              </a:rPr>
              <a:t>3.5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9" action="ppaction://hlinksldjump"/>
              </a:rPr>
              <a:t>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0" action="ppaction://hlinksldjump"/>
              </a:rPr>
              <a:t>表达式与操作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30280" y="5653080"/>
            <a:ext cx="6454440" cy="655200"/>
            <a:chOff x="1430280" y="5653080"/>
            <a:chExt cx="6454440" cy="655200"/>
          </a:xfrm>
        </p:grpSpPr>
        <p:sp>
          <p:nvSpPr>
            <p:cNvPr id="123" name=""/>
            <p:cNvSpPr/>
            <p:nvPr/>
          </p:nvSpPr>
          <p:spPr>
            <a:xfrm>
              <a:off x="1430280" y="565308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520" y="5769000"/>
              <a:ext cx="6085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430280" y="4933800"/>
            <a:ext cx="6454440" cy="655560"/>
            <a:chOff x="1430280" y="4933800"/>
            <a:chExt cx="6454440" cy="655560"/>
          </a:xfrm>
        </p:grpSpPr>
        <p:sp>
          <p:nvSpPr>
            <p:cNvPr id="126" name=""/>
            <p:cNvSpPr/>
            <p:nvPr/>
          </p:nvSpPr>
          <p:spPr>
            <a:xfrm>
              <a:off x="1430280" y="4933800"/>
              <a:ext cx="6454440" cy="655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8360" y="5024520"/>
              <a:ext cx="6085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935000" y="501336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  <a:ea typeface="华文中宋"/>
              </a:rPr>
              <a:t>3.6  </a:t>
            </a:r>
            <a:r>
              <a:rPr b="1" lang="zh-CN" sz="2800" spc="-1" strike="noStrike">
                <a:solidFill>
                  <a:srgbClr val="2ca3c8"/>
                </a:solidFill>
                <a:latin typeface="Arial"/>
                <a:ea typeface="华文中宋"/>
              </a:rPr>
              <a:t>系统任务和函数</a:t>
            </a:r>
            <a:r>
              <a:rPr b="1" lang="zh-CN" sz="1600" spc="-1" strike="noStrike">
                <a:solidFill>
                  <a:srgbClr val="2ca3c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6440" y="5718240"/>
            <a:ext cx="37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1" action="ppaction://hlinksldjump"/>
              </a:rPr>
              <a:t>3.7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2" action="ppaction://hlinksldjump"/>
              </a:rPr>
              <a:t>Verilog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3" action="ppaction://hlinksldjump"/>
              </a:rPr>
              <a:t> HDL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4" action="ppaction://hlinksldjump"/>
              </a:rPr>
              <a:t>建模方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BA1-8B20-48DD-A174-A0060972A9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63811-3177-4BC6-8A2D-85B55A401E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实例与调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使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.1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模块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irst_M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创建一个实例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MyFirst_UU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279880"/>
            <a:ext cx="691200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First_M _Inst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创建实例的模块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 b, c, d, e, f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声明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6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个线网信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First_M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 MyFirst_UUT (a, b, c, d, e, f)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1916280"/>
            <a:ext cx="1584360" cy="1728720"/>
          </a:xfrm>
          <a:prstGeom prst="wedgeRoundRectCallout">
            <a:avLst>
              <a:gd name="adj1" fmla="val -150500"/>
              <a:gd name="adj2" fmla="val 181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顺序端口连接，默认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a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连接到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A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，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b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连接到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B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，依次类推，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f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连接到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3866040"/>
            <a:ext cx="4824360" cy="2562840"/>
          </a:xfrm>
          <a:prstGeom prst="rect">
            <a:avLst/>
          </a:prstGeom>
          <a:solidFill>
            <a:srgbClr val="ffcc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module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First_M _Ins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创建实例的模块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reg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a, b, c, d, e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声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5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个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reg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信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f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声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个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信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First_M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MyFirst_UUT (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.F(f) ,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.A(a)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.B(b),.C(c), .D(d),.E(e)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);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3933720"/>
            <a:ext cx="1584360" cy="936720"/>
          </a:xfrm>
          <a:prstGeom prst="wedgeRoundRectCallout">
            <a:avLst>
              <a:gd name="adj1" fmla="val -277453"/>
              <a:gd name="adj2" fmla="val 7864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命名端口连接，可以不按声明的顺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584360" cy="936720"/>
          </a:xfrm>
          <a:prstGeom prst="wedgeRoundRectCallout">
            <a:avLst>
              <a:gd name="adj1" fmla="val -273449"/>
              <a:gd name="adj2" fmla="val -135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连接实例的输入端口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A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到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reg</a:t>
            </a:r>
            <a:r>
              <a:rPr b="1" lang="zh-CN" sz="1600" spc="-1" strike="noStrike">
                <a:solidFill>
                  <a:srgbClr val="cc3300"/>
                </a:solidFill>
                <a:latin typeface="Verdana"/>
              </a:rPr>
              <a:t>变量</a:t>
            </a: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9E3-6F2B-414B-A99A-76D73311EE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829C-50E2-4E1F-82AC-F89119D11F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实例与调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声明相当于定义了一个电路，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实例引用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即调用模块）就相当于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复制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了一个和模块相同的电路，然后将其端口信号与外部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信号连接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实例端口）。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模块实例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MyFirst_UU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和模块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First_M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关系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19280" y="3284640"/>
          <a:ext cx="5257800" cy="31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84640"/>
                    <a:ext cx="525780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19D-0650-4131-A41E-C2AC672C03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4A4AD-8945-49B0-8881-63FF8386BF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实例与调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当一个模块中调用（实例引用）另一个模块时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端口之间的连接必须遵守一些规则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否则会报错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87640" y="2421000"/>
          <a:ext cx="590544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59054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84360" y="3860640"/>
          <a:ext cx="5543280" cy="2764080"/>
        </p:xfrm>
        <a:graphic>
          <a:graphicData uri="http://schemas.openxmlformats.org/drawingml/2006/table">
            <a:tbl>
              <a:tblPr/>
              <a:tblGrid>
                <a:gridCol w="2376360"/>
                <a:gridCol w="1511280"/>
                <a:gridCol w="1655640"/>
              </a:tblGrid>
              <a:tr h="64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内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外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输入端口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eg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输出端口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eg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输入输出端口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nou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468360" y="24922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Verilog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中宋"/>
              </a:rPr>
              <a:t>允许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模块实例的端口保持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中宋"/>
              </a:rPr>
              <a:t>未连接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的状态 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804000" y="595008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70-F150-496E-AD30-2EA288AD69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54403-FB9A-4935-B81B-FB4D45494A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时间单位与时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型中，所有时延都根据单位时间来定义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编译器指令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`timescal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用于定义时延的单位和时延精度，将时间单位与实际时间相关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格式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`times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时延单位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时间精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延单位和时间精度：由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及单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`timescale 1ns/100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/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延单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时延精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p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即所有的时延必须被限定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n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`timescale 10ns/1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延单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n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时延精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E70-8C4A-4795-B64E-1AE61A1016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A6BAB-BE60-4635-A97A-2E51A0E3A8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时间单位与时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`timescal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编译器指令需在模块描述前定义，并且影响后面所有的时延值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2637000"/>
            <a:ext cx="3961080" cy="1343880"/>
          </a:xfrm>
          <a:prstGeom prst="rect">
            <a:avLst/>
          </a:prstGeom>
          <a:solidFill>
            <a:srgbClr val="ffffcc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华文中宋"/>
              </a:rPr>
              <a:t>`timescale 1ns/100p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华文中宋"/>
              </a:rPr>
              <a:t>assign #2 Sum = A ^ B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// #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指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个时间单位，即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2n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4365720"/>
            <a:ext cx="4390920" cy="1343880"/>
          </a:xfrm>
          <a:prstGeom prst="rect">
            <a:avLst/>
          </a:prstGeom>
          <a:solidFill>
            <a:srgbClr val="ffffcc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华文中宋"/>
              </a:rPr>
              <a:t>`timescale 10ns/1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华文中宋"/>
              </a:rPr>
              <a:t>assign #2 Sum = A ^ B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// #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指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个时间单位，即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20ns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华文中宋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2781360"/>
            <a:ext cx="2232000" cy="1152360"/>
          </a:xfrm>
          <a:prstGeom prst="wedgeRoundRectCallout">
            <a:avLst>
              <a:gd name="adj1" fmla="val -81722"/>
              <a:gd name="adj2" fmla="val 129476"/>
              <a:gd name="adj3" fmla="val 16667"/>
            </a:avLst>
          </a:prstGeom>
          <a:solidFill>
            <a:srgbClr val="2ca3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发生变化后延时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时间单位执行赋值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67280" y="6021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48C-8F58-4916-9C34-2D9CD776E4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18283-85DD-472A-A482-EFF4E40D8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词法约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语言类似，语言要素包括以下内容：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标识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关键字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注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格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160-3F79-4F65-A6C8-00C541B264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50EBA-5CB3-4183-97A7-382E38F03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词法约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标识符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字母或者下划线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头的，由字母、数字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符号和下划线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成的字符串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识符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区分大小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开头的标识符是为系统函数保留的，不能做普通标识符的起始字符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4508640"/>
            <a:ext cx="4175280" cy="1618560"/>
          </a:xfrm>
          <a:prstGeom prst="rect">
            <a:avLst/>
          </a:prstGeom>
          <a:solidFill>
            <a:srgbClr val="ccffff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合法标识符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u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UM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与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um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不同，区分大小写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_Row_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C79_F$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4508640"/>
            <a:ext cx="3995640" cy="1618560"/>
          </a:xfrm>
          <a:prstGeom prst="rect">
            <a:avLst/>
          </a:prstGeom>
          <a:solidFill>
            <a:srgbClr val="ffffcc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华文中宋"/>
              </a:rPr>
              <a:t>非法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标识符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$C79_F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不能以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$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开头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356_Day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不能以数字开头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n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and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是关键字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-T*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不能含有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和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*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等其他字符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835-CF02-4BD2-9E56-A595FA84489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79BCB-060B-4F89-B217-66B9DF39CC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词法约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关键字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保留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小写的关键字才是保留字。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5640" y="3141720"/>
          <a:ext cx="7920000" cy="3273480"/>
        </p:xfrm>
        <a:graphic>
          <a:graphicData uri="http://schemas.openxmlformats.org/drawingml/2006/table">
            <a:tbl>
              <a:tblPr/>
              <a:tblGrid>
                <a:gridCol w="1512720"/>
                <a:gridCol w="640728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常见关键字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定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module endmodule input output inout function endfunction task endtask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数据类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wire reg parameter integer signed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ssign always if else begin end case casex casez endcase default for posedge negedg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内置原语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nd or not nand nor xor xnor notif0 notif1 bufif0 bufif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0D3-4629-464D-A713-A9253A238D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D1CE3-12E4-4D31-9001-54DD567F36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词法约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注释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行注释：以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，忽略从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行尾的内容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行注释：以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*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，结束于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允许注释有多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行注释不允许嵌套，但是允许单行注释可以嵌套在多行注释中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0CE-F6A3-4255-99F9-751C16C32B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CDAF6-3B7D-497D-839F-ABB59A74C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词法约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格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分大小写，即大小写不同的标识符是不同的；但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关键字都是小写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自由格式的，即结构可以跨越多行编写，也可以在一行内编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3789360"/>
            <a:ext cx="7993080" cy="398880"/>
          </a:xfrm>
          <a:prstGeom prst="rect">
            <a:avLst/>
          </a:prstGeom>
          <a:solidFill>
            <a:srgbClr val="ccffff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initial begin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Top = 3'b001; #2 Top = 3' b011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end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一行书写完毕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508640"/>
            <a:ext cx="2881440" cy="1618560"/>
          </a:xfrm>
          <a:prstGeom prst="rect">
            <a:avLst/>
          </a:prstGeom>
          <a:solidFill>
            <a:srgbClr val="ffccff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initial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begin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Top = 3'b001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    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#2 Top = 3' b011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en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72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等价于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19640" y="595008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6A4-7BFA-489D-91CF-ECC20AA40C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5233F-6EC1-4C9E-9BB9-BFA92A348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1  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4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、数字电路的设计方法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2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、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Verilog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 HDL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程序结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80000" y="558972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31B-1C6A-4BAB-8185-4485E5153C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74771-9856-4696-BF49-0D083208A1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76520" y="2433600"/>
            <a:ext cx="4114800" cy="2643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03200" y="1714680"/>
            <a:ext cx="3040200" cy="1861920"/>
            <a:chOff x="1303200" y="1714680"/>
            <a:chExt cx="3040200" cy="1861920"/>
          </a:xfrm>
        </p:grpSpPr>
        <p:sp>
          <p:nvSpPr>
            <p:cNvPr id="245" name=""/>
            <p:cNvSpPr/>
            <p:nvPr/>
          </p:nvSpPr>
          <p:spPr>
            <a:xfrm>
              <a:off x="1303200" y="1714680"/>
              <a:ext cx="304020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2360" y="1765080"/>
              <a:ext cx="278748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585800" y="2344680"/>
            <a:ext cx="26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常量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03640" y="1700280"/>
            <a:ext cx="3040200" cy="1861920"/>
            <a:chOff x="5003640" y="1700280"/>
            <a:chExt cx="3040200" cy="1861920"/>
          </a:xfrm>
        </p:grpSpPr>
        <p:sp>
          <p:nvSpPr>
            <p:cNvPr id="249" name=""/>
            <p:cNvSpPr/>
            <p:nvPr/>
          </p:nvSpPr>
          <p:spPr>
            <a:xfrm>
              <a:off x="5003640" y="1700280"/>
              <a:ext cx="304020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22800" y="1750680"/>
              <a:ext cx="278748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219640" y="2333520"/>
            <a:ext cx="25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变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03200" y="3990960"/>
            <a:ext cx="3040200" cy="1862280"/>
            <a:chOff x="1303200" y="3990960"/>
            <a:chExt cx="3040200" cy="1862280"/>
          </a:xfrm>
        </p:grpSpPr>
        <p:sp>
          <p:nvSpPr>
            <p:cNvPr id="253" name=""/>
            <p:cNvSpPr/>
            <p:nvPr/>
          </p:nvSpPr>
          <p:spPr>
            <a:xfrm>
              <a:off x="1303200" y="3990960"/>
              <a:ext cx="304020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2360" y="4041720"/>
              <a:ext cx="278748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476360" y="4653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标量与向量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970520" y="3990960"/>
            <a:ext cx="3039840" cy="1862280"/>
            <a:chOff x="4970520" y="3990960"/>
            <a:chExt cx="3039840" cy="1862280"/>
          </a:xfrm>
        </p:grpSpPr>
        <p:sp>
          <p:nvSpPr>
            <p:cNvPr id="257" name=""/>
            <p:cNvSpPr/>
            <p:nvPr/>
          </p:nvSpPr>
          <p:spPr>
            <a:xfrm>
              <a:off x="4970520" y="3990960"/>
              <a:ext cx="303984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9320" y="4041720"/>
              <a:ext cx="278712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435640" y="45813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参数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383-5B81-4909-9C70-577E4A03C6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128BA-E317-4B7F-B651-003EC33766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信号值集合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“假”，低电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“真”，高电平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未知，不确定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高阻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门的输入或一个表达式中的为“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z”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值通常解释成“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x”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值和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值都是不分大小写的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也就是说，值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0x1z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与值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0X1Z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相同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中的常量是由以上这四类基本值组成的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49E-AED7-4468-8998-3F98AE6D80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E54E9-1E8B-44C3-B476-3AD53E8BB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中有三类常量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整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实数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字符串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F22-0570-4242-9160-3301DCA0172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0E440-F744-4073-903F-1E5B0F2C3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整型常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位数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&gt; ‘&lt;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进制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&gt; &lt;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数字序列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明数字的二进制位数，只能用十进制数表示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进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表明数字序列的进制，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进制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二进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八进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十进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十六进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数字序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用连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~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~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~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表示，不区分大小写，不同进制只能使用规定的部分数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5DD-7F10-4FD5-BFEF-FE9320C14FF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A1B33-89E0-4DD0-B155-8013A252D8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整型常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'b1x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（二进制）的二进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'O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（二进制）的八进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'D25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（二进制）的十进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'h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（二进制）的十六进制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49A-1073-4E1B-9F9D-8992AD0E765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96527-6250-46BF-968E-467C12050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整型常量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默认位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仿真器和使用的计算机有关（最小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默认进制：默认为十进制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负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在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位数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加负号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负数数值用二进制补码表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符号说明“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”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于表示参加算术运算是带符号数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下划线符号“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_”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出现在数字序列的任何位置，用来提高易读性，在编译阶段将被忽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？”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来代替高阻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以增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句的可读性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或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十六进制值中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在八进制中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在二进制中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高位自动扩展：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位数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数字序列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长度长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约定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高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则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动扩展，填补最高位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高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则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动扩展，填补最高位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截断：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位数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lt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数字序列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长度长短，最左边的位被截断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0E2-03AC-4A80-BEE3-786860616EC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63C8A-E7DF-46C3-9FE7-A3A22F3F5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实数常量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数常量定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进制计数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计数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.0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小数点两边都必须要有数字，不能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.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1125.678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0.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3_5.1e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后面的数字为指数；忽略下划线；真值为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23510.0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3.6E2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 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相同；其值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60.0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5E-4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其值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0.0005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AF8-DC58-4DA3-BCCB-BECEEDE2F55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7ECA4-2D87-412B-ADA1-B1ECA9573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字符串常量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符串是用双引号括起来的一个字符序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字符串的限制是：必须在一行中书写完，不能分成多行书写，也即不能包含回车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码表示字符串中的字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符串常量定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cc00"/>
                </a:solidFill>
                <a:latin typeface="Arial"/>
              </a:rPr>
              <a:t>"Hi,Verilog HDL!"</a:t>
            </a:r>
            <a:r>
              <a:rPr b="1" lang="sv-SE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是字符串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-&gt;HERE”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是字符串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eg [8*15:1] String_1;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nitial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tring_1 = "Hi,Verilog HDL!"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827-3D5A-42D0-8E52-5784D41D797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95B2A-8D4C-4082-BDA9-E71B969AB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常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字符串常量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特殊字符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显示字符串时具有特定的意义，例如换行符、制表符和显示参数的值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要在字符串中显示这些特殊字符，则必须在前面添加前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转义字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主要为反斜线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835280" y="3500280"/>
          <a:ext cx="5759280" cy="2808360"/>
        </p:xfrm>
        <a:graphic>
          <a:graphicData uri="http://schemas.openxmlformats.org/drawingml/2006/table">
            <a:tbl>
              <a:tblPr/>
              <a:tblGrid>
                <a:gridCol w="2208240"/>
                <a:gridCol w="3551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转义字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显示的特殊字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换行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tab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（制表空格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"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"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%%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\ooo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八进制数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ooo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对应的字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24360" y="62802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BE6-9690-49E2-9893-0D01143A7DF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AEF4B-BB00-4DF0-A728-17DC45021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种数据类型，依据其信号的物理特性，分为两大类：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线网类型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typ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寄存器类型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typ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4FD-BA34-46CF-8869-5D3C2C68141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D1CB9-5611-4F18-989A-B464A8D93E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字电路的设计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） 自下而上的设计方法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基本单元出发，对设计进行逐层划分的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）自上而下的设计方法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系统级开始，把系统划分为基本单元，然后再把基本单元划分为下一层次的基本单元，直到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D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件实现为止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）混合的设计方法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数字逻辑电路和系统设计过程，通常是以上两种设计方法的结合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高层系统用自上而下的设计方法实现，而使用自下而上的方法从库元件或设计库中调用已有的设计单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08360" y="6235560"/>
            <a:ext cx="1435320" cy="5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E12-3344-4D1F-84D9-98A5D62A9B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62E82-B131-478B-944D-EE9FB308B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线网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化元件间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物理连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它由其连接器件的输出来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连续驱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例如连续赋值或门的输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没有驱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件连接到线网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线网的缺省值为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线网数据类型包含下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种线网子类型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860640"/>
            <a:ext cx="3816360" cy="228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华文中宋"/>
              </a:rPr>
              <a:t>wire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华文中宋"/>
              </a:rPr>
              <a:t>：普通线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三态线网（多驱动源线网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wan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线与线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w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线或线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an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线与三态线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线或三态线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3280" y="4076640"/>
            <a:ext cx="4321440" cy="192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re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三态寄存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三态线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（无驱动源时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tri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三态线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（无驱动源时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upply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电源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upply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：电源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A2C-9AF7-45D1-B926-9931D2161E3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189D-02BE-4CAD-B6DC-31AC4C70A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线网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线网类型说明语法为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cc00"/>
                </a:solidFill>
                <a:latin typeface="Arial"/>
              </a:rPr>
              <a:t>net_type [msb:lsb] net1, net2, . . . , net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_typ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是上述线网类型的一种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用于定义线网位宽的常量表达式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宽定义是可选的；如果没有定义位宽，缺省的线网位宽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所有网线型数据类型中，最常用的是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ire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：用来表示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生成的组合逻辑信号，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信号在默认情况下自动定义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信号：可作为任何语句中的输入，也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和实例化元件的输出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CC3-471E-4ACA-A1FB-7D5556F3110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6107B-8904-4EF4-90AA-D85C8BF31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线网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声明举例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ady, Ack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连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ire [31: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ta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da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线网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and [2: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r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Add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的线与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的定义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非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 [4:0] x, [3:1]y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不同的位宽要分开定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[7:0]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格式不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0AA-D2FA-4CAA-90AC-3E3D4DCBD5C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FCC04-103F-4F29-9914-D0D276543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一个抽象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数据存储单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它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保持原有的数值，直到被改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存器类型变量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只能在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itial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语句中被赋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且它的值从一个赋值到另一个赋值之间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被保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存器类型的变量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具有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的缺省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种不同的寄存器类型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：寄存器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integer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：整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时间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实数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实数时间类型（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型完全相同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965-A05D-41CC-B18A-2F6092CDF4C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70FC9-C178-4129-9E4D-6CFE2AA7F0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常用的寄存器类型，对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触发器、锁存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具有状态保持功能的电路元件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的区别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需要持续地驱动，而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型变量保持最后一次的赋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的定义格式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[msb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sb]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, …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类型关键字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ms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sb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于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型变量的位宽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最高位序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s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最低位序号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不指定位宽，则自动默认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E3E-9B77-4656-A31C-50830734F5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EAE2E-FCF2-43D5-82A7-B4AF4DD90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[3: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m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Su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00"/>
                </a:solidFill>
                <a:latin typeface="Arial"/>
              </a:rPr>
              <a:t>reg [1:32]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MAR, MDR;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了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81B-D9AD-4DB6-8723-8965F34AF79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6331-0716-4B3E-957E-0D983F0C49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存储器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存储器类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常用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模，它实际上就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是寄存器的一维数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组的每个元素称为一个元素或者字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由索引来指定；字的位宽（字长）可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或者多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定义格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g [msb: lsb] memory1[lower1:upper1], memory2[lower2: upper2],. . . 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msb: lsb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存储器字的位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lower1: upper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存储器的字数（即数组的元素个数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92E-496F-4E81-B496-8A1D30619D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2A7B1-E955-4C81-B68E-4024C8F94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存储器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定义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[0:3] MyMem [0:63];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MyMem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64×4bits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存储器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membit [0:1023];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 membi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024×1bit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存储器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器属于寄存器数组类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组的维数不能大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网数据类型没有相应的存储器类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38C-9CC5-4238-ABBD-8708955787D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E7167-CECA-4ED1-A9C4-677E49EBF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存储器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定义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parameter ADDR_SIZE = 1024, WORD_SIZE = 8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g [0: WORD_SIZE-1] Ram1 [ ADDR_SIZE-1 : 0], DataReg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K×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寄存器数组（存储器）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R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寄存器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1[345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访问存储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址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那个单元的字节数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D1B-3767-48F1-8448-928E85ACCD3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CD02D-7688-4705-AD01-2B6B1AA03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存器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寄存器包含整数值，整数寄存器可以作为普通寄存器使用，典型应用为高层次行为建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整数型变量定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nteger integer1, integer2,. . . intergerN;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声明中容许无位界限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默认是宿主机的位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最少容纳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变量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符号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量是无符号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能作为位向量访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7C4-B25D-44C8-9EE3-6DDDC60443D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2C937-36B1-4004-98B9-3EDF0E5D8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程序就是模块的集合：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32000" y="1989000"/>
          <a:ext cx="58323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58323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025-A488-4506-8C44-91DA029595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6BD3E-115A-418A-B52C-4068EA89C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）寄存器类型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存器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定义举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00"/>
                </a:solidFill>
                <a:latin typeface="Arial"/>
              </a:rPr>
              <a:t>integer A, B, C;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整数型寄存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00"/>
                </a:solidFill>
                <a:latin typeface="Arial"/>
              </a:rPr>
              <a:t>integer List1 [3:6];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组四个寄存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92436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6BC-8318-4A2E-A23B-46B314E5679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149F0-E05F-4171-8A94-F6543FF1EA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标量与向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向量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宽大于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标量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宽为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网和寄存器类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数据均可声明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如果在声明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未指定位宽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默认为标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ire a;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标量线网变量，默认位宽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=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ire [15:0]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b,db;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定义了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的向量线网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[1:16]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R,DR;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定义了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的寄存器（向量）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g clk;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标量寄存器，默认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429-C1B0-442A-AC7B-E4E8A5AEF91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8F18C-5C78-46D0-B9F4-0FAF81227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标量与向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访问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wir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线网向量或者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eg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寄存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时，可以对向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体访问（全选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或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部分访问（位选或域选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wire [7:0] in,out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in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out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线网向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wire [4:1] temp1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 temp1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线网向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g [3:0] temp2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 temp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为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reg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寄存器向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ssign out=in;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8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全选，整体访问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ssign out[7:4]=in[3:0]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域选，将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in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的低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赋值给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out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的高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ssign out[6:3]=temp1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out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域选，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temp1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全选，将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temp1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赋值给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out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的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~6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ssign in[7:4]=temp2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reg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变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temp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对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wire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变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in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的高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持续驱动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2436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D38-E0AA-43AE-9E6E-482889D54D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3764-740F-4D54-899D-C1F51C6E2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参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参数是一个常量，常用于定义时延和变量的宽度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arameter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说明的参数只被赋值一次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参数说明形式如下：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00"/>
                </a:solidFill>
                <a:latin typeface="Arial"/>
              </a:rPr>
              <a:t>parameter param1=const_expr1, param2 = const_expr2 , . . .  , paramN = const_exprN;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定义举例：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arameter LINELENGTH = 132, ALL_X_S = 16'bx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   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整型常量参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00"/>
                </a:solidFill>
                <a:latin typeface="Arial"/>
              </a:rPr>
              <a:t>parameter BIT = 1, BYTE = 8, PI = 3.14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       //PI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是实数型常量参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00"/>
                </a:solidFill>
                <a:latin typeface="Arial"/>
              </a:rPr>
              <a:t>parameter STROBE_DELAY = ( BYTE + BIT) / 2;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                                             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由表达式计算结果赋值参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00"/>
                </a:solidFill>
                <a:latin typeface="Arial"/>
              </a:rPr>
              <a:t>parameter TQ_FILE = " /home/bhasker/TEST/add.tq";</a:t>
            </a:r>
            <a:r>
              <a:rPr b="1" lang="pt-BR" sz="2000" spc="-1" strike="noStrike">
                <a:solidFill>
                  <a:srgbClr val="00cc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                                           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字符串型常量参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924360" y="6235560"/>
            <a:ext cx="1434960" cy="5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D92-DFD3-4A57-BFC5-1FED9B696665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73EC-8403-40FB-AFA5-D412F6384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达式由操作数和操作符构成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其作用是根据操作符的意义对操作数计算出一个结果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操作数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常数、参数、线网、寄存器、线网和寄存器的位选与域选、时间、存储器、函数调用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量表达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在编译时就计算出常数值的表达式，常量表达式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量和参数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构成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标量表达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计算结果为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的表达式。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2D-2028-4352-A004-3373950B0F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F90D4-2B7F-44CB-97F5-D02414D910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注意区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符号数和有符号数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下列情况被当做无符号数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网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寄存器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数格式表示形式的整数，譬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’d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’d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下列情况被当做有符号数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寄存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进制形式的整数，譬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12 / 4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有符号数，结果是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-3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'd12 / 4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/*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无符号数，结果是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-1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的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位二进制补码除以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，即（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1d528d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-1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÷4=1073741821  */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EB4-0919-45DD-A467-850DD09E54E7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7062D-AC96-4DCC-8AD8-6411FCEA1B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算术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11280" y="2492280"/>
          <a:ext cx="8137440" cy="360036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657440"/>
                <a:gridCol w="345600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符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算术加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+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算术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-B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 0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乘法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*B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 11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除法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/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整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模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%D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取余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求幂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**E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US" sz="2000" spc="-1" strike="noStrike" baseline="30000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=4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5284080" y="1051200"/>
            <a:ext cx="324108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reg[3:0] A,B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interger C,D,E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A=4’b0110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B=4’b010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C=7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D=4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E=2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311-C8B9-4DF1-A1DD-59CBE1BB71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5BE02-C9E9-44FB-ACBB-3BB7E2496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逻辑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84360" y="2421000"/>
          <a:ext cx="7775280" cy="3456000"/>
        </p:xfrm>
        <a:graphic>
          <a:graphicData uri="http://schemas.openxmlformats.org/drawingml/2006/table">
            <a:tbl>
              <a:tblPr/>
              <a:tblGrid>
                <a:gridCol w="1620720"/>
                <a:gridCol w="1620720"/>
                <a:gridCol w="1619280"/>
                <a:gridCol w="291456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符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amp;&amp;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&amp;&amp;D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&amp;&amp;0=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||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 || D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 || 0=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非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a 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b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C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D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6162840" y="1195920"/>
            <a:ext cx="200952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a = 0 ;  b = 1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C =3 ;  D =0 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E=4’b0x1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1EC-B4FC-4ED0-B411-8B61F01EB52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25341-B5BD-46F3-AD37-CC1DE4F64D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关系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55640" y="2565360"/>
          <a:ext cx="7777080" cy="3168720"/>
        </p:xfrm>
        <a:graphic>
          <a:graphicData uri="http://schemas.openxmlformats.org/drawingml/2006/table">
            <a:tbl>
              <a:tblPr/>
              <a:tblGrid>
                <a:gridCol w="1660680"/>
                <a:gridCol w="2286000"/>
                <a:gridCol w="1658880"/>
                <a:gridCol w="217152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符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大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gt;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小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lt;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gt;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大于等于（不小于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gt;= B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lt;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小于等于（不大于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lt;= C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5756400" y="1411560"/>
            <a:ext cx="200952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A= 6 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B = 8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C=4’b0x1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B56-29D6-4C4A-9D53-0584AF9773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28C30-7782-4031-BBF0-1E2E1C1A57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等价操作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9640" y="2565360"/>
          <a:ext cx="8137440" cy="3313080"/>
        </p:xfrm>
        <a:graphic>
          <a:graphicData uri="http://schemas.openxmlformats.org/drawingml/2006/table">
            <a:tbl>
              <a:tblPr/>
              <a:tblGrid>
                <a:gridCol w="865080"/>
                <a:gridCol w="1224000"/>
                <a:gridCol w="1511280"/>
                <a:gridCol w="2203560"/>
                <a:gridCol w="2333520"/>
              </a:tblGrid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=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等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若操作数中有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则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==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E == G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不等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若操作数中有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则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!=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D!= E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==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全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比较包括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E === G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E === F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!=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不全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比较包括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D !== E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G !== E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5337720" y="1124280"/>
            <a:ext cx="317556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A= 6 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B = 8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C=4’b1001;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D=4’b101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E=4’b1xxz; 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F=4’b1xxx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d528d"/>
                </a:solidFill>
                <a:latin typeface="Arial"/>
              </a:rPr>
              <a:t>G=4’b1xxz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4DC-CA55-40C9-954E-88DF1B8E7CE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89EB8-903A-4DB2-AF52-B1E883FCD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华文中宋"/>
              </a:rPr>
              <a:t>模块：代表一个基本的功能块，一个模块可以是一个元件，也可以是低层次模块的组合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模块通过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接口（输入和输出端口）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被高层的模块调用，但隐藏了内部的实现细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使得设计者可以方便地对某个模块内部进行修改，而不影响设计的其他部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完成某个数字电路设计的过程，其实就是一个个模块的程序设计过程。  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5805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406-B304-47D0-B382-60A6ED88EF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2DF23-6022-4670-A93D-6ACE4F9B7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位运算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2492280"/>
          <a:ext cx="7416720" cy="3895560"/>
        </p:xfrm>
        <a:graphic>
          <a:graphicData uri="http://schemas.openxmlformats.org/drawingml/2006/table">
            <a:tbl>
              <a:tblPr/>
              <a:tblGrid>
                <a:gridCol w="1077840"/>
                <a:gridCol w="1311120"/>
                <a:gridCol w="1630440"/>
                <a:gridCol w="339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按位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amp; 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10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&amp; D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10x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按位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| B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11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 | 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1x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按位异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^B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1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^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xx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按位取反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A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D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xx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^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~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按位同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~^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10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~^C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080320" y="1416600"/>
            <a:ext cx="343296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=4’b1011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B=4’b110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C=4’b0000;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D=4’b1xxx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934-BACA-4BA1-B795-DF377EA71B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40140-5D9F-4217-99E0-078CB3642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959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26496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归约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419640" y="1341360"/>
          <a:ext cx="5510160" cy="4900320"/>
        </p:xfrm>
        <a:graphic>
          <a:graphicData uri="http://schemas.openxmlformats.org/drawingml/2006/table">
            <a:tbl>
              <a:tblPr/>
              <a:tblGrid>
                <a:gridCol w="828720"/>
                <a:gridCol w="1398600"/>
                <a:gridCol w="1193760"/>
                <a:gridCol w="2089080"/>
              </a:tblGrid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A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与非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&amp;B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&amp;D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 A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 D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或非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| C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| 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异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C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D 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pt-BR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^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~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归约同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^B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^D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906480" y="2851560"/>
            <a:ext cx="200952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=4’b1011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B=4’b110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C=4’b0000;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D=4’b1x0x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2FF-6D08-464E-9F90-25FA3EE1039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71005-B0A9-4D27-A5E8-C91E8C1F8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959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26496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移位操作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2565360"/>
          <a:ext cx="8208720" cy="3568680"/>
        </p:xfrm>
        <a:graphic>
          <a:graphicData uri="http://schemas.openxmlformats.org/drawingml/2006/table">
            <a:tbl>
              <a:tblPr/>
              <a:tblGrid>
                <a:gridCol w="931680"/>
                <a:gridCol w="1265400"/>
                <a:gridCol w="1234800"/>
                <a:gridCol w="477684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执行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数个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gt;&g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右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&gt;&gt;1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1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&gt;&gt;2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lt;&l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左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&lt;&lt;1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1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&lt;&lt;2   //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0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gt;&gt;&g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算术右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&gt;&gt;&gt;2  /*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sv-SE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111_ 1111_1111_ 1111_1111_1111_1111_1101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即</a:t>
                      </a:r>
                      <a:r>
                        <a:rPr b="1" lang="sv-SE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-3*/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lt;&lt;&l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算术左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C&lt;&lt;&lt;3  /*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结果为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sv-SE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1111_ 1111_1111_ 1111_1111_1111_1011_0000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即</a:t>
                      </a:r>
                      <a:r>
                        <a:rPr b="1" lang="sv-SE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-80*/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4503600" y="1124280"/>
            <a:ext cx="381492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=4’b1011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B=4’b1101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1d528d"/>
                </a:solidFill>
                <a:latin typeface="Arial"/>
              </a:rPr>
              <a:t>integer C=-10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1d528d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二进制为</a:t>
            </a:r>
            <a:r>
              <a:rPr b="1" lang="sv-SE" sz="2000" spc="-1" strike="noStrike">
                <a:solidFill>
                  <a:srgbClr val="1d528d"/>
                </a:solidFill>
                <a:latin typeface="Arial"/>
              </a:rPr>
              <a:t>1111_1111_1111_1111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1d528d"/>
                </a:solidFill>
                <a:latin typeface="Arial"/>
              </a:rPr>
              <a:t>_1111_1111_1111_011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4E3-80E1-4757-B14A-FB1763BEE40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30C6B-BBC9-4BC9-8217-3FF5B822F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264960">
              <a:lnSpc>
                <a:spcPct val="10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条件操作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条件表达式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真表达式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假表达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条件表达式为真（即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则运算返回真表达式；如果条件表达式为假（即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则运算返回假表达式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条件表达式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结果将真表达式和假表达式按位操作，运算逻辑如下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余情况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举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值大的那个数，则可以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 = (a&gt;b) ? a :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gt;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否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D9-C636-4C11-BF6F-68F9CD83FDF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675DE-A700-4CD9-AC10-0E54326B0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操作符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26496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拼接和复制操作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拼接：将小表达式合并形成大表达式，格式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1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, ……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n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制操作符：用于指定拼接时的重复次数，格式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重复次数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1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, ……,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n}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653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举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bus = {3{4'b1011}}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向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'b1011_1011_1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bus = {{4{Dbus[7]}}, Dbus}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用于符号扩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{3{1'b1}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果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{3{Ack}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果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Ack, Ack, Ack}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570-CCE0-48A7-B019-01AAA96E1ED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0753F-C5D3-4A97-B8E7-B5858390F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达式与操作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672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操作符优先级：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18576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条件操作符从右向左关联外，其余所有操作符自左向右关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最高优先级（顶行）到最低优先级（底行）排列，同一行中的操作符优先级相同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5805360"/>
            <a:ext cx="14353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284720" y="1052640"/>
          <a:ext cx="4573440" cy="5443560"/>
        </p:xfrm>
        <a:graphic>
          <a:graphicData uri="http://schemas.openxmlformats.org/drawingml/2006/table">
            <a:tbl>
              <a:tblPr/>
              <a:tblGrid>
                <a:gridCol w="1800000"/>
                <a:gridCol w="1511640"/>
                <a:gridCol w="1261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符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优先级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单目操作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+  -  !  ~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最高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乘、除、模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* 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/  %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加、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+   -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移位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gt;&gt;   &lt;&lt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lt;  &lt;=  &gt;  &gt;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等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==  !=  ===  !==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缩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逻辑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位运算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  ~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^  ~^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  ~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||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条件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?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最低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2FB-6429-4F67-A3CC-44DD403EA3F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F1D0C-2F4D-4580-8BC1-F7DC0918A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7  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08360" y="5734080"/>
            <a:ext cx="1435320" cy="5778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2411280" y="1549440"/>
            <a:ext cx="4392720" cy="655200"/>
            <a:chOff x="2411280" y="1549440"/>
            <a:chExt cx="4392720" cy="655200"/>
          </a:xfrm>
        </p:grpSpPr>
        <p:sp>
          <p:nvSpPr>
            <p:cNvPr id="357" name=""/>
            <p:cNvSpPr/>
            <p:nvPr/>
          </p:nvSpPr>
          <p:spPr>
            <a:xfrm>
              <a:off x="2411280" y="1549440"/>
              <a:ext cx="439272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41960" y="1665360"/>
              <a:ext cx="4141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11280" y="3573360"/>
            <a:ext cx="4392720" cy="655560"/>
            <a:chOff x="2411280" y="3573360"/>
            <a:chExt cx="4392720" cy="655560"/>
          </a:xfrm>
        </p:grpSpPr>
        <p:sp>
          <p:nvSpPr>
            <p:cNvPr id="360" name=""/>
            <p:cNvSpPr/>
            <p:nvPr/>
          </p:nvSpPr>
          <p:spPr>
            <a:xfrm>
              <a:off x="2411280" y="3573360"/>
              <a:ext cx="4392720" cy="655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1960" y="3689280"/>
              <a:ext cx="414144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411280" y="2563920"/>
            <a:ext cx="4392720" cy="655200"/>
            <a:chOff x="2411280" y="2563920"/>
            <a:chExt cx="4392720" cy="655200"/>
          </a:xfrm>
        </p:grpSpPr>
        <p:sp>
          <p:nvSpPr>
            <p:cNvPr id="363" name=""/>
            <p:cNvSpPr/>
            <p:nvPr/>
          </p:nvSpPr>
          <p:spPr>
            <a:xfrm>
              <a:off x="2411280" y="2563920"/>
              <a:ext cx="4392720" cy="6552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52760" y="2654640"/>
              <a:ext cx="4141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916360" y="263520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、结构建模方式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2720" y="163188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、建模方式概述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51160" y="363060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、数据流建模方式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11280" y="4573440"/>
            <a:ext cx="4392720" cy="655560"/>
            <a:chOff x="2411280" y="4573440"/>
            <a:chExt cx="4392720" cy="655560"/>
          </a:xfrm>
        </p:grpSpPr>
        <p:sp>
          <p:nvSpPr>
            <p:cNvPr id="369" name=""/>
            <p:cNvSpPr/>
            <p:nvPr/>
          </p:nvSpPr>
          <p:spPr>
            <a:xfrm>
              <a:off x="2411280" y="4573440"/>
              <a:ext cx="4392720" cy="655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52760" y="4664160"/>
              <a:ext cx="4141800" cy="43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916360" y="4653000"/>
            <a:ext cx="31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、行为建模方式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FD4-BF47-403A-9219-CC5519ED3DD7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742AB-BD2D-4C02-A142-19A1276104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块中，可用下述方式描述一个设计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结构描述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使用门级和开关级内置器件来设计与描述逻辑电路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数据流描述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通过说明数据的流程对模块的逻辑功能进行描述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行为描述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只注重电路实现的算法，对电路行为进行描述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混合描述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：上述描述方式的混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81C-492B-490A-A7CD-CB3E8E4C125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76EB6-AFB2-4B0C-9897-8C0D0F7564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3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三种基本建模方式，描述模块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ux2to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实现图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所示的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二选一电路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050920" y="2708280"/>
          <a:ext cx="52578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708280"/>
                    <a:ext cx="52578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448520" y="52286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位二选一电路图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A25-6558-43FE-BDA6-5C56E4E28F3E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24D1D-E3F6-4708-BE35-F45BA1C7E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结构描述方式：根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路结构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建模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2001600"/>
            <a:ext cx="5256360" cy="3143160"/>
          </a:xfrm>
          <a:prstGeom prst="rect">
            <a:avLst/>
          </a:prstGeom>
          <a:solidFill>
            <a:srgbClr val="ffccff"/>
          </a:solidFill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ux2to1_1(y,a,b,s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,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sn,sa,sb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no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u1(sn,s);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n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u2(sa,a,sn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nd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u3(sb,b,s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or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u4(y,sa,sb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551844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建模方法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使用基本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内置逻辑门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，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电路图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翻译成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Verilog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的模块语句。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023-3F25-4B2A-B3E7-28411857C086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3472F-900D-4B24-80B4-D2349DEC4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2  Verilog HD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模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6520" y="2433600"/>
            <a:ext cx="4114800" cy="26431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03200" y="1714680"/>
            <a:ext cx="3040200" cy="1861920"/>
            <a:chOff x="1303200" y="1714680"/>
            <a:chExt cx="3040200" cy="1861920"/>
          </a:xfrm>
        </p:grpSpPr>
        <p:sp>
          <p:nvSpPr>
            <p:cNvPr id="146" name=""/>
            <p:cNvSpPr/>
            <p:nvPr/>
          </p:nvSpPr>
          <p:spPr>
            <a:xfrm>
              <a:off x="1303200" y="1714680"/>
              <a:ext cx="304020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2360" y="1765080"/>
              <a:ext cx="278748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585800" y="2344680"/>
            <a:ext cx="26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模块的结构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970520" y="1714680"/>
            <a:ext cx="3039840" cy="1861920"/>
            <a:chOff x="4970520" y="1714680"/>
            <a:chExt cx="3039840" cy="1861920"/>
          </a:xfrm>
        </p:grpSpPr>
        <p:sp>
          <p:nvSpPr>
            <p:cNvPr id="150" name=""/>
            <p:cNvSpPr/>
            <p:nvPr/>
          </p:nvSpPr>
          <p:spPr>
            <a:xfrm>
              <a:off x="4970520" y="1714680"/>
              <a:ext cx="3039840" cy="186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9320" y="1765080"/>
              <a:ext cx="2787120" cy="175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219640" y="2133720"/>
            <a:ext cx="25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模块的声明与内容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03200" y="3990960"/>
            <a:ext cx="3040200" cy="1862280"/>
            <a:chOff x="1303200" y="3990960"/>
            <a:chExt cx="3040200" cy="1862280"/>
          </a:xfrm>
        </p:grpSpPr>
        <p:sp>
          <p:nvSpPr>
            <p:cNvPr id="154" name=""/>
            <p:cNvSpPr/>
            <p:nvPr/>
          </p:nvSpPr>
          <p:spPr>
            <a:xfrm>
              <a:off x="1303200" y="3990960"/>
              <a:ext cx="304020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22360" y="4041720"/>
              <a:ext cx="278748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76360" y="444960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模块实例与调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70520" y="3990960"/>
            <a:ext cx="3039840" cy="1862280"/>
            <a:chOff x="4970520" y="3990960"/>
            <a:chExt cx="3039840" cy="1862280"/>
          </a:xfrm>
        </p:grpSpPr>
        <p:sp>
          <p:nvSpPr>
            <p:cNvPr id="158" name=""/>
            <p:cNvSpPr/>
            <p:nvPr/>
          </p:nvSpPr>
          <p:spPr>
            <a:xfrm>
              <a:off x="4970520" y="3990960"/>
              <a:ext cx="3039840" cy="1862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89320" y="4041720"/>
              <a:ext cx="2787120" cy="175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435640" y="43657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时间单位与时延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196-51B5-40DD-A6B3-CCF65A3C82D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BEECA-0278-4EBA-B07A-27A33EFEB5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数据流描述方式：根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逻辑表达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建模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63640" y="2210040"/>
            <a:ext cx="5761080" cy="2533320"/>
          </a:xfrm>
          <a:prstGeom prst="rect">
            <a:avLst/>
          </a:prstGeom>
          <a:solidFill>
            <a:srgbClr val="ffccff"/>
          </a:solidFill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 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ux2to1_2(y,a,b,s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,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ssign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 = ((~s) &amp; a) | (s &amp; b);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等价于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ssign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 =(~s) ? a : b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00000" y="4900320"/>
            <a:ext cx="73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建模方法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根据最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逻辑表达式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，采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连续赋值语句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assign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）对输出变量进行赋值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特点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只关心逻辑表达式，而不关心具体的门电路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758-F545-4957-950B-5A489407E4AA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89AC5-73B3-4C92-A0C2-FEFA056CBF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行为描述方式：根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路行为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建模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2001960"/>
            <a:ext cx="4176720" cy="2838240"/>
          </a:xfrm>
          <a:prstGeom prst="rect">
            <a:avLst/>
          </a:prstGeom>
          <a:solidFill>
            <a:srgbClr val="ffccff"/>
          </a:solidFill>
          <a:ln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 mux2to1_3(y,a,b,s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wir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,b,s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y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lways @(s or a or b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f (!s) y = a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lse y = b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5119920"/>
            <a:ext cx="7921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建模方法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基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电路行为的因果关系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来描述模块的逻辑功能，它看不到电路的内部结构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只看到电路表现的行为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CF2-5EC8-4B5A-8A6D-9EB6D704BFDA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D719A-A6FD-4B2D-909C-F2BB18E22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模方式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总结：设计者可以根据需要，在每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内部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对逻辑功能进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同方式的描述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建模的抽象层次有关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块对外显示的功能都是一样的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仅与外部环境有关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内部的抽象层次无关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；而模块的内部结构对外部环境来说是透明的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erilog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个抽象层次：从低到高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开关级（几乎不用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门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据流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为级（或称算法级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寄存器传输级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RT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能够被逻辑综合工具综合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行为级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建模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流级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建模的结合。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292720" y="6093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1ED-45D9-4F04-A79C-9DB8807D068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23FCF-F2C5-4497-A89B-AAD15E66B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构建模方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通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调用逻辑元件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描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号之间的连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建立逻辑电路的模型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可使用的逻辑元件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内置开关（晶体管）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内置逻辑门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用户定义的门级原语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模块实例；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逻辑元件之间，通过使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网信号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来相互连接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52C-EC68-452E-AC4D-7E0A6640D54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1769D-469A-4531-9632-4F40758470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内置门级元件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71640" y="1901880"/>
          <a:ext cx="7416720" cy="4767120"/>
        </p:xfrm>
        <a:graphic>
          <a:graphicData uri="http://schemas.openxmlformats.org/drawingml/2006/table">
            <a:tbl>
              <a:tblPr/>
              <a:tblGrid>
                <a:gridCol w="792000"/>
                <a:gridCol w="1152720"/>
                <a:gridCol w="2376360"/>
                <a:gridCol w="3095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关键字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元件功能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Verdana"/>
                          <a:ea typeface="华文中宋"/>
                        </a:rPr>
                        <a:t>元件调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多输入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与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元件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实例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(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出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,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1&gt;,…,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n&gt;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nand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与非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n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或非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异或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xn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异或非（同或）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多输出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uf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缓冲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元件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实例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 (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1&gt;,……,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n&gt;,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输出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非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三态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低使能三态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元件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实例名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(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数据输出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,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数据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&gt;, &lt;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控制输入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);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高使能三态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低使能三态非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高使能三态非门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A2F-011A-48A9-BC35-999E65D66DDC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01652-B5B6-4A17-AA0C-0E1B859C91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结构建模方式，描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全加器模块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ull_Adde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电路如图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7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所示。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58920" y="2492280"/>
          <a:ext cx="597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92280"/>
                    <a:ext cx="597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DC0-BC5F-47C8-9E09-E75407B9226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F9835-A175-4B84-B6C3-5A479B2C4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全加器模块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ull_Adde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2060640"/>
            <a:ext cx="7129440" cy="4249800"/>
          </a:xfrm>
          <a:prstGeom prst="rect">
            <a:avLst/>
          </a:prstGeom>
          <a:solidFill>
            <a:srgbClr val="ccffff"/>
          </a:soli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module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 Full_Adder (Sum, Cout, X, Y, Cin)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um, Cout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X, Y, Cin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华文中宋"/>
              </a:rPr>
              <a:t>wi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1, T1, T2, T3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00"/>
                </a:solidFill>
                <a:latin typeface="Arial"/>
                <a:ea typeface="华文中宋"/>
              </a:rPr>
              <a:t>xor</a:t>
            </a:r>
            <a:r>
              <a:rPr b="1" lang="de-DE" sz="2000" spc="-1" strike="noStrike">
                <a:solidFill>
                  <a:srgbClr val="00cc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cc00"/>
                </a:solidFill>
                <a:latin typeface="Arial"/>
                <a:ea typeface="华文中宋"/>
              </a:rPr>
              <a:t>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XU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(S1, X, Y)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S1 = X ⊕ 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XU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(Sum, S1, Cin)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Sum = S1 ⊕ C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00"/>
                </a:solidFill>
                <a:latin typeface="Arial"/>
                <a:ea typeface="华文中宋"/>
              </a:rPr>
              <a:t>an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AU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(T1, X, Y)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T1 = X·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AU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(T2, X, Cin)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T2 = X·C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AU3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(T3, Y, Cin)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T3 = Y·C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00"/>
                </a:solidFill>
                <a:latin typeface="Arial"/>
                <a:ea typeface="华文中宋"/>
              </a:rPr>
              <a:t>o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  <a:ea typeface="华文中宋"/>
              </a:rPr>
              <a:t>OU1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(Cout, T1, T2, T3);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Cout = T1+T2+T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华文中宋"/>
              </a:rPr>
              <a:t>endmodu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6B7-D79F-4E43-A344-5A0B476368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77FD4-4EDD-418F-BE38-4AE108BAA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结构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3095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门级描述与结构建模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模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708360" y="1268280"/>
          <a:ext cx="48704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268280"/>
                    <a:ext cx="48704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403280" y="5805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3A4-8375-421E-91E1-2DD978923B5B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60CEB-D0B1-40E2-BD20-D7D44A07D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据流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据流建模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是通过信号变量之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逻辑关系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采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续赋值语句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sig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来描述逻辑电路的功能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际上，数据流描述就是将传统意义上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逻辑表达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来表达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逻辑综合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借助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算机辅助设计工具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自动将电路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据流设计直接转换为门级结构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数据流建模方式已经成为主流的设计方法 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D62-41E1-410A-ADA8-BE437C7584B3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6826E-DB58-45E7-852A-0B8217D6C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据流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.5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数据流建模方式，描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位全加器模块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ull_Adde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692360" y="2421000"/>
                <a:ext cx="3816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⊕</m:t>
                    </m:r>
                    <m:r>
                      <m:t xml:space="preserve">Y</m:t>
                    </m:r>
                    <m:r>
                      <m:t xml:space="preserve">⊕</m:t>
                    </m:r>
                    <m:r>
                      <m:rPr>
                        <m:lit/>
                        <m:nor/>
                      </m:rPr>
                      <m:t xml:space="preserve">C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90560" y="2997360"/>
                <a:ext cx="5977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u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⊕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1476360" y="3716280"/>
            <a:ext cx="59976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 Full_Adder (Sum, Cout, X, Y, Cin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822960" indent="-411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outp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um, Cout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822960" indent="-411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p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X, Y, Cin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822960" indent="-411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ass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Sum = X ^ Y ^ Cin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822960" indent="-411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ass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Cout = ( X &amp; Y ) | ((X ^ Y) &amp; Cin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9880" indent="-479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DE7-D415-4CFE-9096-D6E38392310D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65B94-39D2-4519-B3F5-134195200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模块是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Verilog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的基本描述单位，用于描述某个设计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功能或结构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及其与其他模块通信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外部端口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一个模块可以在另一个模块中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调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模块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并行运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的，通常需要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高层模块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通过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调用其他模块的实例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来定义一个封闭的系统，包括测试数据和硬件描述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C4C-381D-42FA-A307-CC003CBD18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B1B7D-95B5-4DA0-A8BA-A7376733F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据流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连续赋值语句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ssign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27144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来驱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变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因其不具备数据保持能力，只有被连续驱动后，才能取得确定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1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信号变量没有得到任何持续驱动，它的取值将是不确定的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连续赋值语句格式如下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ssign  #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延时量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wire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型变量名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=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赋值表达式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要右边赋值表达式中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使用的操作数发生变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重新计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式的值，新结果在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指定的时延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赋值给左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型变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lnSpc>
                <a:spcPct val="11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延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了右边表达式操作数变化与赋值给左边表达式之间的延迟时间。如果没有定义时延值，缺省时延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即立即赋值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653-AF79-485F-B864-A53D4AA0AF8F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68F2-45AB-4EB6-9166-778921A19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据流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连续赋值语句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ssign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622440" indent="-35748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赋值目标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必须为线网型变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能是寄存器型变量 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35748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续赋值语句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发执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也就是说各语句的执行顺序与其在描述中出现的顺序无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35748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现了组合逻辑电路的特征：任何输入发生变化，输出立即随之而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35748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用来描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组合理辑电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C0-8E79-4623-A246-792BCFEC1A0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90B0E-46C1-4DF8-8303-97B5D6C8F2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数据流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345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数据流描述与建模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模型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140360" y="1197000"/>
          <a:ext cx="464796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197000"/>
                    <a:ext cx="46479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692360" y="5661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A45-864C-49A4-AAFA-65B990C97CBE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95895-D980-4BCF-B592-F0C378D93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行为描述：关注逻辑电路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部行为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输入输出变量的因果关系，而不关心电路的内部结构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行为级建模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算法的角度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电路外部行为的角度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对其进行描述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行为描述关心电路在何种输入下，产生何种输出，而不关心电路具体的实现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行为级建模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高的抽象层次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在这个层次上设计数字电路更类似于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言编程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行为级建模语法结构：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nitial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f-else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se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等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94E-BA87-431F-9836-3F37CFDEBEC4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E1D51-81CB-4276-9027-9AF8511638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7432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可综合的行为描述模型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68360" y="1989000"/>
          <a:ext cx="357192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357192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932360" y="1916280"/>
          <a:ext cx="358452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16280"/>
                    <a:ext cx="35845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4788000" y="1341360"/>
            <a:ext cx="4176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华文中宋"/>
              </a:rPr>
              <a:t>不可综合的行为描述模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D6E-8636-4F32-9069-E9C427742643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79AC8-E771-4680-84CC-4B1462D89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中的行为描述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种结构化的过程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该语句总是循环执行，可以被逻辑综合工具接受，综合为门级描述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itia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该语句只执行一次，不能被逻辑综合工具接受，用于初始化变量的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只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寄存器类型数据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能够在这两种语句中被赋值，且寄存器类型数据在被赋新值前保持原有值不变；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有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itia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句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句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刻并发执行。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1F-7101-4A8C-AE96-6E0D6D8EC65E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E7CD4-D247-452A-B799-AC002C2EA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56000" y="1267920"/>
            <a:ext cx="453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itia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过程赋值语句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f-els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as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句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循环语句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01800" indent="-358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58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58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5892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475-3C4F-41B7-99CF-E95013C3FF6D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AF839-B418-447B-B472-E66576DD97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itia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只执行一次，不能被逻辑综合工具接受，用于初始化变量的值，常用于仿真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276640"/>
            <a:ext cx="3313080" cy="424800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32000" indent="-432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ini_demo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re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,b,m,n,k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itial      k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i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1096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eg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1096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#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 = 1’b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1096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#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1096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end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i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eg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#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m = 1’b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#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n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end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itial    #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$finish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76720" y="2637000"/>
            <a:ext cx="2952720" cy="30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各条语句的执行顺序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时间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所执行的语句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0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k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5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 = 1’b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10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 = 1’b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25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b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35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n = 1’b0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50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$finish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B71-2BFD-4860-820A-1010DEFF1013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11440-C864-47FC-A17F-2DFCF1AF6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程序中可以有多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，每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内的所有行为语句构成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所有的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块在仿真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时刻开始顺序执行其中的行为语句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断地重复运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即最后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语句执行完后，又开始执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的第一条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敏感事件列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敏感事件列表中的事件一旦发生变化，就执行一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块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208-CC72-46F2-908D-4A1BED1FF65A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9A392-DF54-4480-A66A-9F3E58E98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格式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@(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敏感事件列表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语句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块只有单条语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@(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敏感事件列表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多条语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语句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59A-E0F6-4C51-B18C-2DCE385E33B2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54522-C2D2-4267-BC49-C86E86750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模块的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735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模块的结构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关键字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nd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356000" y="981000"/>
          <a:ext cx="42084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981000"/>
                    <a:ext cx="42084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CFF-C3EA-41E1-873E-50EA0E218C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EBFF9-97B4-4EB9-BA3F-D67326115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事件列表：是激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执行的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个事件或多个事件，多个事件之间用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键字或者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平触发或者边沿触发，电平触发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常用于描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组合逻辑的行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边沿触发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常用于描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序行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升沿触发的信号前加关键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edg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下降沿触发的信号前加关键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edg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@*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@(*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表示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块中的所有输入变量的变化是敏感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BC6-DE8A-4A82-83B2-221C16B8D498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02A4-61B4-4087-A624-9F2A2189B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45072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描述组合逻辑和时序逻辑电路区别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684360" y="2492280"/>
          <a:ext cx="7848360" cy="3240000"/>
        </p:xfrm>
        <a:graphic>
          <a:graphicData uri="http://schemas.openxmlformats.org/drawingml/2006/table">
            <a:tbl>
              <a:tblPr/>
              <a:tblGrid>
                <a:gridCol w="1512720"/>
                <a:gridCol w="2592360"/>
                <a:gridCol w="3743280"/>
              </a:tblGrid>
              <a:tr h="50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组合逻辑电路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时序逻辑电路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敏感事件列表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不应包含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posedge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gedge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关键字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用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posedge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negedge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关键字描述同步信号的有效跳变沿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应包含所有输入信号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不一定要包含所有输入信号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所有被赋值的信号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声明为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eg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声明为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reg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所有的赋值语句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一律采用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阻塞赋值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语句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一律采用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非阻塞赋值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语句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217-E71D-4D04-9CC1-8D0FE2B6644D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BF4AF-E761-4CB5-BBA3-9C5E71079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组合逻辑电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2565360"/>
            <a:ext cx="770580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First_M (A, B, C, D, E, F 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, B, C, D, 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reg   F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有赋值的输出变量必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re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lways @( A or B or C or D or 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等价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lways @( A, B, C, D, E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，也等价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lways @(*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F = ~ (( A &amp; B &amp;C) | ( D &amp;E )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逻辑功能描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83E-31E4-4AC2-8546-DE506F90E60D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D462A-742A-4238-AFE9-ED6FC44422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例：时序逻辑电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32000" y="2421000"/>
            <a:ext cx="6337080" cy="38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module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UP_DFF (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CLK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CLR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D,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reg   Q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always @( negedge CLR or posedge CLK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beg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35756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if (!CL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Q &lt;= 1’b0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异步清零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35756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Q &lt;= D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触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05040" indent="-45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中宋"/>
              </a:rPr>
              <a:t>en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modul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5B3-7033-4FE1-8782-A5BEFFAF1BB3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1CEEB-4777-436D-8BC2-51027B259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过程赋值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16040" indent="-2714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对寄存器型变量赋值，这些变量在下一次过程赋值之前保持原来的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赋值语句分为两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阻塞赋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行执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变量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=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赋值表达式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非阻塞赋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行执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变量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&lt;=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赋值表达式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2649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要区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一条阻塞赋值语句执行时，下一条语句被阻塞，即只有当一条语句执行结束，下条语句才能执行；而非阻塞赋值的各条语句是同时执行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E9E-FE92-43A8-B1B9-177830FDE7EE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02B4A-AA97-44F5-B4EC-039322110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过程赋值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8200" y="2060640"/>
            <a:ext cx="381636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程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：阻塞赋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lways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@(posedge clk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beg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=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in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=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in2 ^ in3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=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reg1;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//reg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的新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0560" y="2060640"/>
            <a:ext cx="410508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程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  <a:ea typeface="华文中宋"/>
              </a:rPr>
              <a:t>：非阻塞赋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always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@(posedge clk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begi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&lt;=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in1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 &lt;=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in2 ^ in3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	</a:t>
            </a:r>
            <a:r>
              <a:rPr b="1" lang="da-DK" sz="2000" spc="-1" strike="noStrike">
                <a:solidFill>
                  <a:srgbClr val="1d528d"/>
                </a:solidFill>
                <a:latin typeface="Arial"/>
                <a:ea typeface="华文中宋"/>
              </a:rPr>
              <a:t>reg3 </a:t>
            </a:r>
            <a:r>
              <a:rPr b="1" lang="da-DK" sz="2000" spc="-1" strike="noStrike">
                <a:solidFill>
                  <a:srgbClr val="ff0000"/>
                </a:solidFill>
                <a:latin typeface="Arial"/>
                <a:ea typeface="华文中宋"/>
              </a:rPr>
              <a:t>&lt;=</a:t>
            </a:r>
            <a:r>
              <a:rPr b="1" lang="da-DK" sz="2000" spc="-1" strike="noStrike">
                <a:solidFill>
                  <a:srgbClr val="1d528d"/>
                </a:solidFill>
                <a:latin typeface="Arial"/>
                <a:ea typeface="华文中宋"/>
              </a:rPr>
              <a:t> reg1;  </a:t>
            </a:r>
            <a:r>
              <a:rPr b="1" lang="da-DK" sz="2000" spc="-1" strike="noStrike">
                <a:solidFill>
                  <a:srgbClr val="ff0000"/>
                </a:solidFill>
                <a:latin typeface="Arial"/>
                <a:ea typeface="华文中宋"/>
              </a:rPr>
              <a:t>//reg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的旧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  <a:ea typeface="华文中宋"/>
              </a:rPr>
              <a:t>en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3E0-44B8-4C9E-9EAB-CFFC87AB9170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C807F-39C5-47A6-A8FA-3180E4A2D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行为建模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其他语句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：自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对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没有完全枚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情况，需要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出默认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9360" indent="-4572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循环语句：尽量少用，比较耗费资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17B-925A-424C-9346-54947B2972C6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1CF2E-623A-4778-BE4C-C32B642941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411280" y="2492280"/>
            <a:ext cx="3959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S UI Gothic"/>
              </a:rPr>
              <a:t>The End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C4A-41CB-4312-B564-5AFBC6BF3921}" type="slidenum">
              <a:t>9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54541-0E09-4407-A3A1-CEF56B642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3-27T05:18:17Z</dcterms:modified>
  <cp:revision>325</cp:revision>
  <dc:subject>第2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