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3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8D0-7DA7-403C-9A89-1656CFA8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551-EFE0-49B6-AED7-7DD5E9AE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932-FE85-40BB-9625-2457BA7E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42B-0DD0-464C-8784-F9187E28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2A4-AE69-457E-97F1-72B4C468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25C-F46B-404A-90C4-761C3B13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3D7-18D5-4FD6-BECA-D8C61319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2CE-CAAB-4537-9E84-F5C1B7C5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AE5-40F1-4647-B0D0-EAEB3722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10F-5C3B-440E-B72D-6B310597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AFE-A137-4CD7-8986-187530D6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42D-ECC8-4510-A34F-05FF552E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66840"/>
            <a:ext cx="9144000" cy="936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08320" y="0"/>
            <a:ext cx="32353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章 实验系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161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C4B2-E30B-45B7-813F-9DE818DC93B1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40720" y="6508440"/>
            <a:ext cx="1341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1d528d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8FC2-88E7-4A98-A4CE-A5093E3112FD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2360" y="117360"/>
            <a:ext cx="3097440" cy="111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9" name="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2" name="未知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5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260280"/>
            <a:ext cx="5418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计算机组成原理课程设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中宋"/>
              </a:rPr>
              <a:t>》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gif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第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章 实验系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19280" y="4869000"/>
            <a:ext cx="64008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宋体"/>
              </a:rPr>
              <a:t>主讲教师：冯建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宋体"/>
              </a:rPr>
              <a:t>fengjianwen@hdu.edu.c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PG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配置电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2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FPGA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是基于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SRAM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工艺的，断电后将会丢失内部逻辑，所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每次上电后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FPGA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芯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必须从外部重新配置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后方可执行逻辑功能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Nexys3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FPGA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芯片有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种配置方法：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808200" indent="-27180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在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，使用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ept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软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通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B PRO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口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或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TA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口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在线配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得电时随时进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从连接在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B HID HOST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上的闪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外部存储棒）配置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非易失性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并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I PCM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存储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的文件在上电时自动配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非易失性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串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 PCM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存储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的文件在上电时自动配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44E-617F-46DA-96A1-E9E5BFC482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B75CB-3D6F-4509-814D-FCA1D0D3DF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09080" cy="3638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PG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配置电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20614" b="0"/>
          <a:stretch/>
        </p:blipFill>
        <p:spPr>
          <a:xfrm>
            <a:off x="1042920" y="4221000"/>
            <a:ext cx="2376720" cy="2240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164360" y="1989000"/>
            <a:ext cx="1584360" cy="237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515772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4869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Verdana"/>
                <a:ea typeface="华文中宋"/>
              </a:rPr>
              <a:t>右上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524720" y="5877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EA0-BF6A-4B50-A405-05ACC92C8A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2D6D9-E9D4-4317-B199-0A66B88283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存储模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Nexys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上有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种存储器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2857680" cy="352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0" t="12157" r="0" b="0"/>
          <a:stretch/>
        </p:blipFill>
        <p:spPr>
          <a:xfrm>
            <a:off x="5364000" y="2276640"/>
            <a:ext cx="2864160" cy="338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68360" y="595008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Verdana"/>
                <a:ea typeface="华文中宋"/>
              </a:rPr>
              <a:t>中下部位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587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Verdana"/>
                <a:ea typeface="华文中宋"/>
              </a:rPr>
              <a:t>右上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3D8-D6D2-45E7-AD29-2CC8006062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258B1-27F2-4A13-BCC4-5A720E38B2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存储模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Nexys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上有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种存储器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450720" indent="-2649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M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a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AM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储器，可以按字或者字节寻址，异步模式时读写周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n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649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M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组织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M×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的结构，不能字节寻址。它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a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的数据总线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地址总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649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串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M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串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d-mo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l-mo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标准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线传输协议，总线速率达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MH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750-6183-4D57-B7C7-32631E54406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7DCA4-49AA-44C7-BF5C-BB079B8AB7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存储模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5943600" cy="5248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24720" y="5877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85D-8481-45C8-83A5-8271908D4B4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C81DB-74AA-4819-9D0B-2FB973BBF5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电源模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电源模块：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能产生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.3V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.5V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.8V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以及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.2V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四路电压，最大能承受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5V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输入电压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供电方式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种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S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外部电源和锂电池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通过跳线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JP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选择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跳线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J1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可以接外部锂电池供电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能同时接外部电源和锂电池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如果跳线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J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接上，则通过跳线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JP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输出的电源可以送到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HDC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连接器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EC1-08C5-4DCE-9C8D-69B63A7D2D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02740-4609-401A-8559-09DDB1AD05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电源模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5943600" cy="3800520"/>
          </a:xfrm>
          <a:prstGeom prst="rect">
            <a:avLst/>
          </a:prstGeom>
          <a:ln w="0">
            <a:noFill/>
          </a:ln>
        </p:spPr>
      </p:pic>
      <p:pic>
        <p:nvPicPr>
          <p:cNvPr id="155" name="1222" descr=""/>
          <p:cNvPicPr/>
          <p:nvPr/>
        </p:nvPicPr>
        <p:blipFill>
          <a:blip r:embed="rId2"/>
          <a:stretch/>
        </p:blipFill>
        <p:spPr>
          <a:xfrm>
            <a:off x="34920" y="44280"/>
            <a:ext cx="3492360" cy="2691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41840" y="32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中上部位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3068640"/>
            <a:ext cx="432000" cy="1081080"/>
          </a:xfrm>
          <a:prstGeom prst="ellipse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0" y="5516640"/>
            <a:ext cx="1008000" cy="1081080"/>
          </a:xfrm>
          <a:prstGeom prst="ellipse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1628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实验时，一般由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USB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取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68360" y="5877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CFA-2CD2-4BD6-AF8F-6A17D06E973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BBF7D-5B69-4DAE-81E6-550209EBBA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时钟模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Nexys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有一个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00M CMO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晶体振荡器 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PGA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芯片的时钟外部输入一定要分配在全局时钟引脚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Nexys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PGA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芯片全局时钟输入引脚共有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个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组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接在按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N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：接其他外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组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H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外部时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接在开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：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A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芯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2BF-ED8C-4D59-BFCB-280F3779F1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35DC1-BB7A-4554-AA74-077A7B0927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时钟模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时钟管脚配置时，注意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序电路的连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连接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时钟频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H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需要延时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模块定义时要有一个时钟端口输入，管脚配置时，将其连接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程序设计时，对时钟脉冲个数计数，达到延时的目的。一个脉冲对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n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手动做时序电路实验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可以将时序电路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下列外设引脚接入，以便手动控制时钟的产生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钮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N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N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关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有抖动，不太稳定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380360" y="594684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1B9-3192-4084-85F2-6E6BD5A7E1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60D32-0C66-480D-8359-604BCC8EA2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B PROG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接口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7512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icro USB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接口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J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程：下载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供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数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8142" t="0" r="0" b="14023"/>
          <a:stretch/>
        </p:blipFill>
        <p:spPr>
          <a:xfrm>
            <a:off x="539640" y="3500280"/>
            <a:ext cx="3024360" cy="2517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20535" t="0" r="0" b="0"/>
          <a:stretch/>
        </p:blipFill>
        <p:spPr>
          <a:xfrm>
            <a:off x="5219640" y="1125360"/>
            <a:ext cx="3529080" cy="2860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1480" y="551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左上部位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4200" y="414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板卡背面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380360" y="594684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DD8-0F21-4124-A545-5AC73A0AAB9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03B74-9E65-4D3F-836C-BAFD6B0CA2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619280" y="2052720"/>
            <a:ext cx="5689440" cy="944280"/>
            <a:chOff x="1619280" y="2052720"/>
            <a:chExt cx="5689440" cy="944280"/>
          </a:xfrm>
        </p:grpSpPr>
        <p:sp>
          <p:nvSpPr>
            <p:cNvPr id="102" name=""/>
            <p:cNvSpPr/>
            <p:nvPr/>
          </p:nvSpPr>
          <p:spPr>
            <a:xfrm>
              <a:off x="1619280" y="2052720"/>
              <a:ext cx="5689440" cy="94428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88840" y="2219760"/>
              <a:ext cx="5364000" cy="63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章 实验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19280" y="3781440"/>
            <a:ext cx="5689440" cy="942480"/>
            <a:chOff x="1619280" y="3781440"/>
            <a:chExt cx="5689440" cy="942480"/>
          </a:xfrm>
        </p:grpSpPr>
        <p:sp>
          <p:nvSpPr>
            <p:cNvPr id="106" name=""/>
            <p:cNvSpPr/>
            <p:nvPr/>
          </p:nvSpPr>
          <p:spPr>
            <a:xfrm>
              <a:off x="1619280" y="3781440"/>
              <a:ext cx="5689440" cy="94248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02520" y="3911760"/>
              <a:ext cx="5364360" cy="63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124000" y="3989520"/>
            <a:ext cx="489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" action="ppaction://hlinksldjump"/>
              </a:rPr>
              <a:t>4.2  Nexys3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2" action="ppaction://hlinksldjump"/>
              </a:rPr>
              <a:t>实验板硬件系统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ea typeface="华文中宋"/>
                <a:hlinkClick r:id="rId3" action="ppaction://hlinksldjump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8160" y="2276640"/>
            <a:ext cx="3661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4" action="ppaction://hlinksldjump"/>
              </a:rPr>
              <a:t>4.1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5" action="ppaction://hlinksldjump"/>
              </a:rPr>
              <a:t>  Nexys3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6" action="ppaction://hlinksldjump"/>
              </a:rPr>
              <a:t>教学开发板简介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ea typeface="华文中宋"/>
                <a:hlinkClick r:id="rId7" action="ppaction://hlinksldjump"/>
              </a:rPr>
              <a:t> 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38B-C7B7-4BD9-8CD9-250D3B5726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AA48D-2078-4CA5-831A-03FC286D86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基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包括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个开关，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个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LED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灯，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位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段数码显示管，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个按钮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最常用，配置引脚时，可观察板上的丝印字，即为连接到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PGA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的引脚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30766"/>
          <a:stretch/>
        </p:blipFill>
        <p:spPr>
          <a:xfrm>
            <a:off x="1835280" y="3500280"/>
            <a:ext cx="540072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FDA-1235-40A6-A0E1-A35C2E0AFF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D1F1A-08C6-423B-AD5D-45A5CEF4C1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基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设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904000" cy="5621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24720" y="601992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258-01D0-452D-BE5C-F892258E350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D5279-19E4-413B-8DE1-3462407A95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411280" y="2492280"/>
            <a:ext cx="44658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The End!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A2F-FD99-4515-9B9B-134E2DB94E9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49435-A4F9-443B-9B33-EFEC8FC4DD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  Nexys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学开发板简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36734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xys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教学开发板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357120" indent="-1713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载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0" b="10112"/>
          <a:stretch/>
        </p:blipFill>
        <p:spPr>
          <a:xfrm>
            <a:off x="2987640" y="1835280"/>
            <a:ext cx="5832360" cy="45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7D6-1A31-46CE-A6D5-469DEDA816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E4580-D4A6-4DA6-835C-D8F15022F8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  Nexys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学开发板简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Nexys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教学开发板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gilen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公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ilin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公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一代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tan6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PG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芯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Digilent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公司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家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微处理技术领域具备顶尖设计、制造水平的公司，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工程教育为核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产品遍布全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个国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所大学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Xilinx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公司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球最大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芯片生产厂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学计划” ： 唯一认可的板卡提供商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3E2-BAA9-454F-9179-F93D689E5E7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579EF-E5D8-47DA-BC15-2ED2F1A25D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  Nexys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学开发板简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N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主要结构特点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357120" indent="-171360"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主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PGA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芯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ilinx Spartan6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系列的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XC6LX16-CSG324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具有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8M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字节存储器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含：</a:t>
            </a:r>
            <a:r>
              <a:rPr b="1" lang="zh-CN" sz="2200" spc="-1" strike="noStrike">
                <a:solidFill>
                  <a:srgbClr val="00cc00"/>
                </a:solidFill>
                <a:latin typeface="Arial"/>
              </a:rPr>
              <a:t>（√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173160"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16M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公司的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ellular RAM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173160"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M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字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公司的 并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M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173160"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M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字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ron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公司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d-mode SPI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串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M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使用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0MHz 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晶振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； </a:t>
            </a:r>
            <a:r>
              <a:rPr b="1" lang="zh-CN" sz="2200" spc="-1" strike="noStrike">
                <a:solidFill>
                  <a:srgbClr val="00cc00"/>
                </a:solidFill>
                <a:latin typeface="Arial"/>
              </a:rPr>
              <a:t>（√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提供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通用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/O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设备（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PIO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2200" spc="-1" strike="noStrike">
                <a:solidFill>
                  <a:srgbClr val="00cc00"/>
                </a:solidFill>
                <a:latin typeface="Arial"/>
              </a:rPr>
              <a:t>（√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173160"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个拨码开关；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173160"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个按键；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173160"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段数码管；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173160"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个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显示灯；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4D5-597C-4E37-AE80-2FCBFAEC27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94AE2-C41B-4ACD-BA0A-F2D77B274E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  Nexys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学开发板简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N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主要结构特点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丰富的外设接口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/100M Ether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太网接口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-UA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-HI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可以接鼠标、键盘和记忆棒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，提供电源、程序烧录和数据传输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G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用于扩展的连接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×6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脚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mod T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速连接器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HD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速扩展连接器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662-4DB8-42E6-BCCF-61373A0666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CE21B-D9D3-4A45-840A-D28C1ABABC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  Nexys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学开发板简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877000"/>
            <a:ext cx="1435320" cy="577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236000" cy="6507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8DF-3364-4DF5-8CA2-C5AF00106B7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BF039-ADE2-481C-BE60-A547D68D74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2  Nexys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板硬件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51280" y="5877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3816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、主芯片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2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、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FPGA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配置电路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、存储模块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4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、电源模块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时钟模块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USB PROG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接口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1268280"/>
            <a:ext cx="3816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USB A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型接口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8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USB-UART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串口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9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、基本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I/O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设备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、以太网口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VGA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接口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Pmod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连接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1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VHDC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连接器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D1E-DB78-40EF-9821-AD48CB8F6B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9F9DC-549A-406B-9A63-1B3969D8C3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主芯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335640" cy="5321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24720" y="5877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82E-C85A-4CF0-B3BC-0800092BFE6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6A9EA-3477-4F79-96DA-E678FA30B5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6:07:47Z</dcterms:created>
  <dc:creator>冯建文</dc:creator>
  <dc:description/>
  <cp:keywords/>
  <dc:language>en-US</dc:language>
  <cp:lastModifiedBy>微软用户</cp:lastModifiedBy>
  <dcterms:modified xsi:type="dcterms:W3CDTF">2014-03-25T14:11:07Z</dcterms:modified>
  <cp:revision>330</cp:revision>
  <dc:subject>第3章</dc:subject>
  <dc:title>《数字电路》实验指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