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gif" ContentType="image/gif"/>
  <Override PartName="/ppt/media/image8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6911-9A0F-499B-A212-A26E676BF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399600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251C-126C-45FA-A328-92C187E9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D968-E3B5-47D7-AF0E-EB4053F65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39960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39960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39960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545B-BC1E-47E3-86A9-0E4BB7132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7848-E365-4972-9E74-A5BD8741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8540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399600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360" y="399600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836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8540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8360" y="39960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50800" y="39960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33240" y="39960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3355-0E4D-45D0-9BFF-33160965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B847-E223-440D-AD14-2AC6A3AB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E807-7A87-4E77-8065-60FDE151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3EB6-A249-40ED-9E9C-B707AF2E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5EF5-E5B0-42F7-B222-9AB29CA5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FABE-AC96-4319-95EE-00199369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99600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4487-E4F3-492D-B5D3-A5F1D416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366840"/>
            <a:ext cx="9144000" cy="9363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1d5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908320" y="0"/>
            <a:ext cx="32353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0" y="6552720"/>
            <a:ext cx="1619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8DF7-1B85-4DF4-B702-7FB2B9D0EDFB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740720" y="6508440"/>
            <a:ext cx="1341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1d528d"/>
                </a:solidFill>
                <a:latin typeface="Verdana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23D2-18BA-46F8-92BE-33F55AD7B90C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22860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54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2360" y="117360"/>
            <a:ext cx="3097440" cy="1119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2349360"/>
            <a:ext cx="9144000" cy="2664000"/>
          </a:xfrm>
          <a:prstGeom prst="rect">
            <a:avLst/>
          </a:prstGeom>
          <a:ln w="0">
            <a:noFill/>
          </a:ln>
        </p:spPr>
      </p:pic>
      <p:grpSp>
        <p:nvGrpSpPr>
          <p:cNvPr id="48" name=""/>
          <p:cNvGrpSpPr/>
          <p:nvPr/>
        </p:nvGrpSpPr>
        <p:grpSpPr>
          <a:xfrm>
            <a:off x="28440" y="4653000"/>
            <a:ext cx="9115560" cy="2205000"/>
            <a:chOff x="28440" y="4653000"/>
            <a:chExt cx="9115560" cy="2205000"/>
          </a:xfrm>
        </p:grpSpPr>
        <p:sp>
          <p:nvSpPr>
            <p:cNvPr id="49" name=""/>
            <p:cNvSpPr/>
            <p:nvPr/>
          </p:nvSpPr>
          <p:spPr>
            <a:xfrm>
              <a:off x="28440" y="4653000"/>
              <a:ext cx="9115560" cy="2205000"/>
            </a:xfrm>
            <a:prstGeom prst="rect">
              <a:avLst/>
            </a:pr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8440" y="4653000"/>
              <a:ext cx="9115560" cy="125640"/>
            </a:xfrm>
            <a:prstGeom prst="rect">
              <a:avLst/>
            </a:pr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0" y="4289040"/>
            <a:ext cx="9097920" cy="676800"/>
            <a:chOff x="0" y="4289040"/>
            <a:chExt cx="9097920" cy="676800"/>
          </a:xfrm>
        </p:grpSpPr>
        <p:sp>
          <p:nvSpPr>
            <p:cNvPr id="52" name="未知"/>
            <p:cNvSpPr/>
            <p:nvPr/>
          </p:nvSpPr>
          <p:spPr>
            <a:xfrm flipV="1">
              <a:off x="0" y="4288320"/>
              <a:ext cx="9097920" cy="577800"/>
            </a:xfrm>
            <a:custGeom>
              <a:avLst/>
              <a:gdLst/>
              <a:ahLst/>
              <a:rect l="l" t="t" r="r" b="b"/>
              <a:pathLst>
                <a:path w="5731" h="808">
                  <a:moveTo>
                    <a:pt x="0" y="0"/>
                  </a:moveTo>
                  <a:lnTo>
                    <a:pt x="19" y="279"/>
                  </a:lnTo>
                  <a:cubicBezTo>
                    <a:pt x="321" y="399"/>
                    <a:pt x="1170" y="671"/>
                    <a:pt x="1824" y="739"/>
                  </a:cubicBezTo>
                  <a:cubicBezTo>
                    <a:pt x="2478" y="808"/>
                    <a:pt x="3295" y="769"/>
                    <a:pt x="3946" y="695"/>
                  </a:cubicBezTo>
                  <a:cubicBezTo>
                    <a:pt x="4597" y="621"/>
                    <a:pt x="5435" y="387"/>
                    <a:pt x="5731" y="297"/>
                  </a:cubicBezTo>
                  <a:lnTo>
                    <a:pt x="5722" y="1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 flipV="1">
              <a:off x="0" y="4363560"/>
              <a:ext cx="9097920" cy="60192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5" name="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1532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3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8.xml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1532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实验项目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19280" y="4869000"/>
            <a:ext cx="64008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宋体"/>
              </a:rPr>
              <a:t>主讲教师：冯建文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  <a:ea typeface="宋体"/>
              </a:rPr>
              <a:t>fengjianwen@hdu.edu.c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二 超前进位加法器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、实验目的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掌握运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Verilog HD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言进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数据流描述与建模的技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方法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模块调用与实例引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方法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超前进位加法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原理与设计方法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3ECE-D680-4290-A400-5AA2D501995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FA9585-EC53-4D26-AA2F-E36CD3A8CA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二 超前进位加法器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、实验内容与原理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要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基于实验一的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模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设计一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的二进制加法器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内部为超前进位逻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5010-0C61-4B17-BE55-F89FACF6B63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98C852-21D2-42C5-879B-D759646B3E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二 超前进位加法器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、实验内容与原理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行波进位加法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076720" y="1197000"/>
            <a:ext cx="3240360" cy="2232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042920" y="3573360"/>
            <a:ext cx="7058160" cy="23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7D28-9159-4A7E-A610-778A22E1887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4114CD-A6DA-4D27-8D0B-8B99B9A826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二 超前进位加法器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、实验内容与原理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超前进位加法器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引入了进位产生函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进位传递函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971640" y="2708280"/>
                <a:ext cx="151128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924360" y="2852640"/>
                <a:ext cx="309564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971640" y="3730680"/>
                <a:ext cx="7343640" cy="26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78B6-13D3-4D06-BAB1-08170BB6272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31BFDC-0E94-4B80-A26B-13DB2E5EE0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二 超前进位加法器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、实验内容与原理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位二进制超前进位加法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84360" y="2565360"/>
          <a:ext cx="7632720" cy="276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565360"/>
                    <a:ext cx="7632720" cy="27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461D-D5F0-45D3-9037-119FA6B9E4B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8A622D-4B56-4631-98CF-64041C63DB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二 超前进位加法器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、实验内容与原理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超前进位加法器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ilo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实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2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基于实验一已经实现的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FA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模块，在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顶层模块调用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个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模块实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2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个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FA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实例的低位进位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Ci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：则可采用数据流描述方式根据逻辑表达式产生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2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模块调用时，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注意：输入输出信号的传递方法和信号类型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B91B-6939-4786-A34C-A844B989A50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568BFD-B12D-4C32-A23F-00009D7CA8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二 超前进位加法器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、实验要求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数据流描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来实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超前进位的二进制加法器；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课前任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编程、仿真、验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确保逻辑正确性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实验室任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配置管脚：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见配置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生成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.bit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文件，下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FPG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完成板级验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撰写实验报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7051-13A4-4B64-AA98-BF01A8FB9DF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E85D91-0BFE-4823-805A-7B2499D1FA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二 超前进位加法器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实验二信号配置表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117440" y="2276640"/>
          <a:ext cx="7199280" cy="3060360"/>
        </p:xfrm>
        <a:graphic>
          <a:graphicData uri="http://schemas.openxmlformats.org/drawingml/2006/table">
            <a:tbl>
              <a:tblPr/>
              <a:tblGrid>
                <a:gridCol w="901800"/>
                <a:gridCol w="2371680"/>
                <a:gridCol w="39258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d528d"/>
                          </a:solidFill>
                          <a:latin typeface="华文中宋"/>
                          <a:ea typeface="华文中宋"/>
                        </a:rPr>
                        <a:t> 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d528d"/>
                          </a:solidFill>
                          <a:latin typeface="华文中宋"/>
                          <a:ea typeface="华文中宋"/>
                        </a:rPr>
                        <a:t>信号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d528d"/>
                          </a:solidFill>
                          <a:latin typeface="华文中宋"/>
                          <a:ea typeface="华文中宋"/>
                        </a:rPr>
                        <a:t>配置设备管脚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 rowSpan="3"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d528d"/>
                          </a:solidFill>
                          <a:latin typeface="华文中宋"/>
                          <a:ea typeface="华文中宋"/>
                        </a:rPr>
                        <a:t>输入信号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华文中宋"/>
                          <a:ea typeface="华文中宋"/>
                        </a:rPr>
                        <a:t>A[3:0]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个逻辑开关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49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华文中宋"/>
                          <a:ea typeface="华文中宋"/>
                        </a:rPr>
                        <a:t>B[3:0]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个逻辑开关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51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华文中宋"/>
                          <a:ea typeface="华文中宋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1d528d"/>
                          </a:solidFill>
                          <a:latin typeface="华文中宋"/>
                          <a:ea typeface="华文中宋"/>
                        </a:rPr>
                        <a:t>0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按钮（按下为</a:t>
                      </a: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，松开为</a:t>
                      </a: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0</a:t>
                      </a:r>
                      <a:r>
                        <a:rPr b="1" lang="zh-CN" sz="24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）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526680">
                <a:tc rowSpan="2"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d528d"/>
                          </a:solidFill>
                          <a:latin typeface="华文中宋"/>
                          <a:ea typeface="华文中宋"/>
                        </a:rPr>
                        <a:t>输出信号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华文中宋"/>
                          <a:ea typeface="华文中宋"/>
                        </a:rPr>
                        <a:t>F[3:0]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个</a:t>
                      </a: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LED</a:t>
                      </a:r>
                      <a:r>
                        <a:rPr b="1" lang="zh-CN" sz="24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灯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1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华文中宋"/>
                          <a:ea typeface="华文中宋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1d528d"/>
                          </a:solidFill>
                          <a:latin typeface="华文中宋"/>
                          <a:ea typeface="华文中宋"/>
                        </a:rPr>
                        <a:t>4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个</a:t>
                      </a: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LED</a:t>
                      </a:r>
                      <a:r>
                        <a:rPr b="1" lang="zh-CN" sz="24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灯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2001-9AA9-4017-9312-521312CF899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1BA5F7-0D6C-4DF2-8456-49571659FD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二 超前进位加法器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、实验步骤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ilinx I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创建工程，编源码，然后编译、综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编写激励代码，观察仿真波形，直至验证正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实验准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板卡电源开关跳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选择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取电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电缆连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机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板卡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验板的电源开关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机上打开工程文件，进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管脚配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生成编程文件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bit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，下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到板卡中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实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63C7-26CC-4B29-A6D5-B68D21FE3C7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D8941B-1344-4015-9914-56BA3AA433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二 超前进位加法器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、思考与探索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450720" indent="-264960">
              <a:lnSpc>
                <a:spcPct val="12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观察综合得到的电路图，分析它和你想要设计的电路有何不同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64960">
              <a:lnSpc>
                <a:spcPct val="12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尝试编程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实现采用超前进位的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位二进制加法器模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64960">
              <a:lnSpc>
                <a:spcPct val="12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对于位数较长的超前进位加法器，各位的进位逻辑表达式将非常可观，这时，通常采用二级逻辑方法实现，查找有关资料，尝试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编程实现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位的二级逻辑的超前进位加法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64960">
              <a:lnSpc>
                <a:spcPct val="12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谈谈你在实验中碰到了哪些问题？又是如何解决的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5950080"/>
            <a:ext cx="1434960" cy="57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E089-379C-466B-B844-879F6F44D44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19843A-47B0-4092-9754-27918ABC7D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项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619280" y="1981080"/>
            <a:ext cx="6454440" cy="655560"/>
            <a:chOff x="1619280" y="1981080"/>
            <a:chExt cx="6454440" cy="655560"/>
          </a:xfrm>
        </p:grpSpPr>
        <p:sp>
          <p:nvSpPr>
            <p:cNvPr id="102" name=""/>
            <p:cNvSpPr/>
            <p:nvPr/>
          </p:nvSpPr>
          <p:spPr>
            <a:xfrm>
              <a:off x="1619280" y="1981080"/>
              <a:ext cx="6454440" cy="655560"/>
            </a:xfrm>
            <a:prstGeom prst="rect">
              <a:avLst/>
            </a:prstGeom>
            <a:gradFill rotWithShape="0">
              <a:gsLst>
                <a:gs pos="0">
                  <a:srgbClr val="757546"/>
                </a:gs>
                <a:gs pos="50000">
                  <a:srgbClr val="ffff99">
                    <a:alpha val="50196"/>
                  </a:srgbClr>
                </a:gs>
                <a:gs pos="100000">
                  <a:srgbClr val="7575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11520" y="2097000"/>
              <a:ext cx="6085440" cy="438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7546"/>
                </a:gs>
                <a:gs pos="50000">
                  <a:srgbClr val="ffff99"/>
                </a:gs>
                <a:gs pos="100000">
                  <a:srgbClr val="7575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619280" y="4797360"/>
            <a:ext cx="6454440" cy="655200"/>
            <a:chOff x="1619280" y="4797360"/>
            <a:chExt cx="6454440" cy="655200"/>
          </a:xfrm>
        </p:grpSpPr>
        <p:sp>
          <p:nvSpPr>
            <p:cNvPr id="105" name=""/>
            <p:cNvSpPr/>
            <p:nvPr/>
          </p:nvSpPr>
          <p:spPr>
            <a:xfrm>
              <a:off x="1619280" y="4797360"/>
              <a:ext cx="6454440" cy="655200"/>
            </a:xfrm>
            <a:prstGeom prst="rect">
              <a:avLst/>
            </a:prstGeom>
            <a:gradFill rotWithShape="0">
              <a:gsLst>
                <a:gs pos="0">
                  <a:srgbClr val="757546"/>
                </a:gs>
                <a:gs pos="50000">
                  <a:srgbClr val="ffff99">
                    <a:alpha val="50196"/>
                  </a:srgbClr>
                </a:gs>
                <a:gs pos="100000">
                  <a:srgbClr val="7575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11520" y="4913280"/>
              <a:ext cx="6085440" cy="438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7546"/>
                </a:gs>
                <a:gs pos="50000">
                  <a:srgbClr val="ffff99"/>
                </a:gs>
                <a:gs pos="100000">
                  <a:srgbClr val="7575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19280" y="3349800"/>
            <a:ext cx="6454440" cy="655200"/>
            <a:chOff x="1619280" y="3349800"/>
            <a:chExt cx="6454440" cy="655200"/>
          </a:xfrm>
        </p:grpSpPr>
        <p:sp>
          <p:nvSpPr>
            <p:cNvPr id="108" name=""/>
            <p:cNvSpPr/>
            <p:nvPr/>
          </p:nvSpPr>
          <p:spPr>
            <a:xfrm>
              <a:off x="1619280" y="3349800"/>
              <a:ext cx="6454440" cy="655200"/>
            </a:xfrm>
            <a:prstGeom prst="rect">
              <a:avLst/>
            </a:prstGeom>
            <a:gradFill rotWithShape="0">
              <a:gsLst>
                <a:gs pos="0">
                  <a:srgbClr val="757546"/>
                </a:gs>
                <a:gs pos="50000">
                  <a:srgbClr val="ffff99">
                    <a:alpha val="50196"/>
                  </a:srgbClr>
                </a:gs>
                <a:gs pos="100000">
                  <a:srgbClr val="7575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7360" y="3440520"/>
              <a:ext cx="6085800" cy="438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7546"/>
                </a:gs>
                <a:gs pos="50000">
                  <a:srgbClr val="ffff99"/>
                </a:gs>
                <a:gs pos="100000">
                  <a:srgbClr val="7575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124000" y="3422520"/>
            <a:ext cx="4562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ff"/>
                </a:solidFill>
                <a:uFillTx/>
                <a:latin typeface="Arial"/>
                <a:ea typeface="华文中宋"/>
                <a:hlinkClick r:id="rId1" action="ppaction://hlinksldjump"/>
              </a:rPr>
              <a:t>实验二 超前进位加法器设计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2063880"/>
            <a:ext cx="1788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ff"/>
                </a:solidFill>
                <a:uFillTx/>
                <a:latin typeface="Arial"/>
                <a:ea typeface="华文中宋"/>
                <a:hlinkClick r:id="rId2" action="ppaction://hlinksldjump"/>
              </a:rPr>
              <a:t>实验一 全加器设计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26640" y="4870440"/>
            <a:ext cx="2652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ff"/>
                </a:solidFill>
                <a:uFillTx/>
                <a:latin typeface="Arial"/>
                <a:ea typeface="华文中宋"/>
                <a:hlinkClick r:id="rId3" action="ppaction://hlinksldjump"/>
              </a:rPr>
              <a:t>实验三 多功能ALU设计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CF9E-C2EB-4D56-9392-1912918EE3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B7F931-FA1E-47B6-BC96-B70CBEAB4C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三 多功能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AL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、实验目的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习多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工作原理，掌握运算器的设计方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掌握运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ilog HD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言进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行为描述与建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技巧和方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661B-B7B1-41D6-A486-4036B2CE254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04FF01-C1FC-44AF-AC10-8C5B1F12F1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三 多功能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AL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1343160"/>
            <a:ext cx="79930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、实验内容与原理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542880" indent="-27792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要求设计一个具有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种运算功能的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位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L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并能够产生运算结果的标志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7792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结果为零标志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7792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溢出标志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12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编写顶层模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用于验证模块的正确性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902B-3D91-4456-9266-606523BF0C4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847C48-0F39-4A29-91B3-514B3D463D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三 多功能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AL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1080" y="1342800"/>
            <a:ext cx="82818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、实验内容与原理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多功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模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6720" y="177336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华文中宋"/>
                <a:ea typeface="华文中宋"/>
              </a:rPr>
              <a:t>ALU</a:t>
            </a:r>
            <a:r>
              <a:rPr b="1" lang="zh-CN" sz="2400" spc="-1" strike="noStrike">
                <a:solidFill>
                  <a:srgbClr val="1d528d"/>
                </a:solidFill>
                <a:latin typeface="华文中宋"/>
                <a:ea typeface="华文中宋"/>
              </a:rPr>
              <a:t>功能表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348000" y="2292480"/>
          <a:ext cx="5400720" cy="4305240"/>
        </p:xfrm>
        <a:graphic>
          <a:graphicData uri="http://schemas.openxmlformats.org/drawingml/2006/table">
            <a:tbl>
              <a:tblPr/>
              <a:tblGrid>
                <a:gridCol w="1839960"/>
                <a:gridCol w="1024200"/>
                <a:gridCol w="2536560"/>
              </a:tblGrid>
              <a:tr h="514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华文中宋"/>
                          <a:ea typeface="华文中宋"/>
                        </a:rPr>
                        <a:t>ALU_OP[2:0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华文中宋"/>
                          <a:ea typeface="Times New Roman"/>
                        </a:rPr>
                        <a:t>]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华文中宋"/>
                          <a:ea typeface="华文中宋"/>
                        </a:rPr>
                        <a:t>ALU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华文中宋"/>
                          <a:ea typeface="华文中宋"/>
                        </a:rPr>
                        <a:t>操作说明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华文中宋"/>
                          <a:ea typeface="华文中宋"/>
                        </a:rPr>
                        <a:t>00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华文中宋"/>
                          <a:ea typeface="华文中宋"/>
                        </a:rPr>
                        <a:t>and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华文中宋"/>
                          <a:ea typeface="华文中宋"/>
                        </a:rPr>
                        <a:t>逻辑与操作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华文中宋"/>
                          <a:ea typeface="华文中宋"/>
                        </a:rPr>
                        <a:t>00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华文中宋"/>
                          <a:ea typeface="华文中宋"/>
                        </a:rPr>
                        <a:t>or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华文中宋"/>
                          <a:ea typeface="华文中宋"/>
                        </a:rPr>
                        <a:t>逻辑或操作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华文中宋"/>
                          <a:ea typeface="华文中宋"/>
                        </a:rPr>
                        <a:t>01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华文中宋"/>
                          <a:ea typeface="华文中宋"/>
                        </a:rPr>
                        <a:t>xor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华文中宋"/>
                          <a:ea typeface="华文中宋"/>
                        </a:rPr>
                        <a:t>逻辑异或操作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华文中宋"/>
                          <a:ea typeface="华文中宋"/>
                        </a:rPr>
                        <a:t>01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华文中宋"/>
                          <a:ea typeface="华文中宋"/>
                        </a:rPr>
                        <a:t>nor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华文中宋"/>
                          <a:ea typeface="华文中宋"/>
                        </a:rPr>
                        <a:t>逻辑或非操作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华文中宋"/>
                          <a:ea typeface="华文中宋"/>
                        </a:rPr>
                        <a:t>10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华文中宋"/>
                          <a:ea typeface="华文中宋"/>
                        </a:rPr>
                        <a:t>add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华文中宋"/>
                          <a:ea typeface="华文中宋"/>
                        </a:rPr>
                        <a:t>算术加操作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华文中宋"/>
                          <a:ea typeface="华文中宋"/>
                        </a:rPr>
                        <a:t>10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华文中宋"/>
                          <a:ea typeface="华文中宋"/>
                        </a:rPr>
                        <a:t>sub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华文中宋"/>
                          <a:ea typeface="华文中宋"/>
                        </a:rPr>
                        <a:t>算术减操作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华文中宋"/>
                          <a:ea typeface="华文中宋"/>
                        </a:rPr>
                        <a:t>11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华文中宋"/>
                          <a:ea typeface="华文中宋"/>
                        </a:rPr>
                        <a:t>slt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若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A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＜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B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，则输出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，否则输出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0 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93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华文中宋"/>
                          <a:ea typeface="华文中宋"/>
                        </a:rPr>
                        <a:t>11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华文中宋"/>
                          <a:ea typeface="华文中宋"/>
                        </a:rPr>
                        <a:t>sll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B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逻辑左移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A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所指定的位数 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468360" y="2637000"/>
            <a:ext cx="26636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2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ALU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通过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根控制线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ALU_OP[2:0]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来选择其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种运算功能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B649-17EB-4CA7-A815-04866D541FC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08B659-42BC-41DD-9D4B-091058F2B4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三 多功能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AL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、实验内容与原理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多功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模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932360" y="1916280"/>
          <a:ext cx="3240000" cy="313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916280"/>
                    <a:ext cx="3240000" cy="31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971640" y="2708280"/>
            <a:ext cx="36716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20000"/>
              </a:lnSpc>
              <a:spcAft>
                <a:spcPts val="601"/>
              </a:spcAft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华文中宋"/>
                <a:ea typeface="华文中宋"/>
              </a:rPr>
              <a:t>8</a:t>
            </a:r>
            <a:r>
              <a:rPr b="1" lang="en-US" sz="2400" spc="-1" strike="noStrike">
                <a:solidFill>
                  <a:srgbClr val="1d528d"/>
                </a:solidFill>
                <a:latin typeface="华文中宋"/>
                <a:ea typeface="华文中宋"/>
              </a:rPr>
              <a:t>种运算功能由</a:t>
            </a:r>
            <a:r>
              <a:rPr b="1" lang="en-US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多个部件并行实现</a:t>
            </a:r>
            <a:r>
              <a:rPr b="1" lang="en-US" sz="2400" spc="-1" strike="noStrike">
                <a:solidFill>
                  <a:srgbClr val="1d528d"/>
                </a:solidFill>
                <a:latin typeface="华文中宋"/>
                <a:ea typeface="华文中宋"/>
              </a:rPr>
              <a:t>，运算结果则经过一个八选一多路数据选择器由</a:t>
            </a:r>
            <a:r>
              <a:rPr b="1" lang="en-US" sz="2400" spc="-1" strike="noStrike">
                <a:solidFill>
                  <a:srgbClr val="1d528d"/>
                </a:solidFill>
                <a:latin typeface="华文中宋"/>
                <a:ea typeface="华文中宋"/>
              </a:rPr>
              <a:t>3</a:t>
            </a:r>
            <a:r>
              <a:rPr b="1" lang="en-US" sz="2400" spc="-1" strike="noStrike">
                <a:solidFill>
                  <a:srgbClr val="1d528d"/>
                </a:solidFill>
                <a:latin typeface="华文中宋"/>
                <a:ea typeface="华文中宋"/>
              </a:rPr>
              <a:t>根控制线</a:t>
            </a:r>
            <a:r>
              <a:rPr b="1" lang="en-US" sz="2400" spc="-1" strike="noStrike">
                <a:solidFill>
                  <a:srgbClr val="1d528d"/>
                </a:solidFill>
                <a:latin typeface="华文中宋"/>
                <a:ea typeface="华文中宋"/>
              </a:rPr>
              <a:t>ALU_OP[2:0]</a:t>
            </a:r>
            <a:r>
              <a:rPr b="1" lang="en-US" sz="2400" spc="-1" strike="noStrike">
                <a:solidFill>
                  <a:srgbClr val="1d528d"/>
                </a:solidFill>
                <a:latin typeface="华文中宋"/>
                <a:ea typeface="华文中宋"/>
              </a:rPr>
              <a:t>选通输出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744D-C995-4958-8995-BD1B4B7B6F6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B47079-4849-4F86-B6F7-1D92EAB60B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三 多功能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AL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、实验内容与原理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多功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模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987640" y="1557360"/>
          <a:ext cx="5905440" cy="47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1557360"/>
                    <a:ext cx="590544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4954680" y="172404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and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946400" y="220500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or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19680" y="2708280"/>
            <a:ext cx="51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xor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85200" y="356544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Verdana"/>
              </a:rPr>
              <a:t>加减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52520" y="314172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nor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08960" y="48690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Verdana"/>
              </a:rPr>
              <a:t>移位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08960" y="429264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Verdana"/>
              </a:rPr>
              <a:t>比较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39640" y="5877000"/>
                <a:ext cx="38163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F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⋅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39640" y="4965840"/>
                <a:ext cx="34560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sub>
                        </m:sSub>
                        <m:r>
                          <m:t xml:space="preserve">⊕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sub>
                        </m:sSub>
                        <m:r>
                          <m:t xml:space="preserve">⊕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sub>
                        </m:sSub>
                        <m:r>
                          <m:t xml:space="preserve">⊕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sub>
                        </m:sSub>
                        <m:r>
                          <m:t xml:space="preserve">⊕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0532-BD8C-4F3D-862C-05EC89A110A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37ECA9-C072-4CA8-9133-2D6AB81EA6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三 多功能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AL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41080" y="1345680"/>
            <a:ext cx="82818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、实验内容与原理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185760" indent="-6480">
              <a:lnSpc>
                <a:spcPct val="11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顶层验证模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16040" indent="-265320">
              <a:lnSpc>
                <a:spcPct val="11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目的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板卡上的设备，来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验证设计是否正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16040" indent="-265320">
              <a:lnSpc>
                <a:spcPct val="11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问题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运算，输入数据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数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输出结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也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数据；由于实验仪上只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逻辑开关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LE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灯，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无法做到将每个信号都对应配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到实验仪的某个输入输出设备引脚上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16040" indent="-265320">
              <a:lnSpc>
                <a:spcPct val="11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解决办法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需要采用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新的方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完成实验室的板级验证任务。</a:t>
            </a:r>
            <a:r>
              <a:rPr b="1" lang="zh-CN" sz="2400" spc="-1" strike="noStrike">
                <a:solidFill>
                  <a:srgbClr val="00ccff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056F-A4AB-4B91-9B16-6E781A6F4EF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E0A098-2AAD-4BC5-AFE1-A0383AFD40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三 多功能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AL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41080" y="1346040"/>
            <a:ext cx="82818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、实验内容与原理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185760" indent="-6480">
              <a:lnSpc>
                <a:spcPct val="12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顶层验证模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16040" indent="-265320">
              <a:lnSpc>
                <a:spcPct val="120000"/>
              </a:lnSpc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ALU_OP[2:0]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输入端口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可以直接经由顶层测试模块配置到实验板卡的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位逻辑开关上，以便手动控制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6040" indent="-265320">
              <a:lnSpc>
                <a:spcPct val="120000"/>
              </a:lnSpc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32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位输入数据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输入端口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以选择几组有代表性的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指定数据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来验证，然后由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实验板卡的开关来选择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如果使用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逻辑开关来做选择，则可指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规定的输入数据 </a:t>
            </a:r>
            <a:r>
              <a:rPr b="1" lang="zh-CN" sz="20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查看程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6040" indent="-265320">
              <a:lnSpc>
                <a:spcPct val="120000"/>
              </a:lnSpc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32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位输出数据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由于只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位的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LE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灯输出显示，则可以将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位数据分为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字节，由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位开关来选择显示哪个字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0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查看程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816D-8147-4577-8DD6-2CA07FDEBB5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253E7E-18ED-4004-ABBA-C2BF9AD268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三 多功能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AL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41080" y="1125360"/>
            <a:ext cx="81342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reg [31:0] A,B;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52812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wire [2:0] AB_SW;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52812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always @(*)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52812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begin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52812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case (AB_SW)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//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使用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位开关，选择指定的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组测试数据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52812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3'b000: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begin A = 32'h0000_0000;   B = 32'h0000_0000;end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52812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3'b001: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begin A = 32'h0000_0003;   B = 32'h0000_0607;end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52812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3'b010: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begin A = 32'h8000_0000;   B = 32'h8000_0000;end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52812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3'b011: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begin A = 32'h7FFF_FFFF;  B = 32'h7FFF_FFFF;end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52812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3'b100: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begin A = 32'hFFFF_FFFF;  B = 32'hFFFF_FFFF;end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52812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3'b101: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begin A = 32'h8000_0000;    B = 32'hFFFF_FFFF;end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52812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3'b110: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begin A = 32'hFFFF_FFFF;  B = 32'h8000_0000;end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52812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3'b111: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begin A = 32'h1234_5678;    B = 32'h3333_2222;end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52812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default: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begin A = 32'h9ABC_DEF0;  B = 32'h1111_2222;end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52812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endcase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52812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end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9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24360" y="6237360"/>
            <a:ext cx="1434960" cy="577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916360" y="981000"/>
            <a:ext cx="1726920" cy="576360"/>
          </a:xfrm>
          <a:prstGeom prst="wedgeRoundRectCallout">
            <a:avLst>
              <a:gd name="adj1" fmla="val -64245"/>
              <a:gd name="adj2" fmla="val 183884"/>
              <a:gd name="adj3" fmla="val 16667"/>
            </a:avLst>
          </a:prstGeom>
          <a:solidFill>
            <a:srgbClr val="ccffff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66"/>
                </a:solidFill>
                <a:latin typeface="Verdana"/>
              </a:rPr>
              <a:t>配置到</a:t>
            </a:r>
            <a:r>
              <a:rPr b="1" lang="en-US" sz="1600" spc="-1" strike="noStrike">
                <a:solidFill>
                  <a:srgbClr val="000066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66"/>
                </a:solidFill>
                <a:latin typeface="Verdana"/>
              </a:rPr>
              <a:t>位开关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C0BD-C435-435D-AB63-3D0C9BCD6AF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780F80-BEAD-4EA3-9B0C-603CBC1D6337}" type="datetime1">
              <a:rPr lang="en-US"/>
              <a:t>07/30/26</a:t>
            </a:fld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三 多功能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AL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1080" y="1342800"/>
            <a:ext cx="835164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wire [31:0] F;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wire ZF,OF;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wire [2:0] F_LED_SW;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always @(*)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begin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case (F_LED_SW)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3'b000: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LED = F[7:0];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3'b001: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LED = F[15:8];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3'b010: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LED = F[23:16];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3'b011: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LED = F[31:24];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default: begin 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LED[7] = ZF; LED[0] = OF;LED[6:1] = 6'b0;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       end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endcase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end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0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780000" y="6021360"/>
            <a:ext cx="1434960" cy="577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219640" y="1413000"/>
            <a:ext cx="3673440" cy="644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华文中宋"/>
                <a:ea typeface="华文中宋"/>
              </a:rPr>
              <a:t>2</a:t>
            </a:r>
            <a:r>
              <a:rPr b="1" lang="zh-CN" sz="2000" spc="-1" strike="noStrike">
                <a:solidFill>
                  <a:srgbClr val="000066"/>
                </a:solidFill>
                <a:latin typeface="华文中宋"/>
                <a:ea typeface="华文中宋"/>
              </a:rPr>
              <a:t>位开关：</a:t>
            </a:r>
            <a:r>
              <a:rPr b="1" lang="en-US" sz="2000" spc="-1" strike="noStrike">
                <a:solidFill>
                  <a:srgbClr val="000066"/>
                </a:solidFill>
                <a:latin typeface="华文中宋"/>
                <a:ea typeface="华文中宋"/>
              </a:rPr>
              <a:t>F_LED_SW[1:0]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华文中宋"/>
                <a:ea typeface="华文中宋"/>
              </a:rPr>
              <a:t>一个按钮：</a:t>
            </a:r>
            <a:r>
              <a:rPr b="1" lang="en-US" sz="2000" spc="-1" strike="noStrike">
                <a:solidFill>
                  <a:srgbClr val="000066"/>
                </a:solidFill>
                <a:latin typeface="华文中宋"/>
                <a:ea typeface="华文中宋"/>
              </a:rPr>
              <a:t>F_LED_SW[2]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16360" y="981000"/>
            <a:ext cx="1726920" cy="576360"/>
          </a:xfrm>
          <a:prstGeom prst="wedgeRoundRectCallout">
            <a:avLst>
              <a:gd name="adj1" fmla="val -61120"/>
              <a:gd name="adj2" fmla="val 133194"/>
              <a:gd name="adj3" fmla="val 16667"/>
            </a:avLst>
          </a:prstGeom>
          <a:solidFill>
            <a:srgbClr val="ccffff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66"/>
                </a:solidFill>
                <a:latin typeface="Verdana"/>
              </a:rPr>
              <a:t>配置到</a:t>
            </a:r>
            <a:r>
              <a:rPr b="1" lang="en-US" sz="1600" spc="-1" strike="noStrike">
                <a:solidFill>
                  <a:srgbClr val="000066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66"/>
                </a:solidFill>
                <a:latin typeface="Verdana"/>
              </a:rPr>
              <a:t>位开关和一个按钮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1AB4-1966-4AB1-A30C-AE0E9158631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FDB145-D830-4709-AE6F-FC7094BF523A}" type="datetime1">
              <a:rPr lang="en-US"/>
              <a:t>07/30/26</a:t>
            </a:fld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三 多功能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AL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41080" y="1345680"/>
            <a:ext cx="8281800" cy="31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、实验内容与原理 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185760" indent="-6480">
              <a:lnSpc>
                <a:spcPct val="110000"/>
              </a:lnSpc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顶层验证模块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08720" y="1628640"/>
            <a:ext cx="1657440" cy="2838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Times New Roman"/>
              </a:rPr>
              <a:t>ALU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</a:rPr>
              <a:t>模块的输入输出端口中，只有输入端口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Times New Roman"/>
              </a:rPr>
              <a:t>ALU_OP[2:0]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</a:rPr>
              <a:t>信号在顶层测试模块的端口中被引用了，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其他均在顶层模块内部被处理了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68360" y="2205000"/>
          <a:ext cx="6769080" cy="420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205000"/>
                    <a:ext cx="6769080" cy="42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7A51-FA09-41AC-97E3-F459DF671F6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C9E8EB-2C94-4DC8-A621-38CE9A9D8C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一 全加器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、实验目的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习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ISE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工具软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使用及仿真方法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习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FPGA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程序下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方法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熟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Nexys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实验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掌握运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Verilog HD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言进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结构描述与建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技巧和方法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二进制全加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原理与设计方法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7571-299D-4D58-998A-2CCA14244EA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9CE2F2-66ED-4FD8-A0D4-89788AF20C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三 多功能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AL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13428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、实验要求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行为描述方式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case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语句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编程实现多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模块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供后续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CPU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的设计使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编写验证模块验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模块功能正确性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指定的测试数据要有代表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课前任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编程、仿真、验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确保逻辑正确性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实验室任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配置管脚：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见下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生成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.bit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文件，下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ys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验板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FPG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完成板级验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撰写实验报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62E0-B950-4FC6-9C01-EBA3377457B5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041666-9CD3-43F4-9588-20A7D5BA8E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三 多功能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AL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实验三信号配置表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755640" y="2133720"/>
          <a:ext cx="7848720" cy="3247920"/>
        </p:xfrm>
        <a:graphic>
          <a:graphicData uri="http://schemas.openxmlformats.org/drawingml/2006/table">
            <a:tbl>
              <a:tblPr/>
              <a:tblGrid>
                <a:gridCol w="723960"/>
                <a:gridCol w="2012760"/>
                <a:gridCol w="1957680"/>
                <a:gridCol w="3154320"/>
              </a:tblGrid>
              <a:tr h="68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信号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配置设备管脚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功能说明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输入信号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LU_OP[2:0]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个逻辑开关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选择运算功能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B_SW</a:t>
                      </a: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[2:0]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个逻辑开关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选择指定的</a:t>
                      </a: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组测试数据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F_LED_SW[2:0]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个逻辑开关、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个按钮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选择显示运算结果的</a:t>
                      </a: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个字节，或者是标志</a:t>
                      </a: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ZF</a:t>
                      </a: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和</a:t>
                      </a: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OF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05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输出信号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LED[7:0]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个</a:t>
                      </a: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LED</a:t>
                      </a: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灯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显示运算结果的字节、或者</a:t>
                      </a: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ZF</a:t>
                      </a: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和</a:t>
                      </a: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OF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57F5-9CB5-423B-8DCF-75658B62DD4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DD0804-B334-4649-8CD2-8922E01FAA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三 多功能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AL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、实验步骤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句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句进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行为描述编程、仿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启动计算机，拷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工程文件到硬盘上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实验准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板卡电源开关跳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选择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取电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电缆连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机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板卡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验板的电源开关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机上打开工程文件，进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管脚配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生成编程文件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bit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，下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到板卡中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实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1FA2-4357-43CE-B001-FA708975BA6E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0A24F8-9907-41C8-A995-3A94173FC1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三 多功能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AL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13431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1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、思考与探索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记录实验结果到表中，分析结果是否符合预期；如果不符合，请分析原因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研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核心指令集，结合本实验所实现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分析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能否实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核心指令集的所有指令？如果不能，它还需要哪些运算功能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你的实验结果中能否对以下问题得出结论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sl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操作中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是对有符号数的比较还是无符号数的比较？如果不能，请考虑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=32’b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=32’bFFFF_ FFF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sl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操作实验，得出该问题的结论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0AF3-FB72-4880-B3CA-40AC11356DA3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D7822D-E285-4754-9191-9729D0EACC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三 多功能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AL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13431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、思考与探索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536400" indent="-277560">
              <a:lnSpc>
                <a:spcPct val="10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标志寄存器除了本实验中用到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Z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之外，还有以下几种，考虑如何编程产生它们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1000" indent="-264960">
              <a:lnSpc>
                <a:spcPct val="10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S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符号标志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SF=F[31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1000" indent="-264960">
              <a:lnSpc>
                <a:spcPct val="10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奇偶标志，运算结果中有偶数个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F=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有奇数个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F=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1000" indent="-264960">
              <a:lnSpc>
                <a:spcPct val="10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进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借位标志，它对无符号数运算有效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23880" indent="-357120">
              <a:lnSpc>
                <a:spcPct val="100000"/>
              </a:lnSpc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当进行加法运算时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Arial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F=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；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Arial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=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F=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23880" indent="-357120">
              <a:lnSpc>
                <a:spcPct val="100000"/>
              </a:lnSpc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当进行减法运算时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Arial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F=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Arial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=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F=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C4A7-36E2-446B-97C6-BBC9E7ECA686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BEB522-438F-4041-A9C9-737255441D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三 多功能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ALU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13431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1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、思考与探索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实验中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现了逻辑左移操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s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考虑逻辑右移和算术右移操作如何实现？考虑为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令系统中没有算术左移指令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谈谈你在实验中碰到了哪些问题？又是如何解决的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5950080"/>
            <a:ext cx="1434960" cy="57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463C-D499-4A3C-9030-AFC4F7A2FA89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28778B-C145-4772-AE9E-60531C0F7B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411280" y="2492280"/>
            <a:ext cx="446580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The End!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1B76-8786-42E1-AA84-022F07768672}" type="slidenum">
              <a:t>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22EB9C-EC08-4755-9189-A009CB4293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一 全加器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384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、实验内容与原理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计一个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位二进制加法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71640" y="2708280"/>
            <a:ext cx="3384360" cy="2712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4572000" y="1268280"/>
          <a:ext cx="4176720" cy="3953160"/>
        </p:xfrm>
        <a:graphic>
          <a:graphicData uri="http://schemas.openxmlformats.org/drawingml/2006/table">
            <a:tbl>
              <a:tblPr/>
              <a:tblGrid>
                <a:gridCol w="830160"/>
                <a:gridCol w="828720"/>
                <a:gridCol w="951120"/>
                <a:gridCol w="803160"/>
                <a:gridCol w="763560"/>
              </a:tblGrid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输入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b9793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输出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Ai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b979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Bi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b9793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Ci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b9793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Fi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Ci+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b979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b9793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b9793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b979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b9793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b9793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b979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b9793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b9793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b979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b9793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b9793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b979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b9793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b9793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b979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b9793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b9793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b979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b9793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b9793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b979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b9793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b9793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258920" y="5445000"/>
                <a:ext cx="679140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⊕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⊕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⊕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B3B8-10DC-486D-BC2E-A21BA06A9AD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06ED6E-44A7-4E16-BB69-4464D89DA6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一 全加器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342800"/>
            <a:ext cx="82296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、实验内容与原理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编程实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模块：要求使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ilo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言，采用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结构描述方式建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即采用门级元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实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根据逻辑表达式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AEA9-68E8-4FA8-A76F-09611A4C2DC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EFEAC9-5BB6-43A1-9048-CBB6F2F8DA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一 全加器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、实验要求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结构描述方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编程实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二进制全加器模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课前任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编程、仿真、验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确保逻辑正确性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实验室任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ff"/>
                </a:solidFill>
                <a:latin typeface="Arial"/>
              </a:rPr>
              <a:t>配置管脚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输入信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连接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开关上；将输出信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F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i+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连接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LE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灯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ff"/>
                </a:solidFill>
                <a:latin typeface="Arial"/>
              </a:rPr>
              <a:t>生成</a:t>
            </a:r>
            <a:r>
              <a:rPr b="1" lang="zh-CN" sz="2400" spc="-1" strike="noStrike">
                <a:solidFill>
                  <a:srgbClr val="00ccff"/>
                </a:solidFill>
                <a:latin typeface="Arial"/>
              </a:rPr>
              <a:t>*.bit</a:t>
            </a:r>
            <a:r>
              <a:rPr b="1" lang="zh-CN" sz="2400" spc="-1" strike="noStrike">
                <a:solidFill>
                  <a:srgbClr val="00ccff"/>
                </a:solidFill>
                <a:latin typeface="Arial"/>
              </a:rPr>
              <a:t>文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下载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Nexys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验板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FPG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ff"/>
                </a:solidFill>
                <a:latin typeface="Arial"/>
              </a:rPr>
              <a:t>完成板级验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ff"/>
                </a:solidFill>
                <a:latin typeface="Arial"/>
              </a:rPr>
              <a:t>撰写实验报告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含实验程序代码、激励代码及其仿真波形、综合得到的电路图、引脚配置、实验结果分析，以及你对本实验的“思考与探索”部分所作的思考与探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FBFA-673B-479D-81D9-5DF7E028520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D90038-4C9A-44EA-BFB9-130A7D594B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一 全加器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16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本实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G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引脚配置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835280" y="2060640"/>
          <a:ext cx="5689440" cy="3983040"/>
        </p:xfrm>
        <a:graphic>
          <a:graphicData uri="http://schemas.openxmlformats.org/drawingml/2006/table">
            <a:tbl>
              <a:tblPr/>
              <a:tblGrid>
                <a:gridCol w="712800"/>
                <a:gridCol w="1873080"/>
                <a:gridCol w="3103560"/>
              </a:tblGrid>
              <a:tr h="55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信号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配置设备管脚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 rowSpan="3"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输入信号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A</a:t>
                      </a:r>
                      <a:r>
                        <a:rPr b="1" lang="en-US" sz="2400" spc="-1" strike="noStrike" baseline="-25000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i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逻辑开关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62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B</a:t>
                      </a:r>
                      <a:r>
                        <a:rPr b="1" lang="en-US" sz="2400" spc="-1" strike="noStrike" baseline="-25000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i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逻辑开关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62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i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逻辑开关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738000">
                <a:tc rowSpan="2"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输出信号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F</a:t>
                      </a:r>
                      <a:r>
                        <a:rPr b="1" lang="en-US" sz="2400" spc="-1" strike="noStrike" baseline="-25000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i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LED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81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i+1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华文中宋"/>
                          <a:ea typeface="华文中宋"/>
                        </a:rPr>
                        <a:t>LED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F9DB-262F-4A92-80A8-B0B6840F825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6B9820-230F-40F0-A115-769D1424C1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一 全加器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、实验步骤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ilinx I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创建工程，编源码，然后编译、综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编写激励代码，观察仿真波形，直至验证正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实验准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板卡电源开关跳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选择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取电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电缆连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机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板卡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验板的电源开关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机上打开工程文件，进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管脚配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生成编程文件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bit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，下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到板卡中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实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AEE6-28B6-4784-82F0-B999A3CCB04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06E997-65A1-4CB5-A0F0-B873745171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一 全加器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、思考与探索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观察经过逻辑综合后产生的电路原理图，和你使用门级描述时预期的电路一致吗？如果不一致，分析可能的原因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尝试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使用数据流描述方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现该实验，并观察它所综合产生的电路，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结构建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产生的电路有何不同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调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次实验所设计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FA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模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尝试编程实现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位串行进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加法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谈谈你在实验中碰到了哪些问题？又是如何解决的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5950080"/>
            <a:ext cx="1434960" cy="57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0681-0759-4493-A8F7-185D19CCBCC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AC1E99-7983-4024-9583-0F007A3026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16:07:47Z</dcterms:created>
  <dc:creator>冯建文</dc:creator>
  <dc:description/>
  <cp:keywords/>
  <dc:language>en-US</dc:language>
  <cp:lastModifiedBy>微软用户</cp:lastModifiedBy>
  <dcterms:modified xsi:type="dcterms:W3CDTF">2014-04-03T05:08:30Z</dcterms:modified>
  <cp:revision>365</cp:revision>
  <dc:subject>第5章</dc:subject>
  <dc:title>《数字电路》实验指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