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59.png" ContentType="image/png"/>
  <Override PartName="/ppt/media/image21.wmf" ContentType="image/x-wmf"/>
  <Override PartName="/ppt/media/image20.png" ContentType="image/png"/>
  <Override PartName="/ppt/media/image18.wmf" ContentType="image/x-wmf"/>
  <Override PartName="/ppt/media/image2.jpeg" ContentType="image/jpeg"/>
  <Override PartName="/ppt/media/image19.png" ContentType="image/png"/>
  <Override PartName="/ppt/media/image17.wmf" ContentType="image/x-wmf"/>
  <Override PartName="/ppt/media/image16.png" ContentType="image/png"/>
  <Override PartName="/ppt/media/image56.wmf" ContentType="image/x-wmf"/>
  <Override PartName="/ppt/media/image10.png" ContentType="image/png"/>
  <Override PartName="/ppt/media/image1.jpeg" ContentType="image/jpeg"/>
  <Override PartName="/ppt/media/image47.png" ContentType="image/png"/>
  <Override PartName="/ppt/media/image50.wmf" ContentType="image/x-wmf"/>
  <Override PartName="/ppt/media/image25.wmf" ContentType="image/x-wmf"/>
  <Override PartName="/ppt/media/image3.jpeg" ContentType="image/jpeg"/>
  <Override PartName="/ppt/media/image29.png" ContentType="image/png"/>
  <Override PartName="/ppt/media/image32.wmf" ContentType="image/x-wmf"/>
  <Override PartName="/ppt/media/image14.wmf" ContentType="image/x-wmf"/>
  <Override PartName="/ppt/media/image58.jpeg" ContentType="image/jpeg"/>
  <Override PartName="/ppt/media/image6.png" ContentType="image/png"/>
  <Override PartName="/ppt/media/image15.wmf" ContentType="image/x-wmf"/>
  <Override PartName="/ppt/media/image54.png" ContentType="image/png"/>
  <Override PartName="/ppt/media/image7.png" ContentType="image/png"/>
  <Override PartName="/ppt/media/image40.wmf" ContentType="image/x-wmf"/>
  <Override PartName="/ppt/media/image37.wmf" ContentType="image/x-wmf"/>
  <Override PartName="/ppt/media/image38.wmf" ContentType="image/x-wmf"/>
  <Override PartName="/ppt/media/image39.wmf" ContentType="image/x-wmf"/>
  <Override PartName="/ppt/media/image42.wmf" ContentType="image/x-wmf"/>
  <Override PartName="/ppt/media/image44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41.wmf" ContentType="image/x-wmf"/>
  <Override PartName="/ppt/media/image8.png" ContentType="image/png"/>
  <Override PartName="/ppt/media/image43.wmf" ContentType="image/x-wmf"/>
  <Override PartName="/ppt/media/image55.wmf" ContentType="image/x-wmf"/>
  <Override PartName="/ppt/media/image45.wmf" ContentType="image/x-wmf"/>
  <Override PartName="/ppt/media/image46.png" ContentType="image/png"/>
  <Override PartName="/ppt/media/image57.wmf" ContentType="image/x-wmf"/>
  <Override PartName="/ppt/media/image36.wmf" ContentType="image/x-wmf"/>
  <Override PartName="/ppt/media/image34.wmf" ContentType="image/x-wmf"/>
  <Override PartName="/ppt/media/image33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31.wmf" ContentType="image/x-wmf"/>
  <Override PartName="/ppt/media/image28.png" ContentType="image/png"/>
  <Override PartName="/ppt/media/image11.wmf" ContentType="image/x-wmf"/>
  <Override PartName="/ppt/media/image48.wmf" ContentType="image/x-wmf"/>
  <Override PartName="/ppt/media/image9.gif" ContentType="image/gif"/>
  <Override PartName="/ppt/media/image35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F2B0F-4D00-4FE8-A342-47147798A1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6B5E5-AD4F-472A-A9B6-E5904B4F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FB78D-0899-4A2C-B547-205A4A9F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CC37B-C405-4F23-963C-7E9A10BEEB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2640" y="380880"/>
            <a:ext cx="6705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1AB70-8BD7-4873-A64F-CFE96CAF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C4730-7123-4B59-9724-6BB4375C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B003F-8019-4581-A10A-0CECEE56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B4443-06D8-4CED-BD10-E77D76E1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42640" y="380880"/>
            <a:ext cx="6705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C48C3-C4D7-493C-9D68-C04EF25E9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199BB-C810-4192-A2E5-D0EC794F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AC1DA-76AB-4703-91DC-97B287A6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68C25-BA7F-4FF5-9C90-18F05E85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7.png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344520"/>
            <a:ext cx="8194680" cy="633240"/>
          </a:xfrm>
          <a:custGeom>
            <a:avLst/>
            <a:gdLst/>
            <a:ahLst/>
            <a:rect l="l" t="t" r="r" b="b"/>
            <a:pathLst>
              <a:path w="5049" h="1471">
                <a:moveTo>
                  <a:pt x="0" y="0"/>
                </a:moveTo>
                <a:lnTo>
                  <a:pt x="5049" y="2"/>
                </a:lnTo>
                <a:lnTo>
                  <a:pt x="5048" y="1458"/>
                </a:lnTo>
                <a:lnTo>
                  <a:pt x="0" y="1471"/>
                </a:lnTo>
                <a:lnTo>
                  <a:pt x="0" y="0"/>
                </a:lnTo>
                <a:close/>
              </a:path>
            </a:pathLst>
          </a:cu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8153280" y="0"/>
            <a:ext cx="990720" cy="6858000"/>
            <a:chOff x="8153280" y="0"/>
            <a:chExt cx="990720" cy="6858000"/>
          </a:xfrm>
        </p:grpSpPr>
        <p:sp>
          <p:nvSpPr>
            <p:cNvPr id="2" name=""/>
            <p:cNvSpPr/>
            <p:nvPr/>
          </p:nvSpPr>
          <p:spPr>
            <a:xfrm>
              <a:off x="8155800" y="0"/>
              <a:ext cx="987840" cy="6858000"/>
            </a:xfrm>
            <a:prstGeom prst="rect">
              <a:avLst/>
            </a:prstGeom>
            <a:solidFill>
              <a:srgbClr val="a0b5c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153280" y="347760"/>
              <a:ext cx="990720" cy="623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7696080" y="5943600"/>
            <a:ext cx="609840" cy="533520"/>
          </a:xfrm>
          <a:prstGeom prst="hexagon">
            <a:avLst>
              <a:gd name="adj" fmla="val 28576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229600" y="5638680"/>
            <a:ext cx="609480" cy="533520"/>
          </a:xfrm>
          <a:prstGeom prst="hexagon">
            <a:avLst>
              <a:gd name="adj" fmla="val 28559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220240" y="6229440"/>
            <a:ext cx="609480" cy="533160"/>
          </a:xfrm>
          <a:prstGeom prst="hexagon">
            <a:avLst>
              <a:gd name="adj" fmla="val 28579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5196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8286840" y="6386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C51E-120D-4761-B319-94A54A510B35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152280" y="228600"/>
            <a:ext cx="838080" cy="837720"/>
            <a:chOff x="152280" y="228600"/>
            <a:chExt cx="838080" cy="837720"/>
          </a:xfrm>
        </p:grpSpPr>
        <p:sp>
          <p:nvSpPr>
            <p:cNvPr id="11" name=""/>
            <p:cNvSpPr/>
            <p:nvPr/>
          </p:nvSpPr>
          <p:spPr>
            <a:xfrm>
              <a:off x="152280" y="427680"/>
              <a:ext cx="473400" cy="418680"/>
            </a:xfrm>
            <a:prstGeom prst="hexagon">
              <a:avLst>
                <a:gd name="adj" fmla="val 28267"/>
                <a:gd name="vf" fmla="val 115470"/>
              </a:avLst>
            </a:prstGeom>
            <a:solidFill>
              <a:srgbClr val="4c59d2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16960" y="228600"/>
              <a:ext cx="473400" cy="418680"/>
            </a:xfrm>
            <a:prstGeom prst="hexagon">
              <a:avLst>
                <a:gd name="adj" fmla="val 28267"/>
                <a:gd name="vf" fmla="val 115470"/>
              </a:avLst>
            </a:prstGeom>
            <a:solidFill>
              <a:srgbClr val="85ba54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16960" y="647280"/>
              <a:ext cx="473400" cy="419040"/>
            </a:xfrm>
            <a:prstGeom prst="hexagon">
              <a:avLst>
                <a:gd name="adj" fmla="val 28243"/>
                <a:gd name="vf" fmla="val 115470"/>
              </a:avLst>
            </a:prstGeom>
            <a:solidFill>
              <a:srgbClr val="de8848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" name="PlaceHolder 4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004240" y="0"/>
            <a:ext cx="1139760" cy="685800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638600"/>
            <a:ext cx="9144000" cy="2219400"/>
          </a:xfrm>
          <a:prstGeom prst="rect">
            <a:avLst/>
          </a:prstGeom>
          <a:solidFill>
            <a:srgbClr val="a0b5c4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149560"/>
            <a:ext cx="9144000" cy="2498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9360" y="2138400"/>
            <a:ext cx="8015040" cy="2271600"/>
          </a:xfrm>
          <a:custGeom>
            <a:avLst/>
            <a:gdLst/>
            <a:ahLst/>
            <a:rect l="l" t="t" r="r" b="b"/>
            <a:pathLst>
              <a:path w="5049" h="1471">
                <a:moveTo>
                  <a:pt x="0" y="0"/>
                </a:moveTo>
                <a:lnTo>
                  <a:pt x="5049" y="2"/>
                </a:lnTo>
                <a:lnTo>
                  <a:pt x="5048" y="1458"/>
                </a:lnTo>
                <a:lnTo>
                  <a:pt x="0" y="1471"/>
                </a:lnTo>
                <a:lnTo>
                  <a:pt x="0" y="0"/>
                </a:lnTo>
                <a:close/>
              </a:path>
            </a:pathLst>
          </a:custGeom>
          <a:solidFill>
            <a:srgbClr val="a0b5c4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96080" y="5943600"/>
            <a:ext cx="609840" cy="533520"/>
          </a:xfrm>
          <a:prstGeom prst="hexagon">
            <a:avLst>
              <a:gd name="adj" fmla="val 28576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29600" y="5638680"/>
            <a:ext cx="609480" cy="533520"/>
          </a:xfrm>
          <a:prstGeom prst="hexagon">
            <a:avLst>
              <a:gd name="adj" fmla="val 28559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20240" y="6229440"/>
            <a:ext cx="609480" cy="533160"/>
          </a:xfrm>
          <a:prstGeom prst="hexagon">
            <a:avLst>
              <a:gd name="adj" fmla="val 28579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90440" y="2324160"/>
            <a:ext cx="3276720" cy="3314520"/>
            <a:chOff x="190440" y="2324160"/>
            <a:chExt cx="3276720" cy="3314520"/>
          </a:xfrm>
        </p:grpSpPr>
        <p:sp>
          <p:nvSpPr>
            <p:cNvPr id="59" name=""/>
            <p:cNvSpPr/>
            <p:nvPr/>
          </p:nvSpPr>
          <p:spPr>
            <a:xfrm>
              <a:off x="190440" y="3162240"/>
              <a:ext cx="1752840" cy="1600200"/>
            </a:xfrm>
            <a:prstGeom prst="hexagon">
              <a:avLst>
                <a:gd name="adj" fmla="val 27385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38360" y="2324160"/>
              <a:ext cx="1828800" cy="1600200"/>
            </a:xfrm>
            <a:prstGeom prst="hexagon">
              <a:avLst>
                <a:gd name="adj" fmla="val 28571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00200" y="4038480"/>
              <a:ext cx="1828800" cy="1600200"/>
            </a:xfrm>
            <a:prstGeom prst="hexagon">
              <a:avLst>
                <a:gd name="adj" fmla="val 28571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aphicFrame>
        <p:nvGraphicFramePr>
          <p:cNvPr id="62" name=""/>
          <p:cNvGraphicFramePr/>
          <p:nvPr/>
        </p:nvGraphicFramePr>
        <p:xfrm>
          <a:off x="1143000" y="1371600"/>
          <a:ext cx="676260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1371600"/>
                    <a:ext cx="67626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429000" y="3581280"/>
          <a:ext cx="4419720" cy="270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3581280"/>
                    <a:ext cx="441972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0" y="6383160"/>
            <a:ext cx="1905120" cy="47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3635280" y="2236680"/>
          <a:ext cx="1944720" cy="831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635280" y="2236680"/>
                    <a:ext cx="194472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3708360" y="2908440"/>
          <a:ext cx="4106880" cy="807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708360" y="2908440"/>
                    <a:ext cx="410688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086c2"/>
                </a:solidFill>
                <a:latin typeface="黑体"/>
              </a:rPr>
              <a:t>Click to edit the title text format</a:t>
            </a:r>
            <a:endParaRPr b="0" lang="en-US" sz="3600" spc="-1" strike="noStrike">
              <a:solidFill>
                <a:srgbClr val="5086c2"/>
              </a:solidFill>
              <a:latin typeface="黑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黑体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黑体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黑体"/>
              </a:rPr>
              <a:t>Third Outline Level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Font typeface="黑体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黑体"/>
              </a:rPr>
              <a:t>Fourth Outline Level</a:t>
            </a:r>
            <a:endParaRPr b="1" lang="en-US" sz="2000" spc="-1" strike="noStrike">
              <a:solidFill>
                <a:srgbClr val="003366"/>
              </a:solidFill>
              <a:latin typeface="黑体"/>
            </a:endParaRPr>
          </a:p>
          <a:p>
            <a:pPr lvl="4" marL="1828800" algn="ctr">
              <a:spcBef>
                <a:spcPts val="499"/>
              </a:spcBef>
              <a:buClr>
                <a:srgbClr val="003366"/>
              </a:buClr>
              <a:buFont typeface="黑体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黑体"/>
              </a:rPr>
              <a:t>Fifth Outline Level</a:t>
            </a:r>
            <a:endParaRPr b="1" lang="en-US" sz="2000" spc="-1" strike="noStrike">
              <a:solidFill>
                <a:srgbClr val="003366"/>
              </a:solidFill>
              <a:latin typeface="黑体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黑体"/>
              </a:rPr>
              <a:t>Sixth Outline Level</a:t>
            </a:r>
            <a:endParaRPr b="1" lang="en-US" sz="2000" spc="-1" strike="noStrike">
              <a:solidFill>
                <a:srgbClr val="003366"/>
              </a:solidFill>
              <a:latin typeface="黑体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黑体"/>
              </a:rPr>
              <a:t>Seventh Outline Level</a:t>
            </a:r>
            <a:endParaRPr b="1" lang="en-US" sz="2000" spc="-1" strike="noStrike">
              <a:solidFill>
                <a:srgbClr val="003366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png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20.xml"/><Relationship Id="rId7" Type="http://schemas.openxmlformats.org/officeDocument/2006/relationships/slide" Target="slide20.xml"/><Relationship Id="rId8" Type="http://schemas.openxmlformats.org/officeDocument/2006/relationships/slide" Target="slide20.xml"/><Relationship Id="rId9" Type="http://schemas.openxmlformats.org/officeDocument/2006/relationships/slide" Target="slide19.xml"/><Relationship Id="rId10" Type="http://schemas.openxmlformats.org/officeDocument/2006/relationships/slide" Target="slide19.xml"/><Relationship Id="rId11" Type="http://schemas.openxmlformats.org/officeDocument/2006/relationships/slide" Target="slide19.xml"/><Relationship Id="rId1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" Target="slide17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" Target="slide17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slide" Target="slide24.xml"/><Relationship Id="rId8" Type="http://schemas.openxmlformats.org/officeDocument/2006/relationships/slide" Target="slide24.xml"/><Relationship Id="rId9" Type="http://schemas.openxmlformats.org/officeDocument/2006/relationships/slide" Target="slide24.xml"/><Relationship Id="rId10" Type="http://schemas.openxmlformats.org/officeDocument/2006/relationships/slide" Target="slide25.xml"/><Relationship Id="rId11" Type="http://schemas.openxmlformats.org/officeDocument/2006/relationships/slide" Target="slide25.xml"/><Relationship Id="rId12" Type="http://schemas.openxmlformats.org/officeDocument/2006/relationships/slide" Target="slide25.xml"/><Relationship Id="rId1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" Target="slide10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" Target="slide10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" Target="slide10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" Target="slide10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" Target="slide8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slide" Target="slide30.xml"/><Relationship Id="rId4" Type="http://schemas.openxmlformats.org/officeDocument/2006/relationships/slide" Target="slide47.xml"/><Relationship Id="rId5" Type="http://schemas.openxmlformats.org/officeDocument/2006/relationships/slide" Target="slide64.xml"/><Relationship Id="rId6" Type="http://schemas.openxmlformats.org/officeDocument/2006/relationships/slide" Target="slide62.xml"/><Relationship Id="rId7" Type="http://schemas.openxmlformats.org/officeDocument/2006/relationships/slide" Target="slide65.xml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2.xml"/><Relationship Id="rId3" Type="http://schemas.openxmlformats.org/officeDocument/2006/relationships/slide" Target="slide42.xml"/><Relationship Id="rId4" Type="http://schemas.openxmlformats.org/officeDocument/2006/relationships/slide" Target="slide38.xml"/><Relationship Id="rId5" Type="http://schemas.openxmlformats.org/officeDocument/2006/relationships/slide" Target="slide38.xml"/><Relationship Id="rId6" Type="http://schemas.openxmlformats.org/officeDocument/2006/relationships/slide" Target="slide46.xml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" Target="slide30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" Target="slide30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8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10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slide" Target="slide30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png"/><Relationship Id="rId3" Type="http://schemas.openxmlformats.org/officeDocument/2006/relationships/slide" Target="slide47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" Target="slide4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6840" y="1076040"/>
            <a:ext cx="771516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逻辑函数：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用于表达逻辑变量之间关系的代数式，使用与、或、非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种基本逻辑运算，可以构造出任何逻辑函数 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逻辑代数：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逻辑代数是研究逻辑函数运算和化简的一种数学系统，也是用来描述、分析、简化数字电路的数学工具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在数字电路中，表示逻辑变量之间的逻辑关系的方法一般有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种：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逻辑代数式、真值表、电路图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真值表：</a:t>
            </a:r>
            <a:r>
              <a:rPr b="1" lang="zh-CN" sz="2400" spc="-1" strike="noStrike">
                <a:solidFill>
                  <a:srgbClr val="4c59d2"/>
                </a:solidFill>
                <a:latin typeface="黑体"/>
              </a:rPr>
              <a:t>将所有输入变量的所有可能的取值组合，及其在此情况下输出变量应有的取值罗列出来，所形成的一张表。它最全面、最直观地表达了逻辑关系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逻辑门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233E5-471B-4653-902E-2B923090354F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5702D6-0DD7-422F-A6D0-5A169ED224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14300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逻辑门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07604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黑体"/>
              </a:rPr>
              <a:t>1 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</a:rPr>
              <a:t>、双极型逻辑门</a:t>
            </a: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24000" y="1700280"/>
          <a:ext cx="7848360" cy="24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00280"/>
                    <a:ext cx="784836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40610-980F-4BD7-A375-068050F1822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240B2-33AF-4D02-B6C8-54A63D004A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逻辑门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07604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黑体"/>
              </a:rPr>
              <a:t>2 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</a:rPr>
              <a:t>、单极型逻辑门</a:t>
            </a: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68360" y="1592280"/>
          <a:ext cx="7343640" cy="30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92280"/>
                    <a:ext cx="734364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F8C7B-F42F-4E7B-8F42-7FA787310461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7D1904-45F3-4FF9-BB68-888B2D35BE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逻辑门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  <a:ea typeface="宋体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076040"/>
            <a:ext cx="7283520" cy="14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黑体"/>
              </a:rPr>
              <a:t>3 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</a:rPr>
              <a:t>、其他类型的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</a:rPr>
              <a:t>TTL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</a:rPr>
              <a:t>门电路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990720" indent="-533520"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（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）集电极开路与非门（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OC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门）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990720" indent="-533520"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其输入输出逻辑关系为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 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932360" y="2095560"/>
          <a:ext cx="2768760" cy="25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095560"/>
                    <a:ext cx="2768760" cy="25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971640" y="2421000"/>
          <a:ext cx="6840360" cy="31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2421000"/>
                    <a:ext cx="6840360" cy="31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E4329-231B-43D8-8991-706480A90DB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5AA3C-8BBF-4E02-9159-F3123A4B48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逻辑门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  <a:ea typeface="宋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076040"/>
            <a:ext cx="7283520" cy="14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黑体"/>
              </a:rPr>
              <a:t>3 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</a:rPr>
              <a:t>、其他类型的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</a:rPr>
              <a:t>TTL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</a:rPr>
              <a:t>门电路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990720" indent="-533520"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（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）三态门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79280" y="1989000"/>
          <a:ext cx="7848720" cy="19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784872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7AB79-C38F-4F23-98F6-5DA4B274CCA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E5280F-019B-41F3-AB0D-28CC0E80DE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4300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逻辑门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  <a:ea typeface="宋体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7283520" cy="14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黑体"/>
              </a:rPr>
              <a:t>4 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</a:rPr>
              <a:t>、逻辑门的表示方式 </a:t>
            </a: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89040" y="1459080"/>
          <a:ext cx="4896000" cy="52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9040" y="1459080"/>
                    <a:ext cx="4896000" cy="52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8EF14-DF35-42CA-9A61-66BBDEECE8F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032683-864F-45DF-A79B-115BFEEADF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4300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逻辑门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  <a:ea typeface="宋体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076040"/>
            <a:ext cx="7283520" cy="14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黑体"/>
              </a:rPr>
              <a:t>4 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</a:rPr>
              <a:t>、逻辑门的表示方式 </a:t>
            </a: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619280" y="1628640"/>
          <a:ext cx="5545080" cy="29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628640"/>
                    <a:ext cx="554508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07833-6A81-4532-BBCB-B5FEBF1702F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B8EFA8-99A2-40DA-ADCB-D548E0BB57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729320" y="60930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 rot="20805000">
            <a:off x="4400640" y="2749680"/>
            <a:ext cx="1150920" cy="33163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fefefe"/>
              </a:gs>
            </a:gsLst>
            <a:lin ang="115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5461200">
            <a:off x="2606400" y="2301840"/>
            <a:ext cx="1150920" cy="33163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669900"/>
              </a:gs>
              <a:gs pos="100000">
                <a:srgbClr val="fefefe"/>
              </a:gs>
            </a:gsLst>
            <a:lin ang="53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14128200">
            <a:off x="4456800" y="771840"/>
            <a:ext cx="1150920" cy="331776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565868"/>
              </a:gs>
              <a:gs pos="100000">
                <a:srgbClr val="fefefe"/>
              </a:gs>
            </a:gsLst>
            <a:lin ang="182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432800" y="1521720"/>
            <a:ext cx="5481000" cy="4643640"/>
            <a:chOff x="1432800" y="1521720"/>
            <a:chExt cx="5481000" cy="4643640"/>
          </a:xfrm>
        </p:grpSpPr>
        <p:sp>
          <p:nvSpPr>
            <p:cNvPr id="248" name=""/>
            <p:cNvSpPr/>
            <p:nvPr/>
          </p:nvSpPr>
          <p:spPr>
            <a:xfrm>
              <a:off x="4203000" y="2849400"/>
              <a:ext cx="1150560" cy="331596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6256200">
              <a:off x="2606400" y="2148840"/>
              <a:ext cx="1150560" cy="33166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4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4922600">
              <a:off x="4584240" y="1001160"/>
              <a:ext cx="1150560" cy="331704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74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692520" y="2813040"/>
            <a:ext cx="1339920" cy="1338120"/>
            <a:chOff x="3692520" y="2813040"/>
            <a:chExt cx="1339920" cy="1338120"/>
          </a:xfrm>
        </p:grpSpPr>
        <p:sp>
          <p:nvSpPr>
            <p:cNvPr id="252" name=""/>
            <p:cNvSpPr/>
            <p:nvPr/>
          </p:nvSpPr>
          <p:spPr>
            <a:xfrm>
              <a:off x="3692520" y="2813040"/>
              <a:ext cx="1339920" cy="1338120"/>
            </a:xfrm>
            <a:prstGeom prst="ellipse">
              <a:avLst/>
            </a:prstGeom>
            <a:gradFill rotWithShape="0">
              <a:gsLst>
                <a:gs pos="0">
                  <a:srgbClr val="f14343"/>
                </a:gs>
                <a:gs pos="100000">
                  <a:srgbClr val="91282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45520" y="2835000"/>
              <a:ext cx="1033560" cy="505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57600" y="3068640"/>
            <a:ext cx="14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基本的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逻辑运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618560" y="2936880"/>
            <a:ext cx="174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4c59d2"/>
                </a:solidFill>
                <a:uFillTx/>
                <a:latin typeface="黑体"/>
                <a:ea typeface="黑体"/>
                <a:hlinkClick r:id="rId3" action="ppaction://hlinksldjump"/>
              </a:rPr>
              <a:t>与运算（</a:t>
            </a:r>
            <a:r>
              <a:rPr b="0" lang="en-GB" sz="2400" spc="-1" strike="noStrike" u="sng">
                <a:solidFill>
                  <a:srgbClr val="4c59d2"/>
                </a:solidFill>
                <a:uFillTx/>
                <a:latin typeface="黑体"/>
                <a:ea typeface="黑体"/>
                <a:hlinkClick r:id="rId4" action="ppaction://hlinksldjump"/>
              </a:rPr>
              <a:t>AND</a:t>
            </a:r>
            <a:r>
              <a:rPr b="0" lang="zh-CN" sz="2400" spc="-1" strike="noStrike" u="sng">
                <a:solidFill>
                  <a:srgbClr val="4c59d2"/>
                </a:solidFill>
                <a:uFillTx/>
                <a:latin typeface="黑体"/>
                <a:ea typeface="黑体"/>
                <a:hlinkClick r:id="rId5" action="ppaction://hlinksldjump"/>
              </a:rPr>
              <a:t>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220000" y="2108160"/>
            <a:ext cx="152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4c59d2"/>
                </a:solidFill>
                <a:uFillTx/>
                <a:latin typeface="黑体"/>
                <a:ea typeface="黑体"/>
                <a:hlinkClick r:id="rId6" action="ppaction://hlinksldjump"/>
              </a:rPr>
              <a:t>或运算（</a:t>
            </a:r>
            <a:r>
              <a:rPr b="0" lang="en-GB" sz="2400" spc="-1" strike="noStrike" u="sng">
                <a:solidFill>
                  <a:srgbClr val="4c59d2"/>
                </a:solidFill>
                <a:uFillTx/>
                <a:latin typeface="黑体"/>
                <a:ea typeface="黑体"/>
                <a:hlinkClick r:id="rId7" action="ppaction://hlinksldjump"/>
              </a:rPr>
              <a:t>OR</a:t>
            </a:r>
            <a:r>
              <a:rPr b="0" lang="zh-CN" sz="2400" spc="-1" strike="noStrike" u="sng">
                <a:solidFill>
                  <a:srgbClr val="4c59d2"/>
                </a:solidFill>
                <a:uFillTx/>
                <a:latin typeface="黑体"/>
                <a:ea typeface="黑体"/>
                <a:hlinkClick r:id="rId8" action="ppaction://hlinksldjump"/>
              </a:rPr>
              <a:t>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154320" y="4659480"/>
            <a:ext cx="1733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4c59d2"/>
                </a:solidFill>
                <a:uFillTx/>
                <a:latin typeface="黑体"/>
                <a:ea typeface="黑体"/>
                <a:hlinkClick r:id="rId9" action="ppaction://hlinksldjump"/>
              </a:rPr>
              <a:t>非运算（</a:t>
            </a:r>
            <a:r>
              <a:rPr b="0" lang="en-GB" sz="2400" spc="-1" strike="noStrike" u="sng">
                <a:solidFill>
                  <a:srgbClr val="4c59d2"/>
                </a:solidFill>
                <a:uFillTx/>
                <a:latin typeface="黑体"/>
                <a:ea typeface="黑体"/>
                <a:hlinkClick r:id="rId10" action="ppaction://hlinksldjump"/>
              </a:rPr>
              <a:t>NOT</a:t>
            </a:r>
            <a:r>
              <a:rPr b="0" lang="zh-CN" sz="2400" spc="-1" strike="noStrike" u="sng">
                <a:solidFill>
                  <a:srgbClr val="4c59d2"/>
                </a:solidFill>
                <a:uFillTx/>
                <a:latin typeface="黑体"/>
                <a:ea typeface="黑体"/>
                <a:hlinkClick r:id="rId11" action="ppaction://hlinksldjump"/>
              </a:rPr>
              <a:t>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二、逻辑门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076040"/>
            <a:ext cx="7283520" cy="14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黑体"/>
              </a:rPr>
              <a:t>4 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</a:rPr>
              <a:t>、逻辑门的表示方式</a:t>
            </a: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所有逻辑运算都是</a:t>
            </a:r>
            <a:r>
              <a:rPr b="0" lang="zh-CN" sz="2400" spc="-1" strike="noStrike">
                <a:solidFill>
                  <a:srgbClr val="008000"/>
                </a:solidFill>
                <a:latin typeface="黑体"/>
              </a:rPr>
              <a:t>按位操作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的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CF2BA-67A8-4DDC-89CE-C9E7AF55047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BE717-7A92-48FE-B1F1-DB58E85D94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与运算（</a:t>
            </a:r>
            <a:r>
              <a:rPr b="1" lang="en-GB" sz="3200" spc="-1" strike="noStrike">
                <a:solidFill>
                  <a:srgbClr val="ffffff"/>
                </a:solidFill>
                <a:latin typeface="黑体"/>
              </a:rPr>
              <a:t>AN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076400"/>
            <a:ext cx="655956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逻辑表达式：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	</a:t>
            </a:r>
            <a:r>
              <a:rPr b="1" lang="en-GB" sz="2400" spc="-1" strike="noStrike">
                <a:solidFill>
                  <a:srgbClr val="003366"/>
                </a:solidFill>
                <a:latin typeface="黑体"/>
              </a:rPr>
              <a:t>F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＝</a:t>
            </a:r>
            <a:r>
              <a:rPr b="1" lang="en-GB" sz="2400" spc="-1" strike="noStrike">
                <a:solidFill>
                  <a:srgbClr val="003366"/>
                </a:solidFill>
                <a:latin typeface="黑体"/>
              </a:rPr>
              <a:t>AB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＝</a:t>
            </a:r>
            <a:r>
              <a:rPr b="1" lang="en-GB" sz="2400" spc="-1" strike="noStrike">
                <a:solidFill>
                  <a:srgbClr val="003366"/>
                </a:solidFill>
                <a:latin typeface="黑体"/>
              </a:rPr>
              <a:t>A</a:t>
            </a:r>
            <a:r>
              <a:rPr b="1" lang="en-GB" sz="2400" spc="-1" strike="noStrike">
                <a:solidFill>
                  <a:srgbClr val="ff0000"/>
                </a:solidFill>
                <a:latin typeface="黑体"/>
              </a:rPr>
              <a:t>·</a:t>
            </a:r>
            <a:r>
              <a:rPr b="1" lang="en-GB" sz="2400" spc="-1" strike="noStrike">
                <a:solidFill>
                  <a:srgbClr val="003366"/>
                </a:solidFill>
                <a:latin typeface="黑体"/>
              </a:rPr>
              <a:t>B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逻辑门电路符号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262" name=""/>
          <p:cNvSpPr/>
          <p:nvPr/>
        </p:nvSpPr>
        <p:spPr>
          <a:xfrm>
            <a:off x="611280" y="4797360"/>
            <a:ext cx="489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运算规则：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	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有</a:t>
            </a:r>
            <a:r>
              <a:rPr b="1" lang="en-GB" sz="2400" spc="-1" strike="noStrike">
                <a:solidFill>
                  <a:srgbClr val="003366"/>
                </a:solidFill>
                <a:latin typeface="黑体"/>
                <a:ea typeface="黑体"/>
              </a:rPr>
              <a:t>0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就出</a:t>
            </a:r>
            <a:r>
              <a:rPr b="1" lang="en-GB" sz="2400" spc="-1" strike="noStrike">
                <a:solidFill>
                  <a:srgbClr val="003366"/>
                </a:solidFill>
                <a:latin typeface="黑体"/>
                <a:ea typeface="黑体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1280" y="414972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真值表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292720" y="2492280"/>
          <a:ext cx="2951280" cy="10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2492280"/>
                    <a:ext cx="295128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5435640" y="3860640"/>
          <a:ext cx="2232000" cy="2009880"/>
        </p:xfrm>
        <a:graphic>
          <a:graphicData uri="http://schemas.openxmlformats.org/drawingml/2006/table">
            <a:tbl>
              <a:tblPr/>
              <a:tblGrid>
                <a:gridCol w="744480"/>
                <a:gridCol w="743040"/>
                <a:gridCol w="744480"/>
              </a:tblGrid>
              <a:tr h="395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宋体"/>
                        </a:rPr>
                        <a:t>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>
                      <a:noFill/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宋体"/>
                        </a:rPr>
                        <a:t>B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黑体"/>
                          <a:ea typeface="宋体"/>
                        </a:rPr>
                        <a:t>F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黑体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黑体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黑体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黑体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pic>
        <p:nvPicPr>
          <p:cNvPr id="26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729320" y="60930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4F9F1-2482-4790-BA75-4D6B110439D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46AB1-4540-4E40-8952-EF6F27980A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非运算（</a:t>
            </a:r>
            <a:r>
              <a:rPr b="1" lang="en-GB" sz="3200" spc="-1" strike="noStrike">
                <a:solidFill>
                  <a:srgbClr val="ffffff"/>
                </a:solidFill>
                <a:latin typeface="黑体"/>
              </a:rPr>
              <a:t>NO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076040"/>
            <a:ext cx="564516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逻辑表达式：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	</a:t>
            </a:r>
            <a:r>
              <a:rPr b="1" lang="en-GB" sz="2400" spc="-1" strike="noStrike">
                <a:solidFill>
                  <a:srgbClr val="003366"/>
                </a:solidFill>
                <a:latin typeface="黑体"/>
              </a:rPr>
              <a:t>F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＝</a:t>
            </a:r>
            <a:r>
              <a:rPr b="1" lang="en-GB" sz="2400" spc="-1" strike="noStrike">
                <a:solidFill>
                  <a:srgbClr val="003366"/>
                </a:solidFill>
                <a:latin typeface="黑体"/>
              </a:rPr>
              <a:t>A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逻辑门电路符号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270" name=""/>
          <p:cNvSpPr/>
          <p:nvPr/>
        </p:nvSpPr>
        <p:spPr>
          <a:xfrm>
            <a:off x="611280" y="4797360"/>
            <a:ext cx="489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运算规则：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	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取反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1280" y="414972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真值表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059280" y="2924280"/>
          <a:ext cx="1575720" cy="1747440"/>
        </p:xfrm>
        <a:graphic>
          <a:graphicData uri="http://schemas.openxmlformats.org/drawingml/2006/table">
            <a:tbl>
              <a:tblPr/>
              <a:tblGrid>
                <a:gridCol w="788040"/>
                <a:gridCol w="787680"/>
              </a:tblGrid>
              <a:tr h="582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F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pic>
        <p:nvPicPr>
          <p:cNvPr id="2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729320" y="60930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708360" y="1197000"/>
            <a:ext cx="360360" cy="0"/>
          </a:xfrm>
          <a:prstGeom prst="line">
            <a:avLst/>
          </a:prstGeom>
          <a:ln w="28440">
            <a:solidFill>
              <a:srgbClr val="4c59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564000" y="1773360"/>
          <a:ext cx="295272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1773360"/>
                    <a:ext cx="295272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C9E1E-478E-463E-AC9C-919C5240EE1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D76AF-1787-4296-BB38-7A5A0AEC3A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联系方式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732720" y="6377040"/>
            <a:ext cx="718920" cy="266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26920" y="2492280"/>
            <a:ext cx="676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姓名：高志刚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通讯邮箱：</a:t>
            </a:r>
            <a:r>
              <a:rPr b="0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gaozhigang@hdu.edu.c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课件邮箱：</a:t>
            </a:r>
            <a:r>
              <a:rPr b="0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g_zh_gmail2@163.co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  <a:ea typeface="黑体"/>
              </a:rPr>
              <a:t>         </a:t>
            </a:r>
            <a:r>
              <a:rPr b="0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密码</a:t>
            </a:r>
            <a:r>
              <a:rPr b="0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:jsjzcy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8EF61-0B20-45BA-9448-89F4E8C616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74001C-FD4F-4E8B-84EE-E7FB4AD2B5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或运算（</a:t>
            </a:r>
            <a:r>
              <a:rPr b="1" lang="en-GB" sz="3200" spc="-1" strike="noStrike">
                <a:solidFill>
                  <a:srgbClr val="ffffff"/>
                </a:solidFill>
                <a:latin typeface="黑体"/>
              </a:rPr>
              <a:t>OR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076040"/>
            <a:ext cx="655956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逻辑表达式：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	</a:t>
            </a:r>
            <a:r>
              <a:rPr b="1" lang="en-GB" sz="2400" spc="-1" strike="noStrike">
                <a:solidFill>
                  <a:srgbClr val="003366"/>
                </a:solidFill>
                <a:latin typeface="黑体"/>
              </a:rPr>
              <a:t>F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＝</a:t>
            </a:r>
            <a:r>
              <a:rPr b="1" lang="en-GB" sz="2400" spc="-1" strike="noStrike">
                <a:solidFill>
                  <a:srgbClr val="003366"/>
                </a:solidFill>
                <a:latin typeface="黑体"/>
              </a:rPr>
              <a:t>A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＋</a:t>
            </a:r>
            <a:r>
              <a:rPr b="1" lang="en-GB" sz="2400" spc="-1" strike="noStrike">
                <a:solidFill>
                  <a:srgbClr val="003366"/>
                </a:solidFill>
                <a:latin typeface="黑体"/>
              </a:rPr>
              <a:t>B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逻辑门电路符号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279" name=""/>
          <p:cNvSpPr/>
          <p:nvPr/>
        </p:nvSpPr>
        <p:spPr>
          <a:xfrm>
            <a:off x="611280" y="4797360"/>
            <a:ext cx="489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运算规则：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	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有</a:t>
            </a:r>
            <a:r>
              <a:rPr b="1" lang="en-GB" sz="2400" spc="-1" strike="noStrike">
                <a:solidFill>
                  <a:srgbClr val="003366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就出</a:t>
            </a:r>
            <a:r>
              <a:rPr b="1" lang="en-GB" sz="2400" spc="-1" strike="noStrike">
                <a:solidFill>
                  <a:srgbClr val="003366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414972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真值表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5292720" y="2565360"/>
          <a:ext cx="2951280" cy="10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2565360"/>
                    <a:ext cx="295128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5508720" y="3860640"/>
          <a:ext cx="2232000" cy="2009880"/>
        </p:xfrm>
        <a:graphic>
          <a:graphicData uri="http://schemas.openxmlformats.org/drawingml/2006/table">
            <a:tbl>
              <a:tblPr/>
              <a:tblGrid>
                <a:gridCol w="744480"/>
                <a:gridCol w="743040"/>
                <a:gridCol w="744480"/>
              </a:tblGrid>
              <a:tr h="395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宋体"/>
                        </a:rPr>
                        <a:t>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>
                      <a:noFill/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宋体"/>
                        </a:rPr>
                        <a:t>B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黑体"/>
                          <a:ea typeface="宋体"/>
                        </a:rPr>
                        <a:t>F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黑体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黑体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黑体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黑体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pic>
        <p:nvPicPr>
          <p:cNvPr id="28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729320" y="60930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C1249-441D-4D77-A0E0-C19E755E8F7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DA7A64-DBD7-4BDE-89CA-D49D39FA3E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45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、其他逻辑运算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除了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种基本的逻辑门电路外，还有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种常用的逻辑门，它们均可以由与或非门组合而成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4c59d2"/>
                </a:solidFill>
                <a:uFillTx/>
                <a:latin typeface="黑体"/>
                <a:hlinkClick r:id="rId1" action="ppaction://hlinksldjump"/>
              </a:rPr>
              <a:t>与非门（</a:t>
            </a:r>
            <a:r>
              <a:rPr b="1" lang="zh-CN" sz="2400" spc="-1" strike="noStrike" u="sng">
                <a:solidFill>
                  <a:srgbClr val="4c59d2"/>
                </a:solidFill>
                <a:uFillTx/>
                <a:latin typeface="黑体"/>
                <a:hlinkClick r:id="rId2" action="ppaction://hlinksldjump"/>
              </a:rPr>
              <a:t>NAND</a:t>
            </a:r>
            <a:r>
              <a:rPr b="1" lang="zh-CN" sz="2400" spc="-1" strike="noStrike" u="sng">
                <a:solidFill>
                  <a:srgbClr val="4c59d2"/>
                </a:solidFill>
                <a:uFillTx/>
                <a:latin typeface="黑体"/>
                <a:hlinkClick r:id="rId3" action="ppaction://hlinksldjump"/>
              </a:rPr>
              <a:t>）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4c59d2"/>
                </a:solidFill>
                <a:uFillTx/>
                <a:latin typeface="黑体"/>
                <a:hlinkClick r:id="rId4" action="ppaction://hlinksldjump"/>
              </a:rPr>
              <a:t>或非门（</a:t>
            </a:r>
            <a:r>
              <a:rPr b="1" lang="zh-CN" sz="2400" spc="-1" strike="noStrike" u="sng">
                <a:solidFill>
                  <a:srgbClr val="4c59d2"/>
                </a:solidFill>
                <a:uFillTx/>
                <a:latin typeface="黑体"/>
                <a:hlinkClick r:id="rId5" action="ppaction://hlinksldjump"/>
              </a:rPr>
              <a:t>NOR</a:t>
            </a:r>
            <a:r>
              <a:rPr b="1" lang="zh-CN" sz="2400" spc="-1" strike="noStrike" u="sng">
                <a:solidFill>
                  <a:srgbClr val="4c59d2"/>
                </a:solidFill>
                <a:uFillTx/>
                <a:latin typeface="黑体"/>
                <a:hlinkClick r:id="rId6" action="ppaction://hlinksldjump"/>
              </a:rPr>
              <a:t>）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4c59d2"/>
                </a:solidFill>
                <a:uFillTx/>
                <a:latin typeface="黑体"/>
                <a:hlinkClick r:id="rId7" action="ppaction://hlinksldjump"/>
              </a:rPr>
              <a:t>异或门（</a:t>
            </a:r>
            <a:r>
              <a:rPr b="1" lang="zh-CN" sz="2400" spc="-1" strike="noStrike" u="sng">
                <a:solidFill>
                  <a:srgbClr val="4c59d2"/>
                </a:solidFill>
                <a:uFillTx/>
                <a:latin typeface="黑体"/>
                <a:hlinkClick r:id="rId8" action="ppaction://hlinksldjump"/>
              </a:rPr>
              <a:t>XOR</a:t>
            </a:r>
            <a:r>
              <a:rPr b="1" lang="zh-CN" sz="2400" spc="-1" strike="noStrike" u="sng">
                <a:solidFill>
                  <a:srgbClr val="4c59d2"/>
                </a:solidFill>
                <a:uFillTx/>
                <a:latin typeface="黑体"/>
                <a:hlinkClick r:id="rId9" action="ppaction://hlinksldjump"/>
              </a:rPr>
              <a:t>）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4c59d2"/>
                </a:solidFill>
                <a:uFillTx/>
                <a:latin typeface="黑体"/>
                <a:hlinkClick r:id="rId10" action="ppaction://hlinksldjump"/>
              </a:rPr>
              <a:t>同或门（</a:t>
            </a:r>
            <a:r>
              <a:rPr b="1" lang="zh-CN" sz="2400" spc="-1" strike="noStrike" u="sng">
                <a:solidFill>
                  <a:srgbClr val="4c59d2"/>
                </a:solidFill>
                <a:uFillTx/>
                <a:latin typeface="黑体"/>
                <a:hlinkClick r:id="rId11" action="ppaction://hlinksldjump"/>
              </a:rPr>
              <a:t>XNOR</a:t>
            </a:r>
            <a:r>
              <a:rPr b="1" lang="zh-CN" sz="2400" spc="-1" strike="noStrike" u="sng">
                <a:solidFill>
                  <a:srgbClr val="4c59d2"/>
                </a:solidFill>
                <a:uFillTx/>
                <a:latin typeface="黑体"/>
                <a:hlinkClick r:id="rId12" action="ppaction://hlinksldjump"/>
              </a:rPr>
              <a:t>）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287" name=""/>
          <p:cNvSpPr/>
          <p:nvPr/>
        </p:nvSpPr>
        <p:spPr>
          <a:xfrm>
            <a:off x="114300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逻辑门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" y="1076400"/>
            <a:ext cx="728352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4 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、逻辑门的表示方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E67E1-EE50-4FFB-8CDF-95F531A3AE4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3AE450-EAFA-407D-B9C7-2C801E2EDE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与非门（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NAN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076400"/>
            <a:ext cx="655956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逻辑表达式：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	</a:t>
            </a:r>
            <a:r>
              <a:rPr b="1" lang="en-GB" sz="2400" spc="-1" strike="noStrike">
                <a:solidFill>
                  <a:srgbClr val="003366"/>
                </a:solidFill>
                <a:latin typeface="黑体"/>
              </a:rPr>
              <a:t>F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＝</a:t>
            </a:r>
            <a:r>
              <a:rPr b="1" lang="en-GB" sz="2400" spc="-1" strike="noStrike">
                <a:solidFill>
                  <a:srgbClr val="003366"/>
                </a:solidFill>
                <a:latin typeface="黑体"/>
              </a:rPr>
              <a:t>AB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＝</a:t>
            </a:r>
            <a:r>
              <a:rPr b="1" lang="en-GB" sz="2400" spc="-1" strike="noStrike">
                <a:solidFill>
                  <a:srgbClr val="003366"/>
                </a:solidFill>
                <a:latin typeface="黑体"/>
              </a:rPr>
              <a:t>A</a:t>
            </a:r>
            <a:r>
              <a:rPr b="1" lang="en-GB" sz="2400" spc="-1" strike="noStrike">
                <a:solidFill>
                  <a:srgbClr val="ff0000"/>
                </a:solidFill>
                <a:latin typeface="黑体"/>
              </a:rPr>
              <a:t>·</a:t>
            </a:r>
            <a:r>
              <a:rPr b="1" lang="en-GB" sz="2400" spc="-1" strike="noStrike">
                <a:solidFill>
                  <a:srgbClr val="003366"/>
                </a:solidFill>
                <a:latin typeface="黑体"/>
              </a:rPr>
              <a:t>B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逻辑门电路符号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291" name=""/>
          <p:cNvSpPr/>
          <p:nvPr/>
        </p:nvSpPr>
        <p:spPr>
          <a:xfrm>
            <a:off x="611280" y="4797360"/>
            <a:ext cx="489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运算规则：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	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有</a:t>
            </a:r>
            <a:r>
              <a:rPr b="1" lang="en-GB" sz="2400" spc="-1" strike="noStrike">
                <a:solidFill>
                  <a:srgbClr val="003366"/>
                </a:solidFill>
                <a:latin typeface="黑体"/>
                <a:ea typeface="黑体"/>
              </a:rPr>
              <a:t>0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就出</a:t>
            </a:r>
            <a:r>
              <a:rPr b="1" lang="en-GB" sz="2400" spc="-1" strike="noStrike">
                <a:solidFill>
                  <a:srgbClr val="003366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1280" y="414972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真值表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780000" y="1628640"/>
          <a:ext cx="2950920" cy="10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628640"/>
                    <a:ext cx="295092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3132000" y="2781360"/>
          <a:ext cx="2232000" cy="2009880"/>
        </p:xfrm>
        <a:graphic>
          <a:graphicData uri="http://schemas.openxmlformats.org/drawingml/2006/table">
            <a:tbl>
              <a:tblPr/>
              <a:tblGrid>
                <a:gridCol w="744480"/>
                <a:gridCol w="743040"/>
                <a:gridCol w="744480"/>
              </a:tblGrid>
              <a:tr h="395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>
                      <a:noFill/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B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F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pic>
        <p:nvPicPr>
          <p:cNvPr id="29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729320" y="60930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708360" y="1125360"/>
            <a:ext cx="576360" cy="0"/>
          </a:xfrm>
          <a:prstGeom prst="line">
            <a:avLst/>
          </a:prstGeom>
          <a:ln w="28440">
            <a:solidFill>
              <a:srgbClr val="4c59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356000" y="1125360"/>
            <a:ext cx="576360" cy="0"/>
          </a:xfrm>
          <a:prstGeom prst="line">
            <a:avLst/>
          </a:prstGeom>
          <a:ln w="28440">
            <a:solidFill>
              <a:srgbClr val="4c59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D5F46-B93A-4E55-8320-723BDC60A9D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66D16A-4143-4FAB-AA6E-F1EC26BC77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或非门（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NOR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3355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逻辑表达式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301" name=""/>
          <p:cNvSpPr/>
          <p:nvPr/>
        </p:nvSpPr>
        <p:spPr>
          <a:xfrm>
            <a:off x="611280" y="4797360"/>
            <a:ext cx="475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运算规则：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	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有</a:t>
            </a:r>
            <a:r>
              <a:rPr b="1" lang="en-GB" sz="2400" spc="-1" strike="noStrike">
                <a:solidFill>
                  <a:srgbClr val="003366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就出</a:t>
            </a:r>
            <a:r>
              <a:rPr b="1" lang="en-GB" sz="2400" spc="-1" strike="noStrike">
                <a:solidFill>
                  <a:srgbClr val="003366"/>
                </a:solidFill>
                <a:latin typeface="黑体"/>
                <a:ea typeface="黑体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11280" y="414972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真值表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4284720" y="2492280"/>
          <a:ext cx="2951280" cy="10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492280"/>
                    <a:ext cx="295128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435640" y="3860640"/>
          <a:ext cx="2232000" cy="2009880"/>
        </p:xfrm>
        <a:graphic>
          <a:graphicData uri="http://schemas.openxmlformats.org/drawingml/2006/table">
            <a:tbl>
              <a:tblPr/>
              <a:tblGrid>
                <a:gridCol w="744480"/>
                <a:gridCol w="743040"/>
                <a:gridCol w="744480"/>
              </a:tblGrid>
              <a:tr h="395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>
                      <a:noFill/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B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F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pic>
        <p:nvPicPr>
          <p:cNvPr id="30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729320" y="6093000"/>
            <a:ext cx="419040" cy="419040"/>
          </a:xfrm>
          <a:prstGeom prst="rect">
            <a:avLst/>
          </a:prstGeom>
          <a:ln w="0">
            <a:noFill/>
          </a:ln>
        </p:spPr>
      </p:pic>
      <p:grpSp>
        <p:nvGrpSpPr>
          <p:cNvPr id="307" name=""/>
          <p:cNvGrpSpPr/>
          <p:nvPr/>
        </p:nvGrpSpPr>
        <p:grpSpPr>
          <a:xfrm>
            <a:off x="3166920" y="1052640"/>
            <a:ext cx="1838160" cy="581400"/>
            <a:chOff x="3166920" y="1052640"/>
            <a:chExt cx="1838160" cy="581400"/>
          </a:xfrm>
        </p:grpSpPr>
        <p:sp>
          <p:nvSpPr>
            <p:cNvPr id="308" name=""/>
            <p:cNvSpPr/>
            <p:nvPr/>
          </p:nvSpPr>
          <p:spPr>
            <a:xfrm>
              <a:off x="3997080" y="1177920"/>
              <a:ext cx="1008000" cy="0"/>
            </a:xfrm>
            <a:prstGeom prst="line">
              <a:avLst/>
            </a:prstGeom>
            <a:ln w="28440">
              <a:solidFill>
                <a:srgbClr val="4c59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166920" y="1052640"/>
              <a:ext cx="183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F</a:t>
              </a:r>
              <a:r>
                <a:rPr b="1" lang="zh-CN" sz="32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＝</a:t>
              </a:r>
              <a:r>
                <a:rPr b="1" lang="en-GB" sz="32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A</a:t>
              </a:r>
              <a:r>
                <a:rPr b="1" lang="zh-CN" sz="32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＋</a:t>
              </a:r>
              <a:r>
                <a:rPr b="1" lang="en-GB" sz="32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B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611280" y="2565360"/>
            <a:ext cx="3816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逻辑门电路符号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00F2E-B096-43A0-9573-0B2BC059E08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64DBF-1345-4A77-B1BE-4B866E92C1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5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异或门（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XOR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076400"/>
            <a:ext cx="30510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逻辑表达式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313" name=""/>
          <p:cNvSpPr/>
          <p:nvPr/>
        </p:nvSpPr>
        <p:spPr>
          <a:xfrm>
            <a:off x="611280" y="4797360"/>
            <a:ext cx="489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运算规则：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	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相异得</a:t>
            </a:r>
            <a:r>
              <a:rPr b="1" lang="en-GB" sz="2400" spc="-1" strike="noStrike">
                <a:solidFill>
                  <a:srgbClr val="003366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11280" y="414972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真值表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5292720" y="2492280"/>
          <a:ext cx="2951280" cy="10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2492280"/>
                    <a:ext cx="295128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5435640" y="3860640"/>
          <a:ext cx="2232000" cy="2009880"/>
        </p:xfrm>
        <a:graphic>
          <a:graphicData uri="http://schemas.openxmlformats.org/drawingml/2006/table">
            <a:tbl>
              <a:tblPr/>
              <a:tblGrid>
                <a:gridCol w="744480"/>
                <a:gridCol w="743040"/>
                <a:gridCol w="744480"/>
              </a:tblGrid>
              <a:tr h="395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>
                      <a:noFill/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B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F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pic>
        <p:nvPicPr>
          <p:cNvPr id="3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729320" y="60930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11280" y="2492280"/>
            <a:ext cx="381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逻辑门电路符号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3968640" y="1817640"/>
            <a:ext cx="3720240" cy="581400"/>
            <a:chOff x="3968640" y="1817640"/>
            <a:chExt cx="3720240" cy="581400"/>
          </a:xfrm>
        </p:grpSpPr>
        <p:sp>
          <p:nvSpPr>
            <p:cNvPr id="321" name=""/>
            <p:cNvSpPr/>
            <p:nvPr/>
          </p:nvSpPr>
          <p:spPr>
            <a:xfrm>
              <a:off x="6138360" y="1916280"/>
              <a:ext cx="188280" cy="0"/>
            </a:xfrm>
            <a:prstGeom prst="line">
              <a:avLst/>
            </a:prstGeom>
            <a:ln w="28440">
              <a:solidFill>
                <a:srgbClr val="4c59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1440" y="1916280"/>
              <a:ext cx="250560" cy="0"/>
            </a:xfrm>
            <a:prstGeom prst="line">
              <a:avLst/>
            </a:prstGeom>
            <a:ln w="28440">
              <a:solidFill>
                <a:srgbClr val="4c59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68640" y="1817640"/>
              <a:ext cx="372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F</a:t>
              </a:r>
              <a:r>
                <a:rPr b="1" lang="zh-CN" sz="32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＝</a:t>
              </a:r>
              <a:r>
                <a:rPr b="1" lang="en-GB" sz="32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A⊕B</a:t>
              </a:r>
              <a:r>
                <a:rPr b="1" lang="zh-CN" sz="32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＝</a:t>
              </a:r>
              <a:r>
                <a:rPr b="1" lang="en-GB" sz="32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AB</a:t>
              </a:r>
              <a:r>
                <a:rPr b="1" lang="zh-CN" sz="32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＋</a:t>
              </a:r>
              <a:r>
                <a:rPr b="1" lang="en-GB" sz="32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AB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171FC-080B-409B-91C8-ECAB3C6A009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692383-735E-48C5-B0F3-A5FE6DA5DE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5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5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同或门（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XNOR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32796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逻辑表达式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326" name=""/>
          <p:cNvSpPr/>
          <p:nvPr/>
        </p:nvSpPr>
        <p:spPr>
          <a:xfrm>
            <a:off x="611280" y="4797360"/>
            <a:ext cx="489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运算规则：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	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相同得</a:t>
            </a:r>
            <a:r>
              <a:rPr b="1" lang="en-GB" sz="2400" spc="-1" strike="noStrike">
                <a:solidFill>
                  <a:srgbClr val="003366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1280" y="414972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真值表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5292720" y="2492280"/>
          <a:ext cx="2951280" cy="10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2492280"/>
                    <a:ext cx="295128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5435640" y="3860640"/>
          <a:ext cx="2232000" cy="2009880"/>
        </p:xfrm>
        <a:graphic>
          <a:graphicData uri="http://schemas.openxmlformats.org/drawingml/2006/table">
            <a:tbl>
              <a:tblPr/>
              <a:tblGrid>
                <a:gridCol w="744480"/>
                <a:gridCol w="743040"/>
                <a:gridCol w="744480"/>
              </a:tblGrid>
              <a:tr h="395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>
                      <a:noFill/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B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F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pic>
        <p:nvPicPr>
          <p:cNvPr id="33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729320" y="60930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7048440" y="1916280"/>
            <a:ext cx="289080" cy="0"/>
          </a:xfrm>
          <a:prstGeom prst="line">
            <a:avLst/>
          </a:prstGeom>
          <a:ln w="28440">
            <a:solidFill>
              <a:srgbClr val="4c59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659640" y="1916280"/>
            <a:ext cx="288720" cy="0"/>
          </a:xfrm>
          <a:prstGeom prst="line">
            <a:avLst/>
          </a:prstGeom>
          <a:ln w="28440">
            <a:solidFill>
              <a:srgbClr val="4c59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743640" y="1817640"/>
            <a:ext cx="382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黑体"/>
                <a:ea typeface="黑体"/>
              </a:rPr>
              <a:t>F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＝</a:t>
            </a:r>
            <a:r>
              <a:rPr b="1" lang="en-GB" sz="3200" spc="-1" strike="noStrike">
                <a:solidFill>
                  <a:srgbClr val="0033cc"/>
                </a:solidFill>
                <a:latin typeface="黑体"/>
                <a:ea typeface="黑体"/>
              </a:rPr>
              <a:t>A⊙B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＝</a:t>
            </a:r>
            <a:r>
              <a:rPr b="1" lang="en-GB" sz="3200" spc="-1" strike="noStrike">
                <a:solidFill>
                  <a:srgbClr val="0033cc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＋</a:t>
            </a:r>
            <a:r>
              <a:rPr b="1" lang="en-GB" sz="3200" spc="-1" strike="noStrike">
                <a:solidFill>
                  <a:srgbClr val="0033cc"/>
                </a:solidFill>
                <a:latin typeface="黑体"/>
                <a:ea typeface="黑体"/>
              </a:rPr>
              <a:t>A B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9640" y="2492280"/>
            <a:ext cx="381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逻辑门电路符号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535C7-3FDD-41F1-9812-D44175BB7A7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46AFF-C9CE-483D-A26D-01A6481BA1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4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4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9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三、逻辑代数的基本定律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971640" y="1052640"/>
          <a:ext cx="6121440" cy="54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52640"/>
                    <a:ext cx="6121440" cy="54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716360" y="60930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F2531-98FA-4152-BF4D-AD5F9281963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3181DF-63DE-4533-9BB8-7B498ADC77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四、逻辑函数的化简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076040"/>
            <a:ext cx="771516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在设计逻辑电路时，每个逻辑表达式是和一个逻辑电路相对应，因此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必须将逻辑表达式进行化简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，以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减少实现它的电路所用元器件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逻辑函数化简有两种方法：代数化简法和卡诺图化简法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代数化简法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: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直接利用逻辑代数的基本公式和规则进行化简，要求熟练地掌握逻辑函数的公式，并经过多次训练才能进行快速化简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FB70C-2620-4A68-9914-F8A297D4709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3C52F-DF41-4D05-9CF8-2E8FA8A557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1003320" y="981000"/>
          <a:ext cx="7135920" cy="509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3320" y="981000"/>
                    <a:ext cx="7135920" cy="509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四、逻辑函数的化简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899DA-ACF1-4706-8B1E-4FA1B79935C4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FD10CF-CF33-46B9-BE78-CAEFC15BB8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7200" y="1076040"/>
            <a:ext cx="74995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(5)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配项法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    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有些函数很难直接用上述方法来化简，不妨利用互补律公式，先将某些项乘以    ，展开后再消去更多的项；也可以先适当加上一些多余项或无关项，然后再简化。配项的原则是：首先，增加的新项不会影响原始函数的逻辑关系；其次，新增加的项要有利于其他项的合并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. 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代数化简法并没有统一的模式，要求对基本定律、公式、规则比较熟悉，并具有一定的技巧。一般来说，化简时要注意以下几点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尽可能先使用并项法、吸收法、消去法、取消法等简单方法进行化简，当这些方法不凑效时，再考虑使用配项法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如果原始函数不是“与或”式，需先将其转换成“与或”式，然后再化简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化简后得到的最简表达式不一定是唯一的，但它们中的“与”项个数及“与”项中的因子数都应该是最少的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四、逻辑函数的化简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7753320" y="602136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4751280" y="1700280"/>
          <a:ext cx="684360" cy="3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51280" y="1700280"/>
                    <a:ext cx="68436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50032-D77D-4F58-9EDE-8CC97379E38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81D4C5-E77A-4861-A26E-7DFE47F699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第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章 计算机硬件基础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/>
          <p:nvPr/>
        </p:nvSpPr>
        <p:spPr>
          <a:xfrm>
            <a:off x="1776240" y="1523880"/>
            <a:ext cx="474048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5ba54"/>
              </a:gs>
              <a:gs pos="100000">
                <a:srgbClr val="e4efd9"/>
              </a:gs>
            </a:gsLst>
            <a:lin ang="10800000"/>
          </a:gra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60440" y="1411200"/>
            <a:ext cx="747720" cy="647640"/>
          </a:xfrm>
          <a:prstGeom prst="diamond">
            <a:avLst/>
          </a:prstGeom>
          <a:solidFill>
            <a:srgbClr val="85ba54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76240" y="2328840"/>
            <a:ext cx="474048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e8848"/>
              </a:gs>
              <a:gs pos="100000">
                <a:srgbClr val="f7e4d7"/>
              </a:gs>
            </a:gsLst>
            <a:lin ang="10800000"/>
          </a:gra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60440" y="2203560"/>
            <a:ext cx="747720" cy="720720"/>
          </a:xfrm>
          <a:prstGeom prst="diamond">
            <a:avLst/>
          </a:prstGeom>
          <a:solidFill>
            <a:srgbClr val="de8848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76240" y="3083040"/>
            <a:ext cx="4740480" cy="479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86c2"/>
              </a:gs>
              <a:gs pos="100000">
                <a:srgbClr val="d9e4f1"/>
              </a:gs>
            </a:gsLst>
            <a:lin ang="10800000"/>
          </a:gra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60440" y="2957400"/>
            <a:ext cx="747720" cy="720720"/>
          </a:xfrm>
          <a:prstGeom prst="diamond">
            <a:avLst/>
          </a:prstGeom>
          <a:solidFill>
            <a:srgbClr val="4c59d2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76240" y="3913200"/>
            <a:ext cx="474048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b5c4"/>
              </a:gs>
              <a:gs pos="100000">
                <a:srgbClr val="e9eef1"/>
              </a:gs>
            </a:gsLst>
            <a:lin ang="10800000"/>
          </a:gra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60440" y="3787920"/>
            <a:ext cx="747720" cy="720720"/>
          </a:xfrm>
          <a:prstGeom prst="diamond">
            <a:avLst/>
          </a:prstGeom>
          <a:solidFill>
            <a:srgbClr val="a0b5c4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76240" y="4765680"/>
            <a:ext cx="474048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5ba54"/>
              </a:gs>
              <a:gs pos="100000">
                <a:srgbClr val="e4efd9"/>
              </a:gs>
            </a:gsLst>
            <a:lin ang="10800000"/>
          </a:gra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60440" y="4653000"/>
            <a:ext cx="747720" cy="647640"/>
          </a:xfrm>
          <a:prstGeom prst="diamond">
            <a:avLst/>
          </a:prstGeom>
          <a:solidFill>
            <a:srgbClr val="85ba54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025720" y="1531800"/>
            <a:ext cx="374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 u="sng">
                <a:solidFill>
                  <a:srgbClr val="4c59d2"/>
                </a:solidFill>
                <a:uFillTx/>
                <a:latin typeface="黑体"/>
                <a:ea typeface="黑体"/>
                <a:hlinkClick r:id="rId1" action="ppaction://hlinksldjump"/>
              </a:rPr>
              <a:t>半导体器件的开关特性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07600" y="148428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.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25720" y="2370240"/>
            <a:ext cx="434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 u="sng">
                <a:solidFill>
                  <a:srgbClr val="4c59d2"/>
                </a:solidFill>
                <a:uFillTx/>
                <a:latin typeface="黑体"/>
                <a:ea typeface="黑体"/>
                <a:hlinkClick r:id="rId2" action="ppaction://hlinksldjump"/>
              </a:rPr>
              <a:t>基本逻辑运算和基本门电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92120" y="2320920"/>
            <a:ext cx="9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.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25720" y="3116160"/>
            <a:ext cx="374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 u="sng">
                <a:solidFill>
                  <a:srgbClr val="4c59d2"/>
                </a:solidFill>
                <a:uFillTx/>
                <a:latin typeface="黑体"/>
                <a:ea typeface="黑体"/>
                <a:hlinkClick r:id="rId3" action="ppaction://hlinksldjump"/>
              </a:rPr>
              <a:t>组合逻辑电路实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92120" y="3116160"/>
            <a:ext cx="80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.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25720" y="3979800"/>
            <a:ext cx="374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 u="sng">
                <a:solidFill>
                  <a:srgbClr val="4c59d2"/>
                </a:solidFill>
                <a:uFillTx/>
                <a:latin typeface="黑体"/>
                <a:ea typeface="黑体"/>
                <a:hlinkClick r:id="rId4" action="ppaction://hlinksldjump"/>
              </a:rPr>
              <a:t>时序逻辑电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92120" y="3908520"/>
            <a:ext cx="8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.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19440" y="5570640"/>
            <a:ext cx="4740120" cy="479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e8848"/>
              </a:gs>
              <a:gs pos="100000">
                <a:srgbClr val="f7e4d7"/>
              </a:gs>
            </a:gsLst>
            <a:lin ang="10800000"/>
          </a:gra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5445000"/>
            <a:ext cx="747720" cy="720720"/>
          </a:xfrm>
          <a:prstGeom prst="diamond">
            <a:avLst/>
          </a:prstGeom>
          <a:solidFill>
            <a:srgbClr val="de8848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68560" y="5611680"/>
            <a:ext cx="434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 u="sng">
                <a:solidFill>
                  <a:srgbClr val="4c59d2"/>
                </a:solidFill>
                <a:uFillTx/>
                <a:latin typeface="黑体"/>
                <a:ea typeface="黑体"/>
                <a:hlinkClick r:id="rId5" action="ppaction://hlinksldjump"/>
              </a:rPr>
              <a:t>本章小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36880" y="4773600"/>
            <a:ext cx="434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 u="sng">
                <a:solidFill>
                  <a:srgbClr val="4c59d2"/>
                </a:solidFill>
                <a:uFillTx/>
                <a:latin typeface="黑体"/>
                <a:ea typeface="黑体"/>
                <a:hlinkClick r:id="rId6" action="ppaction://hlinksldjump"/>
              </a:rPr>
              <a:t>计算机芯片的制造过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03280" y="47242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.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732720" y="6377040"/>
            <a:ext cx="718920" cy="26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C29F6-5B5E-43EA-8A2E-3796C3D3896E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5457E-5DAD-4FCF-A0CE-B02A123629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2.3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组合逻辑电路实例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"/>
          <p:cNvSpPr/>
          <p:nvPr/>
        </p:nvSpPr>
        <p:spPr>
          <a:xfrm>
            <a:off x="2073240" y="434016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b5c4"/>
              </a:gs>
              <a:gs pos="100000">
                <a:srgbClr val="e9eef1"/>
              </a:gs>
            </a:gsLst>
            <a:lin ang="10800000"/>
          </a:gra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073240" y="140184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5ba54"/>
              </a:gs>
              <a:gs pos="100000">
                <a:srgbClr val="e4efd9"/>
              </a:gs>
            </a:gsLst>
            <a:lin ang="10800000"/>
          </a:gra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692360" y="1282680"/>
            <a:ext cx="685800" cy="685800"/>
          </a:xfrm>
          <a:prstGeom prst="diamond">
            <a:avLst/>
          </a:prstGeom>
          <a:solidFill>
            <a:srgbClr val="85ba54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301840" y="1457280"/>
            <a:ext cx="385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黑体"/>
              </a:rPr>
              <a:t>   </a:t>
            </a:r>
            <a:r>
              <a:rPr b="0" lang="zh-CN" sz="2400" spc="-1" strike="noStrike" u="sng">
                <a:solidFill>
                  <a:srgbClr val="4c59d2"/>
                </a:solidFill>
                <a:uFillTx/>
                <a:latin typeface="Arial"/>
                <a:ea typeface="黑体"/>
                <a:hlinkClick r:id="rId1" action="ppaction://hlinksldjump"/>
              </a:rPr>
              <a:t>组合逻辑电路设计方法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806480" y="1362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073240" y="238428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e8848"/>
              </a:gs>
              <a:gs pos="100000">
                <a:srgbClr val="f7e4d7"/>
              </a:gs>
            </a:gsLst>
            <a:lin ang="10800000"/>
          </a:gra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92360" y="2265480"/>
            <a:ext cx="685800" cy="685800"/>
          </a:xfrm>
          <a:prstGeom prst="diamond">
            <a:avLst/>
          </a:prstGeom>
          <a:solidFill>
            <a:srgbClr val="de8848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301840" y="244008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黑体"/>
              </a:rPr>
              <a:t>   </a:t>
            </a:r>
            <a:r>
              <a:rPr b="0" lang="zh-CN" sz="2400" spc="-1" strike="noStrike" u="sng">
                <a:solidFill>
                  <a:srgbClr val="4c59d2"/>
                </a:solidFill>
                <a:uFillTx/>
                <a:latin typeface="Arial"/>
                <a:ea typeface="黑体"/>
                <a:hlinkClick r:id="rId2" action="ppaction://hlinksldjump"/>
              </a:rPr>
              <a:t>二进制加法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867680" y="2344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073240" y="336708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86c2"/>
              </a:gs>
              <a:gs pos="100000">
                <a:srgbClr val="d9e4f1"/>
              </a:gs>
            </a:gsLst>
            <a:lin ang="10800000"/>
          </a:gra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3247920"/>
            <a:ext cx="685800" cy="685800"/>
          </a:xfrm>
          <a:prstGeom prst="diamond">
            <a:avLst/>
          </a:prstGeom>
          <a:solidFill>
            <a:srgbClr val="4c59d2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301840" y="436572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黑体"/>
              </a:rPr>
              <a:t>   </a:t>
            </a:r>
            <a:r>
              <a:rPr b="0" lang="zh-CN" sz="2400" spc="-1" strike="noStrike" u="sng">
                <a:solidFill>
                  <a:srgbClr val="4c59d2"/>
                </a:solidFill>
                <a:uFillTx/>
                <a:latin typeface="Arial"/>
                <a:ea typeface="黑体"/>
                <a:hlinkClick r:id="rId3" action="ppaction://hlinksldjump"/>
              </a:rPr>
              <a:t>译码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867680" y="3327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692360" y="4221000"/>
            <a:ext cx="685800" cy="685800"/>
          </a:xfrm>
          <a:prstGeom prst="diamond">
            <a:avLst/>
          </a:prstGeom>
          <a:solidFill>
            <a:srgbClr val="a0b5c4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01840" y="3357720"/>
            <a:ext cx="399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黑体"/>
              </a:rPr>
              <a:t>   </a:t>
            </a:r>
            <a:r>
              <a:rPr b="0" lang="zh-CN" sz="2400" spc="-1" strike="noStrike" u="sng">
                <a:solidFill>
                  <a:srgbClr val="4c59d2"/>
                </a:solidFill>
                <a:uFillTx/>
                <a:latin typeface="Arial"/>
                <a:ea typeface="黑体"/>
                <a:hlinkClick r:id="rId4" action="ppaction://hlinksldjump"/>
              </a:rPr>
              <a:t>算术逻辑运算单元</a:t>
            </a:r>
            <a:r>
              <a:rPr b="0" lang="zh-CN" sz="2400" spc="-1" strike="noStrike" u="sng">
                <a:solidFill>
                  <a:srgbClr val="4c59d2"/>
                </a:solidFill>
                <a:uFillTx/>
                <a:latin typeface="Arial"/>
                <a:ea typeface="黑体"/>
                <a:hlinkClick r:id="rId5" action="ppaction://hlinksldjump"/>
              </a:rPr>
              <a:t>AL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842120" y="4300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四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73240" y="523872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5ba54"/>
              </a:gs>
              <a:gs pos="100000">
                <a:srgbClr val="e4efd9"/>
              </a:gs>
            </a:gsLst>
            <a:lin ang="10800000"/>
          </a:gra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692360" y="5119560"/>
            <a:ext cx="685800" cy="685800"/>
          </a:xfrm>
          <a:prstGeom prst="diamond">
            <a:avLst/>
          </a:prstGeom>
          <a:solidFill>
            <a:srgbClr val="85ba54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301840" y="5294160"/>
            <a:ext cx="385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黑体"/>
              </a:rPr>
              <a:t>   </a:t>
            </a:r>
            <a:r>
              <a:rPr b="0" lang="zh-CN" sz="2400" spc="-1" strike="noStrike" u="sng">
                <a:solidFill>
                  <a:srgbClr val="4c59d2"/>
                </a:solidFill>
                <a:uFillTx/>
                <a:latin typeface="Arial"/>
                <a:ea typeface="黑体"/>
                <a:hlinkClick r:id="rId6" action="ppaction://hlinksldjump"/>
              </a:rPr>
              <a:t>数据选择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867680" y="5199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五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7"/>
          <a:stretch/>
        </p:blipFill>
        <p:spPr>
          <a:xfrm>
            <a:off x="4729320" y="60930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3012F-83EF-4E63-8C81-D5EA9B6EFCE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3B3A6A-2E31-4154-BD76-0D63BF53DE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一、组合逻辑电路设计方法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125000"/>
            <a:ext cx="756288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组合逻辑电路的特点：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当输入信号变化时，输出信号也跟着变化。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在计算机</a:t>
            </a:r>
            <a:r>
              <a:rPr b="0" lang="zh-CN" sz="2400" spc="-1" strike="noStrike">
                <a:solidFill>
                  <a:srgbClr val="006600"/>
                </a:solidFill>
                <a:latin typeface="黑体"/>
              </a:rPr>
              <a:t>CPU</a:t>
            </a:r>
            <a:r>
              <a:rPr b="0" lang="zh-CN" sz="2400" spc="-1" strike="noStrike">
                <a:solidFill>
                  <a:srgbClr val="006600"/>
                </a:solidFill>
                <a:latin typeface="黑体"/>
              </a:rPr>
              <a:t>设计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中，组合电路通常被</a:t>
            </a:r>
            <a:r>
              <a:rPr b="0" lang="zh-CN" sz="2400" spc="-1" strike="noStrike">
                <a:solidFill>
                  <a:srgbClr val="006600"/>
                </a:solidFill>
                <a:latin typeface="黑体"/>
              </a:rPr>
              <a:t>用来产生控制信号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，它的输入可能是指令的操作码和状态信号，而其输出则是寄存器、存储器等等的写入控制信号和数据选择信号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组合逻辑电路的设计步骤如下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分析该逻辑电路的逻辑要求；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根据逻辑要求确定输入变量和输出变量；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将输入输出关系表示成真值表；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根据真值表写出输出函数的逻辑表达式，并化简；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画出逻辑电路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pic>
        <p:nvPicPr>
          <p:cNvPr id="3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729320" y="60930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31D00-E178-464E-9425-294A0A74806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198BA-8673-4468-970C-8337563F97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二、二进制加法器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076400"/>
            <a:ext cx="47307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加法器是计算机基本运算部件之一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一位二进制全加器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输入变量：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3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个，即加数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X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</a:rPr>
              <a:t>n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、被加数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Y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</a:rPr>
              <a:t>n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和低位来的进位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C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</a:rPr>
              <a:t>n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；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输出变量：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个，即本位的和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S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</a:rPr>
              <a:t>n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、向高位的进位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C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</a:rPr>
              <a:t>n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</a:rPr>
              <a:t>＋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。 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379" name=""/>
          <p:cNvSpPr/>
          <p:nvPr/>
        </p:nvSpPr>
        <p:spPr>
          <a:xfrm>
            <a:off x="5364000" y="16992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一位全加器真值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5435640" y="2349360"/>
          <a:ext cx="3214800" cy="3041640"/>
        </p:xfrm>
        <a:graphic>
          <a:graphicData uri="http://schemas.openxmlformats.org/drawingml/2006/table">
            <a:tbl>
              <a:tblPr/>
              <a:tblGrid>
                <a:gridCol w="1662120"/>
                <a:gridCol w="155268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X</a:t>
                      </a:r>
                      <a:r>
                        <a:rPr b="1" lang="zh-CN" sz="1800" spc="-1" strike="noStrike" baseline="-30000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n   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Y</a:t>
                      </a:r>
                      <a:r>
                        <a:rPr b="1" lang="zh-CN" sz="1800" spc="-1" strike="noStrike" baseline="-30000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  C</a:t>
                      </a:r>
                      <a:r>
                        <a:rPr b="1" lang="zh-CN" sz="1800" spc="-1" strike="noStrike" baseline="-30000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cc0000"/>
                          </a:solidFill>
                          <a:latin typeface="Arial"/>
                          <a:ea typeface="宋体"/>
                        </a:rPr>
                        <a:t>F</a:t>
                      </a:r>
                      <a:r>
                        <a:rPr b="1" lang="zh-CN" sz="1800" spc="-1" strike="noStrike" baseline="-30000">
                          <a:solidFill>
                            <a:srgbClr val="cc00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zh-CN" sz="1800" spc="-1" strike="noStrike">
                          <a:solidFill>
                            <a:srgbClr val="cc0000"/>
                          </a:solidFill>
                          <a:latin typeface="Arial"/>
                          <a:ea typeface="宋体"/>
                        </a:rPr>
                        <a:t>  C</a:t>
                      </a:r>
                      <a:r>
                        <a:rPr b="1" lang="zh-CN" sz="1800" spc="-1" strike="noStrike" baseline="-30000">
                          <a:solidFill>
                            <a:srgbClr val="cc00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zh-CN" sz="1800" spc="-1" strike="noStrike" baseline="-25000">
                          <a:solidFill>
                            <a:srgbClr val="cc0000"/>
                          </a:solidFill>
                          <a:latin typeface="Arial"/>
                          <a:ea typeface="宋体"/>
                        </a:rPr>
                        <a:t>＋</a:t>
                      </a:r>
                      <a:r>
                        <a:rPr b="1" lang="zh-CN" sz="1800" spc="-1" strike="noStrike" baseline="-25000">
                          <a:solidFill>
                            <a:srgbClr val="cc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5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0   0   0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0   0   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0   1   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0   1   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1   0   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1   0   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1   1   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1   1   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   </a:t>
                      </a:r>
                      <a:r>
                        <a:rPr b="1" lang="zh-CN" sz="1800" spc="-1" strike="noStrike">
                          <a:solidFill>
                            <a:srgbClr val="cc0000"/>
                          </a:solidFill>
                          <a:latin typeface="Arial"/>
                          <a:ea typeface="宋体"/>
                        </a:rPr>
                        <a:t>0   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cc0000"/>
                          </a:solidFill>
                          <a:latin typeface="Arial"/>
                          <a:ea typeface="宋体"/>
                        </a:rPr>
                        <a:t>   </a:t>
                      </a:r>
                      <a:r>
                        <a:rPr b="1" lang="zh-CN" sz="1800" spc="-1" strike="noStrike">
                          <a:solidFill>
                            <a:srgbClr val="cc0000"/>
                          </a:solidFill>
                          <a:latin typeface="Arial"/>
                          <a:ea typeface="宋体"/>
                        </a:rPr>
                        <a:t>1   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cc0000"/>
                          </a:solidFill>
                          <a:latin typeface="Arial"/>
                          <a:ea typeface="宋体"/>
                        </a:rPr>
                        <a:t>   </a:t>
                      </a:r>
                      <a:r>
                        <a:rPr b="1" lang="zh-CN" sz="1800" spc="-1" strike="noStrike">
                          <a:solidFill>
                            <a:srgbClr val="cc0000"/>
                          </a:solidFill>
                          <a:latin typeface="Arial"/>
                          <a:ea typeface="宋体"/>
                        </a:rPr>
                        <a:t>1   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cc0000"/>
                          </a:solidFill>
                          <a:latin typeface="Arial"/>
                          <a:ea typeface="宋体"/>
                        </a:rPr>
                        <a:t>   </a:t>
                      </a:r>
                      <a:r>
                        <a:rPr b="1" lang="zh-CN" sz="1800" spc="-1" strike="noStrike">
                          <a:solidFill>
                            <a:srgbClr val="cc0000"/>
                          </a:solidFill>
                          <a:latin typeface="Arial"/>
                          <a:ea typeface="宋体"/>
                        </a:rPr>
                        <a:t>0   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cc0000"/>
                          </a:solidFill>
                          <a:latin typeface="Arial"/>
                          <a:ea typeface="宋体"/>
                        </a:rPr>
                        <a:t>   </a:t>
                      </a:r>
                      <a:r>
                        <a:rPr b="1" lang="zh-CN" sz="1800" spc="-1" strike="noStrike">
                          <a:solidFill>
                            <a:srgbClr val="cc0000"/>
                          </a:solidFill>
                          <a:latin typeface="Arial"/>
                          <a:ea typeface="宋体"/>
                        </a:rPr>
                        <a:t>1   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cc0000"/>
                          </a:solidFill>
                          <a:latin typeface="Arial"/>
                          <a:ea typeface="宋体"/>
                        </a:rPr>
                        <a:t>   </a:t>
                      </a:r>
                      <a:r>
                        <a:rPr b="1" lang="zh-CN" sz="1800" spc="-1" strike="noStrike">
                          <a:solidFill>
                            <a:srgbClr val="cc0000"/>
                          </a:solidFill>
                          <a:latin typeface="Arial"/>
                          <a:ea typeface="宋体"/>
                        </a:rPr>
                        <a:t>0   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cc0000"/>
                          </a:solidFill>
                          <a:latin typeface="Arial"/>
                          <a:ea typeface="宋体"/>
                        </a:rPr>
                        <a:t>   </a:t>
                      </a:r>
                      <a:r>
                        <a:rPr b="1" lang="zh-CN" sz="1800" spc="-1" strike="noStrike">
                          <a:solidFill>
                            <a:srgbClr val="cc0000"/>
                          </a:solidFill>
                          <a:latin typeface="Arial"/>
                          <a:ea typeface="宋体"/>
                        </a:rPr>
                        <a:t>0   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cc0000"/>
                          </a:solidFill>
                          <a:latin typeface="Arial"/>
                          <a:ea typeface="宋体"/>
                        </a:rPr>
                        <a:t>   </a:t>
                      </a:r>
                      <a:r>
                        <a:rPr b="1" lang="zh-CN" sz="1800" spc="-1" strike="noStrike">
                          <a:solidFill>
                            <a:srgbClr val="cc0000"/>
                          </a:solidFill>
                          <a:latin typeface="Arial"/>
                          <a:ea typeface="宋体"/>
                        </a:rPr>
                        <a:t>1   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59CC6-685A-4ED9-9E9A-A25091E50949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09E75-71CF-41EB-B4ED-E28FD2BF60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二、二进制加法器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63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由真值表可的全加器输出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F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</a:rPr>
              <a:t>n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和进位输出 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C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</a:rPr>
              <a:t>n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</a:rPr>
              <a:t>＋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的表达式为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383" name=""/>
          <p:cNvSpPr/>
          <p:nvPr/>
        </p:nvSpPr>
        <p:spPr>
          <a:xfrm>
            <a:off x="611280" y="335772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化简可得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宋体"/>
              </a:rPr>
              <a:t>F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  <a:ea typeface="宋体"/>
              </a:rPr>
              <a:t>n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宋体"/>
              </a:rPr>
              <a:t> = X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  <a:ea typeface="宋体"/>
              </a:rPr>
              <a:t>n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宋体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黑体"/>
                <a:ea typeface="黑体"/>
              </a:rPr>
              <a:t>⊕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宋体"/>
              </a:rPr>
              <a:t> Y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  <a:ea typeface="宋体"/>
              </a:rPr>
              <a:t>n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宋体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黑体"/>
                <a:ea typeface="黑体"/>
              </a:rPr>
              <a:t>⊕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宋体"/>
              </a:rPr>
              <a:t> C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  <a:ea typeface="宋体"/>
              </a:rPr>
              <a:t>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宋体"/>
              </a:rPr>
              <a:t>C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  <a:ea typeface="宋体"/>
              </a:rPr>
              <a:t>n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  <a:ea typeface="宋体"/>
              </a:rPr>
              <a:t>＋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宋体"/>
              </a:rPr>
              <a:t> = X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  <a:ea typeface="宋体"/>
              </a:rPr>
              <a:t>n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宋体"/>
              </a:rPr>
              <a:t>Y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  <a:ea typeface="宋体"/>
              </a:rPr>
              <a:t>n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宋体"/>
              </a:rPr>
              <a:t> + 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宋体"/>
              </a:rPr>
              <a:t>（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宋体"/>
              </a:rPr>
              <a:t>X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  <a:ea typeface="宋体"/>
              </a:rPr>
              <a:t>n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宋体"/>
              </a:rPr>
              <a:t>＋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宋体"/>
              </a:rPr>
              <a:t>Y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  <a:ea typeface="宋体"/>
              </a:rPr>
              <a:t>n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宋体"/>
              </a:rPr>
              <a:t>）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宋体"/>
              </a:rPr>
              <a:t>C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  <a:ea typeface="宋体"/>
              </a:rPr>
              <a:t>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宋体"/>
              </a:rPr>
              <a:t>	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宋体"/>
              </a:rPr>
              <a:t>	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宋体"/>
              </a:rPr>
              <a:t>= X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  <a:ea typeface="宋体"/>
              </a:rPr>
              <a:t>n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宋体"/>
              </a:rPr>
              <a:t>Y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  <a:ea typeface="宋体"/>
              </a:rPr>
              <a:t>n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宋体"/>
              </a:rPr>
              <a:t> + 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宋体"/>
              </a:rPr>
              <a:t>（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宋体"/>
              </a:rPr>
              <a:t>X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  <a:ea typeface="宋体"/>
              </a:rPr>
              <a:t>n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宋体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黑体"/>
                <a:ea typeface="黑体"/>
              </a:rPr>
              <a:t>⊕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宋体"/>
              </a:rPr>
              <a:t> Y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  <a:ea typeface="宋体"/>
              </a:rPr>
              <a:t>n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宋体"/>
              </a:rPr>
              <a:t>）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宋体"/>
              </a:rPr>
              <a:t>C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  <a:ea typeface="宋体"/>
              </a:rPr>
              <a:t>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84360" y="2060640"/>
            <a:ext cx="7632720" cy="1123920"/>
            <a:chOff x="684360" y="2060640"/>
            <a:chExt cx="7632720" cy="1123920"/>
          </a:xfrm>
        </p:grpSpPr>
        <p:sp>
          <p:nvSpPr>
            <p:cNvPr id="385" name=""/>
            <p:cNvSpPr/>
            <p:nvPr/>
          </p:nvSpPr>
          <p:spPr>
            <a:xfrm>
              <a:off x="4932360" y="2492640"/>
              <a:ext cx="14436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71640" y="2060640"/>
              <a:ext cx="14616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4360" y="2060640"/>
              <a:ext cx="7632720" cy="11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80000"/>
                </a:lnSpc>
                <a:spcBef>
                  <a:spcPts val="601"/>
                </a:spcBef>
                <a:buClr>
                  <a:srgbClr val="de8848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66"/>
                  </a:solidFill>
                  <a:latin typeface="黑体"/>
                  <a:ea typeface="宋体"/>
                </a:rPr>
                <a:t>F</a:t>
              </a:r>
              <a:r>
                <a:rPr b="0" lang="zh-CN" sz="2400" spc="-1" strike="noStrike" baseline="-25000">
                  <a:solidFill>
                    <a:srgbClr val="003366"/>
                  </a:solidFill>
                  <a:latin typeface="黑体"/>
                  <a:ea typeface="宋体"/>
                </a:rPr>
                <a:t>n</a:t>
              </a:r>
              <a:r>
                <a:rPr b="0" lang="zh-CN" sz="2400" spc="-1" strike="noStrike">
                  <a:solidFill>
                    <a:srgbClr val="003366"/>
                  </a:solidFill>
                  <a:latin typeface="黑体"/>
                  <a:ea typeface="宋体"/>
                </a:rPr>
                <a:t> = X</a:t>
              </a:r>
              <a:r>
                <a:rPr b="0" lang="zh-CN" sz="2400" spc="-1" strike="noStrike" baseline="-25000">
                  <a:solidFill>
                    <a:srgbClr val="003366"/>
                  </a:solidFill>
                  <a:latin typeface="黑体"/>
                  <a:ea typeface="宋体"/>
                </a:rPr>
                <a:t>n</a:t>
              </a:r>
              <a:r>
                <a:rPr b="0" lang="zh-CN" sz="2400" spc="-1" strike="noStrike">
                  <a:solidFill>
                    <a:srgbClr val="003366"/>
                  </a:solidFill>
                  <a:latin typeface="黑体"/>
                  <a:ea typeface="宋体"/>
                </a:rPr>
                <a:t>Y</a:t>
              </a:r>
              <a:r>
                <a:rPr b="0" lang="zh-CN" sz="2400" spc="-1" strike="noStrike" baseline="-25000">
                  <a:solidFill>
                    <a:srgbClr val="003366"/>
                  </a:solidFill>
                  <a:latin typeface="黑体"/>
                  <a:ea typeface="宋体"/>
                </a:rPr>
                <a:t>n</a:t>
              </a:r>
              <a:r>
                <a:rPr b="0" lang="zh-CN" sz="2400" spc="-1" strike="noStrike">
                  <a:solidFill>
                    <a:srgbClr val="003366"/>
                  </a:solidFill>
                  <a:latin typeface="黑体"/>
                  <a:ea typeface="宋体"/>
                </a:rPr>
                <a:t>C</a:t>
              </a:r>
              <a:r>
                <a:rPr b="0" lang="zh-CN" sz="2400" spc="-1" strike="noStrike" baseline="-25000">
                  <a:solidFill>
                    <a:srgbClr val="003366"/>
                  </a:solidFill>
                  <a:latin typeface="黑体"/>
                  <a:ea typeface="宋体"/>
                </a:rPr>
                <a:t>n</a:t>
              </a:r>
              <a:r>
                <a:rPr b="0" lang="zh-CN" sz="2400" spc="-1" strike="noStrike">
                  <a:solidFill>
                    <a:srgbClr val="003366"/>
                  </a:solidFill>
                  <a:latin typeface="黑体"/>
                  <a:ea typeface="宋体"/>
                </a:rPr>
                <a:t> + X</a:t>
              </a:r>
              <a:r>
                <a:rPr b="0" lang="zh-CN" sz="2400" spc="-1" strike="noStrike" baseline="-25000">
                  <a:solidFill>
                    <a:srgbClr val="003366"/>
                  </a:solidFill>
                  <a:latin typeface="黑体"/>
                  <a:ea typeface="宋体"/>
                </a:rPr>
                <a:t>n</a:t>
              </a:r>
              <a:r>
                <a:rPr b="0" lang="zh-CN" sz="2400" spc="-1" strike="noStrike">
                  <a:solidFill>
                    <a:srgbClr val="003366"/>
                  </a:solidFill>
                  <a:latin typeface="黑体"/>
                  <a:ea typeface="宋体"/>
                </a:rPr>
                <a:t>Y</a:t>
              </a:r>
              <a:r>
                <a:rPr b="0" lang="zh-CN" sz="2400" spc="-1" strike="noStrike" baseline="-25000">
                  <a:solidFill>
                    <a:srgbClr val="003366"/>
                  </a:solidFill>
                  <a:latin typeface="黑体"/>
                  <a:ea typeface="宋体"/>
                </a:rPr>
                <a:t>n</a:t>
              </a:r>
              <a:r>
                <a:rPr b="0" lang="zh-CN" sz="2400" spc="-1" strike="noStrike">
                  <a:solidFill>
                    <a:srgbClr val="003366"/>
                  </a:solidFill>
                  <a:latin typeface="黑体"/>
                  <a:ea typeface="宋体"/>
                </a:rPr>
                <a:t>C</a:t>
              </a:r>
              <a:r>
                <a:rPr b="0" lang="zh-CN" sz="2400" spc="-1" strike="noStrike" baseline="-25000">
                  <a:solidFill>
                    <a:srgbClr val="003366"/>
                  </a:solidFill>
                  <a:latin typeface="黑体"/>
                  <a:ea typeface="宋体"/>
                </a:rPr>
                <a:t>n</a:t>
              </a:r>
              <a:r>
                <a:rPr b="0" lang="zh-CN" sz="2400" spc="-1" strike="noStrike">
                  <a:solidFill>
                    <a:srgbClr val="003366"/>
                  </a:solidFill>
                  <a:latin typeface="黑体"/>
                  <a:ea typeface="宋体"/>
                </a:rPr>
                <a:t> + X</a:t>
              </a:r>
              <a:r>
                <a:rPr b="0" lang="zh-CN" sz="2400" spc="-1" strike="noStrike" baseline="-25000">
                  <a:solidFill>
                    <a:srgbClr val="003366"/>
                  </a:solidFill>
                  <a:latin typeface="黑体"/>
                  <a:ea typeface="宋体"/>
                </a:rPr>
                <a:t>n</a:t>
              </a:r>
              <a:r>
                <a:rPr b="0" lang="zh-CN" sz="2400" spc="-1" strike="noStrike">
                  <a:solidFill>
                    <a:srgbClr val="003366"/>
                  </a:solidFill>
                  <a:latin typeface="黑体"/>
                  <a:ea typeface="宋体"/>
                </a:rPr>
                <a:t>Y</a:t>
              </a:r>
              <a:r>
                <a:rPr b="0" lang="zh-CN" sz="2400" spc="-1" strike="noStrike" baseline="-25000">
                  <a:solidFill>
                    <a:srgbClr val="003366"/>
                  </a:solidFill>
                  <a:latin typeface="黑体"/>
                  <a:ea typeface="宋体"/>
                </a:rPr>
                <a:t>n</a:t>
              </a:r>
              <a:r>
                <a:rPr b="0" lang="zh-CN" sz="2400" spc="-1" strike="noStrike">
                  <a:solidFill>
                    <a:srgbClr val="003366"/>
                  </a:solidFill>
                  <a:latin typeface="黑体"/>
                  <a:ea typeface="宋体"/>
                </a:rPr>
                <a:t>C</a:t>
              </a:r>
              <a:r>
                <a:rPr b="0" lang="zh-CN" sz="2400" spc="-1" strike="noStrike" baseline="-25000">
                  <a:solidFill>
                    <a:srgbClr val="003366"/>
                  </a:solidFill>
                  <a:latin typeface="黑体"/>
                  <a:ea typeface="宋体"/>
                </a:rPr>
                <a:t>n</a:t>
              </a:r>
              <a:r>
                <a:rPr b="0" lang="zh-CN" sz="2400" spc="-1" strike="noStrike">
                  <a:solidFill>
                    <a:srgbClr val="003366"/>
                  </a:solidFill>
                  <a:latin typeface="黑体"/>
                  <a:ea typeface="宋体"/>
                </a:rPr>
                <a:t> +X</a:t>
              </a:r>
              <a:r>
                <a:rPr b="0" lang="zh-CN" sz="2400" spc="-1" strike="noStrike" baseline="-25000">
                  <a:solidFill>
                    <a:srgbClr val="003366"/>
                  </a:solidFill>
                  <a:latin typeface="黑体"/>
                  <a:ea typeface="宋体"/>
                </a:rPr>
                <a:t>n</a:t>
              </a:r>
              <a:r>
                <a:rPr b="0" lang="zh-CN" sz="2400" spc="-1" strike="noStrike">
                  <a:solidFill>
                    <a:srgbClr val="003366"/>
                  </a:solidFill>
                  <a:latin typeface="黑体"/>
                  <a:ea typeface="宋体"/>
                </a:rPr>
                <a:t>Y</a:t>
              </a:r>
              <a:r>
                <a:rPr b="0" lang="zh-CN" sz="2400" spc="-1" strike="noStrike" baseline="-25000">
                  <a:solidFill>
                    <a:srgbClr val="003366"/>
                  </a:solidFill>
                  <a:latin typeface="黑体"/>
                  <a:ea typeface="宋体"/>
                </a:rPr>
                <a:t>n</a:t>
              </a:r>
              <a:r>
                <a:rPr b="0" lang="zh-CN" sz="2400" spc="-1" strike="noStrike">
                  <a:solidFill>
                    <a:srgbClr val="003366"/>
                  </a:solidFill>
                  <a:latin typeface="黑体"/>
                  <a:ea typeface="宋体"/>
                </a:rPr>
                <a:t>C</a:t>
              </a:r>
              <a:r>
                <a:rPr b="0" lang="zh-CN" sz="2400" spc="-1" strike="noStrike" baseline="-25000">
                  <a:solidFill>
                    <a:srgbClr val="003366"/>
                  </a:solidFill>
                  <a:latin typeface="黑体"/>
                  <a:ea typeface="宋体"/>
                </a:rPr>
                <a:t>n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601"/>
                </a:spcBef>
                <a:buClr>
                  <a:srgbClr val="de8848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66"/>
                  </a:solidFill>
                  <a:latin typeface="黑体"/>
                  <a:ea typeface="宋体"/>
                </a:rPr>
                <a:t>C</a:t>
              </a:r>
              <a:r>
                <a:rPr b="0" lang="zh-CN" sz="2400" spc="-1" strike="noStrike" baseline="-25000">
                  <a:solidFill>
                    <a:srgbClr val="003366"/>
                  </a:solidFill>
                  <a:latin typeface="黑体"/>
                  <a:ea typeface="宋体"/>
                </a:rPr>
                <a:t>n</a:t>
              </a:r>
              <a:r>
                <a:rPr b="0" lang="zh-CN" sz="2400" spc="-1" strike="noStrike" baseline="-25000">
                  <a:solidFill>
                    <a:srgbClr val="003366"/>
                  </a:solidFill>
                  <a:latin typeface="黑体"/>
                  <a:ea typeface="宋体"/>
                </a:rPr>
                <a:t>＋</a:t>
              </a:r>
              <a:r>
                <a:rPr b="0" lang="zh-CN" sz="2400" spc="-1" strike="noStrike" baseline="-25000">
                  <a:solidFill>
                    <a:srgbClr val="003366"/>
                  </a:solidFill>
                  <a:latin typeface="黑体"/>
                  <a:ea typeface="宋体"/>
                </a:rPr>
                <a:t>1</a:t>
              </a:r>
              <a:r>
                <a:rPr b="0" lang="zh-CN" sz="2400" spc="-1" strike="noStrike">
                  <a:solidFill>
                    <a:srgbClr val="003366"/>
                  </a:solidFill>
                  <a:latin typeface="黑体"/>
                  <a:ea typeface="宋体"/>
                </a:rPr>
                <a:t> = X</a:t>
              </a:r>
              <a:r>
                <a:rPr b="0" lang="zh-CN" sz="2400" spc="-1" strike="noStrike" baseline="-25000">
                  <a:solidFill>
                    <a:srgbClr val="003366"/>
                  </a:solidFill>
                  <a:latin typeface="黑体"/>
                  <a:ea typeface="宋体"/>
                </a:rPr>
                <a:t>n</a:t>
              </a:r>
              <a:r>
                <a:rPr b="0" lang="zh-CN" sz="2400" spc="-1" strike="noStrike">
                  <a:solidFill>
                    <a:srgbClr val="003366"/>
                  </a:solidFill>
                  <a:latin typeface="黑体"/>
                  <a:ea typeface="宋体"/>
                </a:rPr>
                <a:t>Y</a:t>
              </a:r>
              <a:r>
                <a:rPr b="0" lang="zh-CN" sz="2400" spc="-1" strike="noStrike" baseline="-25000">
                  <a:solidFill>
                    <a:srgbClr val="003366"/>
                  </a:solidFill>
                  <a:latin typeface="黑体"/>
                  <a:ea typeface="宋体"/>
                </a:rPr>
                <a:t>n</a:t>
              </a:r>
              <a:r>
                <a:rPr b="0" lang="zh-CN" sz="2400" spc="-1" strike="noStrike">
                  <a:solidFill>
                    <a:srgbClr val="003366"/>
                  </a:solidFill>
                  <a:latin typeface="黑体"/>
                  <a:ea typeface="宋体"/>
                </a:rPr>
                <a:t>C</a:t>
              </a:r>
              <a:r>
                <a:rPr b="0" lang="zh-CN" sz="2400" spc="-1" strike="noStrike" baseline="-25000">
                  <a:solidFill>
                    <a:srgbClr val="003366"/>
                  </a:solidFill>
                  <a:latin typeface="黑体"/>
                  <a:ea typeface="宋体"/>
                </a:rPr>
                <a:t>n</a:t>
              </a:r>
              <a:r>
                <a:rPr b="0" lang="zh-CN" sz="2400" spc="-1" strike="noStrike">
                  <a:solidFill>
                    <a:srgbClr val="003366"/>
                  </a:solidFill>
                  <a:latin typeface="黑体"/>
                  <a:ea typeface="宋体"/>
                </a:rPr>
                <a:t> + X</a:t>
              </a:r>
              <a:r>
                <a:rPr b="0" lang="zh-CN" sz="2400" spc="-1" strike="noStrike" baseline="-25000">
                  <a:solidFill>
                    <a:srgbClr val="003366"/>
                  </a:solidFill>
                  <a:latin typeface="黑体"/>
                  <a:ea typeface="宋体"/>
                </a:rPr>
                <a:t>n</a:t>
              </a:r>
              <a:r>
                <a:rPr b="0" lang="zh-CN" sz="2400" spc="-1" strike="noStrike">
                  <a:solidFill>
                    <a:srgbClr val="003366"/>
                  </a:solidFill>
                  <a:latin typeface="黑体"/>
                  <a:ea typeface="宋体"/>
                </a:rPr>
                <a:t>Y</a:t>
              </a:r>
              <a:r>
                <a:rPr b="0" lang="zh-CN" sz="2400" spc="-1" strike="noStrike" baseline="-25000">
                  <a:solidFill>
                    <a:srgbClr val="003366"/>
                  </a:solidFill>
                  <a:latin typeface="黑体"/>
                  <a:ea typeface="宋体"/>
                </a:rPr>
                <a:t>n</a:t>
              </a:r>
              <a:r>
                <a:rPr b="0" lang="zh-CN" sz="2400" spc="-1" strike="noStrike">
                  <a:solidFill>
                    <a:srgbClr val="003366"/>
                  </a:solidFill>
                  <a:latin typeface="黑体"/>
                  <a:ea typeface="宋体"/>
                </a:rPr>
                <a:t>C</a:t>
              </a:r>
              <a:r>
                <a:rPr b="0" lang="zh-CN" sz="2400" spc="-1" strike="noStrike" baseline="-25000">
                  <a:solidFill>
                    <a:srgbClr val="003366"/>
                  </a:solidFill>
                  <a:latin typeface="黑体"/>
                  <a:ea typeface="宋体"/>
                </a:rPr>
                <a:t>n</a:t>
              </a:r>
              <a:r>
                <a:rPr b="0" lang="zh-CN" sz="2400" spc="-1" strike="noStrike">
                  <a:solidFill>
                    <a:srgbClr val="003366"/>
                  </a:solidFill>
                  <a:latin typeface="黑体"/>
                  <a:ea typeface="宋体"/>
                </a:rPr>
                <a:t> + X</a:t>
              </a:r>
              <a:r>
                <a:rPr b="0" lang="zh-CN" sz="2400" spc="-1" strike="noStrike" baseline="-25000">
                  <a:solidFill>
                    <a:srgbClr val="003366"/>
                  </a:solidFill>
                  <a:latin typeface="黑体"/>
                  <a:ea typeface="宋体"/>
                </a:rPr>
                <a:t>n</a:t>
              </a:r>
              <a:r>
                <a:rPr b="0" lang="zh-CN" sz="2400" spc="-1" strike="noStrike">
                  <a:solidFill>
                    <a:srgbClr val="003366"/>
                  </a:solidFill>
                  <a:latin typeface="黑体"/>
                  <a:ea typeface="宋体"/>
                </a:rPr>
                <a:t>Y</a:t>
              </a:r>
              <a:r>
                <a:rPr b="0" lang="zh-CN" sz="2400" spc="-1" strike="noStrike" baseline="-25000">
                  <a:solidFill>
                    <a:srgbClr val="003366"/>
                  </a:solidFill>
                  <a:latin typeface="黑体"/>
                  <a:ea typeface="宋体"/>
                </a:rPr>
                <a:t>n</a:t>
              </a:r>
              <a:r>
                <a:rPr b="0" lang="zh-CN" sz="2400" spc="-1" strike="noStrike">
                  <a:solidFill>
                    <a:srgbClr val="003366"/>
                  </a:solidFill>
                  <a:latin typeface="黑体"/>
                  <a:ea typeface="宋体"/>
                </a:rPr>
                <a:t>C</a:t>
              </a:r>
              <a:r>
                <a:rPr b="0" lang="zh-CN" sz="2400" spc="-1" strike="noStrike" baseline="-25000">
                  <a:solidFill>
                    <a:srgbClr val="003366"/>
                  </a:solidFill>
                  <a:latin typeface="黑体"/>
                  <a:ea typeface="宋体"/>
                </a:rPr>
                <a:t>n</a:t>
              </a:r>
              <a:r>
                <a:rPr b="0" lang="zh-CN" sz="2400" spc="-1" strike="noStrike">
                  <a:solidFill>
                    <a:srgbClr val="003366"/>
                  </a:solidFill>
                  <a:latin typeface="黑体"/>
                  <a:ea typeface="宋体"/>
                </a:rPr>
                <a:t> +X</a:t>
              </a:r>
              <a:r>
                <a:rPr b="0" lang="zh-CN" sz="2400" spc="-1" strike="noStrike" baseline="-25000">
                  <a:solidFill>
                    <a:srgbClr val="003366"/>
                  </a:solidFill>
                  <a:latin typeface="黑体"/>
                  <a:ea typeface="宋体"/>
                </a:rPr>
                <a:t>n</a:t>
              </a:r>
              <a:r>
                <a:rPr b="0" lang="zh-CN" sz="2400" spc="-1" strike="noStrike">
                  <a:solidFill>
                    <a:srgbClr val="003366"/>
                  </a:solidFill>
                  <a:latin typeface="黑体"/>
                  <a:ea typeface="宋体"/>
                </a:rPr>
                <a:t>Y</a:t>
              </a:r>
              <a:r>
                <a:rPr b="0" lang="zh-CN" sz="2400" spc="-1" strike="noStrike" baseline="-25000">
                  <a:solidFill>
                    <a:srgbClr val="003366"/>
                  </a:solidFill>
                  <a:latin typeface="黑体"/>
                  <a:ea typeface="宋体"/>
                </a:rPr>
                <a:t>n</a:t>
              </a:r>
              <a:r>
                <a:rPr b="0" lang="zh-CN" sz="2400" spc="-1" strike="noStrike">
                  <a:solidFill>
                    <a:srgbClr val="003366"/>
                  </a:solidFill>
                  <a:latin typeface="黑体"/>
                  <a:ea typeface="宋体"/>
                </a:rPr>
                <a:t>C</a:t>
              </a:r>
              <a:r>
                <a:rPr b="0" lang="zh-CN" sz="2400" spc="-1" strike="noStrike" baseline="-25000">
                  <a:solidFill>
                    <a:srgbClr val="003366"/>
                  </a:solidFill>
                  <a:latin typeface="黑体"/>
                  <a:ea typeface="宋体"/>
                </a:rPr>
                <a:t>n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84360" y="2060640"/>
              <a:ext cx="14472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19640" y="2060640"/>
              <a:ext cx="14436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995640" y="2060640"/>
              <a:ext cx="14472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43280" y="2060640"/>
              <a:ext cx="14472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32360" y="2060640"/>
              <a:ext cx="14436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059280" y="2419560"/>
              <a:ext cx="14436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995640" y="2419560"/>
              <a:ext cx="14472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60688-C26C-43E8-846B-634282B591ED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F59632-1488-4CB8-B878-FEAD9593DD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6247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一位全加器逻辑电路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395280" y="1052640"/>
          <a:ext cx="4968720" cy="26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052640"/>
                    <a:ext cx="4968720" cy="26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"/>
          <p:cNvSpPr/>
          <p:nvPr/>
        </p:nvSpPr>
        <p:spPr>
          <a:xfrm>
            <a:off x="5219640" y="2060640"/>
            <a:ext cx="367344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一位全加器逻辑框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4284720" y="2781360"/>
          <a:ext cx="4392720" cy="327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2781360"/>
                    <a:ext cx="4392720" cy="32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0DF06-D96A-4D0B-B884-C7AB84B5216B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72AB16-09A0-4B6E-ACF6-656570112C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四位二进制加法器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197000"/>
            <a:ext cx="806616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由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4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个全加器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串连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构成</a:t>
            </a:r>
            <a:r>
              <a:rPr b="0" lang="zh-CN" sz="2400" spc="-1" strike="noStrike">
                <a:solidFill>
                  <a:srgbClr val="006600"/>
                </a:solidFill>
                <a:latin typeface="黑体"/>
              </a:rPr>
              <a:t>行波进位加法器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284880" y="1628640"/>
          <a:ext cx="2592360" cy="24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4880" y="1628640"/>
                    <a:ext cx="259236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4268880" y="1635120"/>
          <a:ext cx="2098440" cy="243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8880" y="1635120"/>
                    <a:ext cx="209844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2165400" y="1628640"/>
          <a:ext cx="2174760" cy="243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65400" y="1628640"/>
                    <a:ext cx="217476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250920" y="1635120"/>
          <a:ext cx="2001600" cy="2435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0920" y="1635120"/>
                    <a:ext cx="200160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"/>
          <p:cNvSpPr/>
          <p:nvPr/>
        </p:nvSpPr>
        <p:spPr>
          <a:xfrm>
            <a:off x="468360" y="4381560"/>
            <a:ext cx="80661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49280" indent="-270000">
              <a:lnSpc>
                <a:spcPct val="100000"/>
              </a:lnSpc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特点：位间进位是串行传送（称为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行波进位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），即本位全加和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F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  <a:ea typeface="黑体"/>
              </a:rPr>
              <a:t>i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必须等低位进位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C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  <a:ea typeface="黑体"/>
              </a:rPr>
              <a:t>i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来到后才能得到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49280" indent="-270000">
              <a:lnSpc>
                <a:spcPct val="100000"/>
              </a:lnSpc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缺点：加法时间与位数有关，速度较慢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99C93-0ACF-4227-9BC7-83C69FE91DCC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818688-53D6-4A06-859C-F17AC07B81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四位二进制并行进位加法器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7994880" cy="7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在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4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个全加器基础上进行改造，以便并行产生进位，</a:t>
            </a:r>
            <a:r>
              <a:rPr b="0" lang="zh-CN" sz="2400" spc="-1" strike="noStrike">
                <a:solidFill>
                  <a:srgbClr val="006600"/>
                </a:solidFill>
                <a:latin typeface="黑体"/>
              </a:rPr>
              <a:t>构成并行进位加法器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324000" y="1844640"/>
          <a:ext cx="8135640" cy="35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44640"/>
                    <a:ext cx="8135640" cy="35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49435-ECB9-45E2-9AB0-CCCEDDE60207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83C33C-7DA1-4C53-B06C-FC1A93929E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456840" y="1076400"/>
            <a:ext cx="434988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15960" indent="-169920">
              <a:lnSpc>
                <a:spcPct val="9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特点：采用“</a:t>
            </a:r>
            <a:r>
              <a:rPr b="0" lang="zh-CN" sz="2400" spc="-1" strike="noStrike">
                <a:solidFill>
                  <a:srgbClr val="006600"/>
                </a:solidFill>
                <a:latin typeface="黑体"/>
              </a:rPr>
              <a:t>并行进位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法”或“</a:t>
            </a:r>
            <a:r>
              <a:rPr b="0" lang="zh-CN" sz="2400" spc="-1" strike="noStrike">
                <a:solidFill>
                  <a:srgbClr val="006600"/>
                </a:solidFill>
                <a:latin typeface="黑体"/>
              </a:rPr>
              <a:t>超前进位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产生电路”来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同时形成各位的进位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615960" indent="-169920">
              <a:lnSpc>
                <a:spcPct val="8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优点：运算速度大大加快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上述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4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位</a:t>
            </a:r>
            <a:r>
              <a:rPr b="0" lang="zh-CN" sz="2400" spc="-1" strike="noStrike">
                <a:solidFill>
                  <a:srgbClr val="006600"/>
                </a:solidFill>
                <a:latin typeface="黑体"/>
              </a:rPr>
              <a:t>并行进位加法器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的逻辑框图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4572000" y="1989000"/>
          <a:ext cx="4248000" cy="31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89000"/>
                    <a:ext cx="4248000" cy="31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729320" y="60930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四位二进制并行进位加法器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8CC04-F608-4E70-946C-5B83A5F526CB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86A1A5-93F0-4AC2-8659-0281267015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三、算术逻辑运算单元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ALU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120" y="1052640"/>
            <a:ext cx="7634520" cy="42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ALU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（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A</a:t>
            </a:r>
            <a:r>
              <a:rPr b="1" lang="en-US" sz="2400" spc="-1" strike="noStrike">
                <a:solidFill>
                  <a:srgbClr val="003366"/>
                </a:solidFill>
                <a:latin typeface="黑体"/>
              </a:rPr>
              <a:t>rithmetic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 &amp; Logic Unit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）：算术逻辑运算单元，计算机中可以进行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逻辑运算和算术运算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的部件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全加器：只能对输入数据进行加法运算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ALU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的实现：在并行进位加法器的基础上，再加上一些逻辑电路和功能控制信号线，可形成多功能算术逻辑运算部件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ALU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74LS181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芯片：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位多功能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ALU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，内部集成了并行进位电路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5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条功能选择线：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S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</a:rPr>
              <a:t>3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S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S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S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</a:rPr>
              <a:t>0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和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M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16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种算术运算：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M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＝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0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时，由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S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</a:rPr>
              <a:t>3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S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S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S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</a:rPr>
              <a:t>0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 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来选择，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Cn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＝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0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有进位，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Cn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＝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无进位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16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种逻辑运算：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M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＝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时，由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S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</a:rPr>
              <a:t>3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S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S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S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</a:rPr>
              <a:t>0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 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来选择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D8053-EAC7-4D5E-AC8A-1C0E5C353BCA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B8DA2F-A1C9-4006-B57D-C9C7FB7ABD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74LS181 ALU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构成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39720" y="1117080"/>
            <a:ext cx="49291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将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输入数据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A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和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B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经过函数发生器形成它们的不同组合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（由功能选择线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S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</a:rPr>
              <a:t>3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S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S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S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</a:rPr>
              <a:t>0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 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决定），再送入并行进位加法器进行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加法运算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，从而使得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ALU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能够实现各种的运算功能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X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＝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f 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</a:rPr>
              <a:t>S3S2S1S0 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（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A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，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B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Y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＝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f 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</a:rPr>
              <a:t>S3S2S1S0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 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（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A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，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B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4932360" y="2131920"/>
          <a:ext cx="4002120" cy="424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131920"/>
                    <a:ext cx="4002120" cy="42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7D1AD-A643-41A9-B476-3EA779C796F6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C65D8D-3360-49F6-A581-66859C13F6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2.1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半导体器件的开关特性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692360" y="1282680"/>
            <a:ext cx="4724280" cy="685800"/>
            <a:chOff x="1692360" y="1282680"/>
            <a:chExt cx="4724280" cy="685800"/>
          </a:xfrm>
        </p:grpSpPr>
        <p:sp>
          <p:nvSpPr>
            <p:cNvPr id="139" name=""/>
            <p:cNvSpPr/>
            <p:nvPr/>
          </p:nvSpPr>
          <p:spPr>
            <a:xfrm>
              <a:off x="2073240" y="1401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5ba54"/>
                </a:gs>
                <a:gs pos="100000">
                  <a:srgbClr val="e4efd9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92360" y="1282680"/>
              <a:ext cx="685800" cy="685800"/>
            </a:xfrm>
            <a:prstGeom prst="diamond">
              <a:avLst/>
            </a:prstGeom>
            <a:solidFill>
              <a:srgbClr val="85ba54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01840" y="14572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66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003366"/>
                  </a:solidFill>
                  <a:latin typeface="黑体"/>
                  <a:ea typeface="黑体"/>
                </a:rPr>
                <a:t>二极管的开关特性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06480" y="1362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一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692360" y="2265480"/>
            <a:ext cx="4724280" cy="685800"/>
            <a:chOff x="1692360" y="2265480"/>
            <a:chExt cx="4724280" cy="685800"/>
          </a:xfrm>
        </p:grpSpPr>
        <p:sp>
          <p:nvSpPr>
            <p:cNvPr id="144" name=""/>
            <p:cNvSpPr/>
            <p:nvPr/>
          </p:nvSpPr>
          <p:spPr>
            <a:xfrm>
              <a:off x="2073240" y="23846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e8848"/>
                </a:gs>
                <a:gs pos="100000">
                  <a:srgbClr val="f7e4d7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92360" y="2265480"/>
              <a:ext cx="685800" cy="685800"/>
            </a:xfrm>
            <a:prstGeom prst="diamond">
              <a:avLst/>
            </a:prstGeom>
            <a:solidFill>
              <a:srgbClr val="de8848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01840" y="24400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66"/>
                  </a:solidFill>
                  <a:latin typeface="Arial"/>
                  <a:ea typeface="黑体"/>
                </a:rPr>
                <a:t>   </a:t>
              </a:r>
              <a:r>
                <a:rPr b="1" lang="zh-CN" sz="2400" spc="-1" strike="noStrike">
                  <a:solidFill>
                    <a:srgbClr val="003366"/>
                  </a:solidFill>
                  <a:latin typeface="Arial"/>
                  <a:ea typeface="黑体"/>
                </a:rPr>
                <a:t>三极管的开关特性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67680" y="2345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二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692360" y="3247920"/>
            <a:ext cx="4724280" cy="685800"/>
            <a:chOff x="1692360" y="3247920"/>
            <a:chExt cx="4724280" cy="685800"/>
          </a:xfrm>
        </p:grpSpPr>
        <p:sp>
          <p:nvSpPr>
            <p:cNvPr id="149" name=""/>
            <p:cNvSpPr/>
            <p:nvPr/>
          </p:nvSpPr>
          <p:spPr>
            <a:xfrm>
              <a:off x="2073240" y="33670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86c2"/>
                </a:gs>
                <a:gs pos="100000">
                  <a:srgbClr val="d9e4f1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92360" y="3247920"/>
              <a:ext cx="685800" cy="685800"/>
            </a:xfrm>
            <a:prstGeom prst="diamond">
              <a:avLst/>
            </a:prstGeom>
            <a:solidFill>
              <a:srgbClr val="4c59d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1840" y="34225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66"/>
                  </a:solidFill>
                  <a:latin typeface="Arial"/>
                  <a:ea typeface="黑体"/>
                </a:rPr>
                <a:t>    </a:t>
              </a:r>
              <a:r>
                <a:rPr b="1" lang="zh-CN" sz="2400" spc="-1" strike="noStrike">
                  <a:solidFill>
                    <a:srgbClr val="003366"/>
                  </a:solidFill>
                  <a:latin typeface="Arial"/>
                  <a:ea typeface="黑体"/>
                </a:rPr>
                <a:t>MOS</a:t>
              </a:r>
              <a:r>
                <a:rPr b="1" lang="zh-CN" sz="2400" spc="-1" strike="noStrike">
                  <a:solidFill>
                    <a:srgbClr val="003366"/>
                  </a:solidFill>
                  <a:latin typeface="Arial"/>
                  <a:ea typeface="黑体"/>
                </a:rPr>
                <a:t>管的开关特性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67680" y="3327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三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729320" y="60930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13DD0-03C7-4445-BDF0-AFB76F652FC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2D0070-B56D-402D-93C1-779128DD0A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由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74LS18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构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16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位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ALU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7850160" cy="14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用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片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74LS181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 →16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位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ALU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74LS181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片内：并行进位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片间：串行进位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。 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5668920" y="2652840"/>
          <a:ext cx="2664000" cy="218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8920" y="2652840"/>
                    <a:ext cx="26640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4172040" y="2373480"/>
          <a:ext cx="1979640" cy="272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72040" y="2373480"/>
                    <a:ext cx="197964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2344680" y="2678040"/>
          <a:ext cx="1870200" cy="213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4680" y="2678040"/>
                    <a:ext cx="187020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685800" y="2652840"/>
          <a:ext cx="1789200" cy="2135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2652840"/>
                    <a:ext cx="178920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20A26-EEC7-4E82-BE2E-2F13F3C14E96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084B3-2C94-4B45-B9BF-D9D1579CC9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536040" y="1125360"/>
            <a:ext cx="81392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用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片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74LS181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 + 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片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74LS182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 →16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位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ALU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80000"/>
              </a:lnSpc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74LS181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片内：并行进位；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片间：并行进位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。 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285840" y="2004840"/>
          <a:ext cx="8316720" cy="33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2004840"/>
                    <a:ext cx="8316720" cy="33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"/>
          <p:cNvSpPr/>
          <p:nvPr/>
        </p:nvSpPr>
        <p:spPr>
          <a:xfrm>
            <a:off x="7164360" y="35035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258920" y="35766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203640" y="35290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148360" y="35290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172360" y="35035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083280" y="30970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②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95640" y="30970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②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138560" y="30970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②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667640" y="23050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③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724360" y="23050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③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780000" y="230508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③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23050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③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5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84720" y="6165720"/>
            <a:ext cx="419040" cy="4194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由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74LS18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构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16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位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ALU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C31E4-99F1-4C4E-9764-2C91A93D17FC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A29FC0-EEBF-4449-9C4B-E6014FE051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9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0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4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6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四、译码器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06616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译码器功能：把输入编码译成相应的控制电位，作为芯片的片选信号或其他操作控制信号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特点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有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n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个输入变量， 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2</a:t>
            </a:r>
            <a:r>
              <a:rPr b="0" lang="zh-CN" sz="2400" spc="-1" strike="noStrike" baseline="30000">
                <a:solidFill>
                  <a:srgbClr val="003366"/>
                </a:solidFill>
                <a:latin typeface="黑体"/>
              </a:rPr>
              <a:t>n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条输出变量（ 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n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－ 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2</a:t>
            </a:r>
            <a:r>
              <a:rPr b="0" lang="zh-CN" sz="2400" spc="-1" strike="noStrike" baseline="30000">
                <a:solidFill>
                  <a:srgbClr val="003366"/>
                </a:solidFill>
                <a:latin typeface="黑体"/>
              </a:rPr>
              <a:t>n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 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） ；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输入信号的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2</a:t>
            </a:r>
            <a:r>
              <a:rPr b="0" lang="zh-CN" sz="2400" spc="-1" strike="noStrike" baseline="30000">
                <a:solidFill>
                  <a:srgbClr val="003366"/>
                </a:solidFill>
                <a:latin typeface="黑体"/>
              </a:rPr>
              <a:t>n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个编码对应于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2</a:t>
            </a:r>
            <a:r>
              <a:rPr b="0" lang="zh-CN" sz="2400" spc="-1" strike="noStrike" baseline="30000">
                <a:solidFill>
                  <a:srgbClr val="003366"/>
                </a:solidFill>
                <a:latin typeface="黑体"/>
              </a:rPr>
              <a:t>n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条输出线输出：当输入为某一编码时，对应仅有一根输出为“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0”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（或为“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1”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），其余输出均为“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1”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（或为“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0”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）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常用的译码器芯片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74LS139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：双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－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4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译码器（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n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＝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74LS138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：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3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－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8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译码器（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n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＝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3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3E3B7-A34A-41CC-9388-B4D9EA3ED7C7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98738A-A1BB-4B97-88C7-87CFE0A7BE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宋体"/>
              </a:rPr>
              <a:t>74LS139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35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内部集成了两个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－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译码器；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功能表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“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使能”控制端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E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：用来控制译码器是否工作，当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E#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端为“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1”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时，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禁止译码器工作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，此时译码器的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所有输出线均为无效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即“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1”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。 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458" name=""/>
          <p:cNvSpPr/>
          <p:nvPr/>
        </p:nvSpPr>
        <p:spPr>
          <a:xfrm>
            <a:off x="3605040" y="2781360"/>
            <a:ext cx="228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4500720" y="1989000"/>
          <a:ext cx="4032000" cy="2705400"/>
        </p:xfrm>
        <a:graphic>
          <a:graphicData uri="http://schemas.openxmlformats.org/drawingml/2006/table">
            <a:tbl>
              <a:tblPr/>
              <a:tblGrid>
                <a:gridCol w="484200"/>
                <a:gridCol w="595080"/>
                <a:gridCol w="569880"/>
                <a:gridCol w="582840"/>
                <a:gridCol w="582480"/>
                <a:gridCol w="600120"/>
                <a:gridCol w="617400"/>
              </a:tblGrid>
              <a:tr h="5000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输入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r" pos="26676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输出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B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Y</a:t>
                      </a:r>
                      <a:r>
                        <a:rPr b="1" lang="en-US" sz="1600" spc="-1" strike="noStrike" baseline="-30000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Y</a:t>
                      </a:r>
                      <a:r>
                        <a:rPr b="1" lang="en-US" sz="1600" spc="-1" strike="noStrike" baseline="-30000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Y</a:t>
                      </a:r>
                      <a:r>
                        <a:rPr b="1" lang="en-US" sz="1600" spc="-1" strike="noStrike" baseline="-30000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Y</a:t>
                      </a:r>
                      <a:r>
                        <a:rPr b="1" lang="en-US" sz="1600" spc="-1" strike="noStrike" baseline="-30000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16000" indent="-216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216000" indent="-216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  <a:ea typeface="宋体"/>
                        </a:rPr>
                        <a:t>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216000" indent="-216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  <a:ea typeface="宋体"/>
                        </a:rPr>
                        <a:t>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216000" indent="-216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  <a:ea typeface="宋体"/>
                        </a:rPr>
                        <a:t>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216000" indent="-216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  <a:ea typeface="宋体"/>
                        </a:rPr>
                        <a:t>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216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X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216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216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216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216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216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X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216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216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216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216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216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216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216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216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216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216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216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216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216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216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216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216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216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216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216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216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216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216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216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216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"/>
          <p:cNvSpPr/>
          <p:nvPr/>
        </p:nvSpPr>
        <p:spPr>
          <a:xfrm>
            <a:off x="4643280" y="2550960"/>
            <a:ext cx="28908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299280" y="2565360"/>
            <a:ext cx="28872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77080" y="2565360"/>
            <a:ext cx="28872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494480" y="2565360"/>
            <a:ext cx="28908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070840" y="2565360"/>
            <a:ext cx="28908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rot="12390000">
            <a:off x="5838480" y="3788640"/>
            <a:ext cx="3046320" cy="36036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859280" y="5013360"/>
            <a:ext cx="3527640" cy="459720"/>
          </a:xfrm>
          <a:prstGeom prst="rect">
            <a:avLst/>
          </a:prstGeom>
          <a:solidFill>
            <a:srgbClr val="ff99cc"/>
          </a:solidFill>
          <a:ln w="9360">
            <a:solidFill>
              <a:srgbClr val="508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楷体_GB2312"/>
              </a:rPr>
              <a:t>：指可以取值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楷体_GB2312"/>
              </a:rPr>
              <a:t>或者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楷体_GB2312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3D8CE-6FEB-4070-AEF8-770399BB04CD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F0A5D6-B46B-4C64-B28D-7D2AB4CC1A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宋体"/>
              </a:rPr>
              <a:t>74LS139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0661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按照真值表，四个输出的逻辑代数式为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469" name=""/>
          <p:cNvSpPr/>
          <p:nvPr/>
        </p:nvSpPr>
        <p:spPr>
          <a:xfrm>
            <a:off x="3605040" y="2781360"/>
            <a:ext cx="228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1189080" y="3645000"/>
                <a:ext cx="15825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1187280" y="4221000"/>
                <a:ext cx="16574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2" name=""/>
          <p:cNvSpPr/>
          <p:nvPr/>
        </p:nvSpPr>
        <p:spPr>
          <a:xfrm>
            <a:off x="611280" y="4941720"/>
            <a:ext cx="46814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－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译码器逻辑电路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4932360" y="2570040"/>
          <a:ext cx="3600360" cy="345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570040"/>
                    <a:ext cx="3600360" cy="34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1187280" y="2492280"/>
                <a:ext cx="15843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1187280" y="3068640"/>
                <a:ext cx="15843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 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F7778-05E8-4154-9F96-898B820F6F9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A94EC-A7FA-4BF7-BF9A-1918779081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3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6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91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345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宋体"/>
              </a:rPr>
              <a:t>74LS138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22338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输入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8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输出的译码器：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－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8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译码器；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功能表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479" name=""/>
          <p:cNvSpPr/>
          <p:nvPr/>
        </p:nvSpPr>
        <p:spPr>
          <a:xfrm>
            <a:off x="6615000" y="1846440"/>
            <a:ext cx="289080" cy="0"/>
          </a:xfrm>
          <a:prstGeom prst="line">
            <a:avLst/>
          </a:prstGeom>
          <a:ln w="28440">
            <a:solidFill>
              <a:srgbClr val="4c59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596360" y="1846440"/>
            <a:ext cx="288720" cy="0"/>
          </a:xfrm>
          <a:prstGeom prst="line">
            <a:avLst/>
          </a:prstGeom>
          <a:ln w="28440">
            <a:solidFill>
              <a:srgbClr val="4c59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024760" y="1846440"/>
            <a:ext cx="292320" cy="0"/>
          </a:xfrm>
          <a:prstGeom prst="line">
            <a:avLst/>
          </a:prstGeom>
          <a:ln w="28440">
            <a:solidFill>
              <a:srgbClr val="4c59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386920" y="1846440"/>
            <a:ext cx="288720" cy="0"/>
          </a:xfrm>
          <a:prstGeom prst="line">
            <a:avLst/>
          </a:prstGeom>
          <a:ln w="28440">
            <a:solidFill>
              <a:srgbClr val="4c59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19156800">
            <a:off x="4470120" y="3284280"/>
            <a:ext cx="5070240" cy="36036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2987640" y="1386000"/>
          <a:ext cx="5832360" cy="4586040"/>
        </p:xfrm>
        <a:graphic>
          <a:graphicData uri="http://schemas.openxmlformats.org/drawingml/2006/table">
            <a:tbl>
              <a:tblPr/>
              <a:tblGrid>
                <a:gridCol w="1298520"/>
                <a:gridCol w="1009800"/>
                <a:gridCol w="352404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cc0000"/>
                          </a:solidFill>
                          <a:latin typeface="Arial"/>
                          <a:ea typeface="宋体"/>
                        </a:rPr>
                        <a:t>输  入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cc0000"/>
                          </a:solidFill>
                          <a:latin typeface="Arial"/>
                          <a:ea typeface="宋体"/>
                        </a:rPr>
                        <a:t>输  出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E</a:t>
                      </a:r>
                      <a:r>
                        <a:rPr b="1" lang="en-US" sz="1600" spc="-1" strike="noStrike" baseline="-25000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E</a:t>
                      </a:r>
                      <a:r>
                        <a:rPr b="1" lang="en-US" sz="1600" spc="-1" strike="noStrike" baseline="-20000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E</a:t>
                      </a:r>
                      <a:r>
                        <a:rPr b="1" lang="en-US" sz="1600" spc="-1" strike="noStrike" baseline="-20000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C B 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Y</a:t>
                      </a:r>
                      <a:r>
                        <a:rPr b="1" lang="en-US" sz="1600" spc="-1" strike="noStrike" baseline="-20000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7 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 Y</a:t>
                      </a:r>
                      <a:r>
                        <a:rPr b="1" lang="en-US" sz="1600" spc="-1" strike="noStrike" baseline="-20000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6 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  Y</a:t>
                      </a:r>
                      <a:r>
                        <a:rPr b="1" lang="en-US" sz="1600" spc="-1" strike="noStrike" baseline="-20000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   Y</a:t>
                      </a:r>
                      <a:r>
                        <a:rPr b="1" lang="en-US" sz="1600" spc="-1" strike="noStrike" baseline="-20000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4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   Y</a:t>
                      </a:r>
                      <a:r>
                        <a:rPr b="1" lang="en-US" sz="1600" spc="-1" strike="noStrike" baseline="-20000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   Y</a:t>
                      </a:r>
                      <a:r>
                        <a:rPr b="1" lang="en-US" sz="1600" spc="-1" strike="noStrike" baseline="-20000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  Y</a:t>
                      </a:r>
                      <a:r>
                        <a:rPr b="1" lang="en-US" sz="1600" spc="-1" strike="noStrike" baseline="-20000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1 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 Y</a:t>
                      </a:r>
                      <a:r>
                        <a:rPr b="1" lang="en-US" sz="1600" spc="-1" strike="noStrike" baseline="-20000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1 0 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0 0 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1  1  1   1   1   1  1  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1 0 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0 0 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1  1  1   1   1   1  0  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1 0 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0 1 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1  1  1   1   1   0  1  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1 0 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0 1 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1  1  1   1   0   1  1  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1 0 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1 0 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1  1  1   0   1   1  1  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1 0 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1 0 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1  1  0   1   1   1  1  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1 0 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1 1 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1  0  1   1   1   1  1  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1 0 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1 1 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0  1  1   1   1   1  1  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0 X X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X X X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1  1  1   1   1   1  1  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X 1 X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X X X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1  1  1   1   1   1  1  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X X 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X X X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1  1  1   1   1   1  1  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"/>
          <p:cNvSpPr/>
          <p:nvPr/>
        </p:nvSpPr>
        <p:spPr>
          <a:xfrm>
            <a:off x="3492360" y="1844640"/>
            <a:ext cx="144720" cy="0"/>
          </a:xfrm>
          <a:prstGeom prst="line">
            <a:avLst/>
          </a:prstGeom>
          <a:ln w="28440">
            <a:solidFill>
              <a:srgbClr val="4c59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291280" y="1846440"/>
            <a:ext cx="288720" cy="0"/>
          </a:xfrm>
          <a:prstGeom prst="line">
            <a:avLst/>
          </a:prstGeom>
          <a:ln w="28440">
            <a:solidFill>
              <a:srgbClr val="4c59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651640" y="1846440"/>
            <a:ext cx="288720" cy="0"/>
          </a:xfrm>
          <a:prstGeom prst="line">
            <a:avLst/>
          </a:prstGeom>
          <a:ln w="28440">
            <a:solidFill>
              <a:srgbClr val="4c59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083280" y="1846440"/>
            <a:ext cx="289080" cy="0"/>
          </a:xfrm>
          <a:prstGeom prst="line">
            <a:avLst/>
          </a:prstGeom>
          <a:ln w="28440">
            <a:solidFill>
              <a:srgbClr val="4c59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91280" y="1846440"/>
            <a:ext cx="289080" cy="0"/>
          </a:xfrm>
          <a:prstGeom prst="line">
            <a:avLst/>
          </a:prstGeom>
          <a:ln w="28440">
            <a:solidFill>
              <a:srgbClr val="4c59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47640" y="6165720"/>
            <a:ext cx="419400" cy="419400"/>
          </a:xfrm>
          <a:prstGeom prst="rect">
            <a:avLst/>
          </a:prstGeom>
          <a:ln w="0">
            <a:noFill/>
          </a:ln>
        </p:spPr>
      </p:pic>
      <p:grpSp>
        <p:nvGrpSpPr>
          <p:cNvPr id="491" name=""/>
          <p:cNvGrpSpPr/>
          <p:nvPr/>
        </p:nvGrpSpPr>
        <p:grpSpPr>
          <a:xfrm>
            <a:off x="468360" y="3789360"/>
            <a:ext cx="2305080" cy="797400"/>
            <a:chOff x="468360" y="3789360"/>
            <a:chExt cx="2305080" cy="797400"/>
          </a:xfrm>
        </p:grpSpPr>
        <p:sp>
          <p:nvSpPr>
            <p:cNvPr id="492" name=""/>
            <p:cNvSpPr/>
            <p:nvPr/>
          </p:nvSpPr>
          <p:spPr>
            <a:xfrm>
              <a:off x="1187280" y="3789360"/>
              <a:ext cx="21780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68360" y="3789360"/>
              <a:ext cx="2305080" cy="79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marL="270000" indent="-270000">
                <a:lnSpc>
                  <a:spcPct val="90000"/>
                </a:lnSpc>
                <a:spcAft>
                  <a:spcPts val="601"/>
                </a:spcAft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当 </a:t>
              </a:r>
              <a:r>
                <a:rPr b="1" lang="zh-CN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E</a:t>
              </a:r>
              <a:r>
                <a:rPr b="1" lang="zh-CN" sz="2400" spc="-1" strike="noStrike" baseline="-25000">
                  <a:solidFill>
                    <a:srgbClr val="cc0000"/>
                  </a:solidFill>
                  <a:latin typeface="黑体"/>
                  <a:ea typeface="黑体"/>
                </a:rPr>
                <a:t>1 </a:t>
              </a:r>
              <a:r>
                <a:rPr b="1" lang="zh-CN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E</a:t>
              </a:r>
              <a:r>
                <a:rPr b="1" lang="zh-CN" sz="2400" spc="-1" strike="noStrike" baseline="-25000">
                  <a:solidFill>
                    <a:srgbClr val="cc0000"/>
                  </a:solidFill>
                  <a:latin typeface="黑体"/>
                  <a:ea typeface="黑体"/>
                </a:rPr>
                <a:t>2 </a:t>
              </a:r>
              <a:r>
                <a:rPr b="1" lang="zh-CN" sz="2400" spc="-1" strike="noStrike">
                  <a:solidFill>
                    <a:srgbClr val="cc0000"/>
                  </a:solidFill>
                  <a:latin typeface="Arial"/>
                  <a:ea typeface="黑体"/>
                </a:rPr>
                <a:t>E</a:t>
              </a:r>
              <a:r>
                <a:rPr b="1" lang="zh-CN" sz="2400" spc="-1" strike="noStrike" baseline="-25000">
                  <a:solidFill>
                    <a:srgbClr val="cc0000"/>
                  </a:solidFill>
                  <a:latin typeface="Arial"/>
                  <a:ea typeface="黑体"/>
                </a:rPr>
                <a:t>3</a:t>
              </a:r>
              <a:r>
                <a:rPr b="0" lang="zh-CN" sz="2400" spc="-1" strike="noStrike">
                  <a:solidFill>
                    <a:srgbClr val="003366"/>
                  </a:solidFill>
                  <a:latin typeface="Arial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＝</a:t>
              </a:r>
              <a:r>
                <a:rPr b="1" lang="zh-CN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LLH</a:t>
              </a:r>
              <a:r>
                <a:rPr b="1" lang="zh-CN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时，译码器才工作。</a:t>
              </a:r>
              <a:r>
                <a:rPr b="1" lang="zh-CN" sz="2400" spc="-1" strike="noStrike">
                  <a:solidFill>
                    <a:srgbClr val="003366"/>
                  </a:solidFill>
                  <a:latin typeface="黑体"/>
                  <a:ea typeface="黑体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547640" y="3789360"/>
              <a:ext cx="21780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708360" y="1844640"/>
            <a:ext cx="144360" cy="0"/>
          </a:xfrm>
          <a:prstGeom prst="line">
            <a:avLst/>
          </a:prstGeom>
          <a:ln w="28440">
            <a:solidFill>
              <a:srgbClr val="4c59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7E0B4-1C1B-40A0-82A5-43BA6F1ADB5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EEFDA2-8365-41B4-BF10-EA3A7E933F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五、数据选择器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076400"/>
            <a:ext cx="77151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数据选择器也称多路选择开关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数据选择器是从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2</a:t>
            </a:r>
            <a:r>
              <a:rPr b="0" lang="zh-CN" sz="2400" spc="-1" strike="noStrike" baseline="30000">
                <a:solidFill>
                  <a:srgbClr val="003366"/>
                </a:solidFill>
                <a:latin typeface="黑体"/>
              </a:rPr>
              <a:t>n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个输入数据中选择一个送到输出端，选择哪一个输入数据由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n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位地址输入来选择决定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480" y="92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480" y="925560"/>
            <a:ext cx="685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480" y="514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826920" y="2378160"/>
          <a:ext cx="6553440" cy="407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78160"/>
                    <a:ext cx="6553440" cy="40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24240" y="6165720"/>
            <a:ext cx="419040" cy="41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CE94B-D642-4591-9135-519A8343444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059A21-9A47-474C-98BC-C894AC41B1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2.4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时序逻辑电路实例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6" name=""/>
          <p:cNvSpPr/>
          <p:nvPr/>
        </p:nvSpPr>
        <p:spPr>
          <a:xfrm>
            <a:off x="2073240" y="434016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b5c4"/>
              </a:gs>
              <a:gs pos="100000">
                <a:srgbClr val="e9eef1"/>
              </a:gs>
            </a:gsLst>
            <a:lin ang="10800000"/>
          </a:gra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073240" y="140184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5ba54"/>
              </a:gs>
              <a:gs pos="100000">
                <a:srgbClr val="e4efd9"/>
              </a:gs>
            </a:gsLst>
            <a:lin ang="10800000"/>
          </a:gra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692360" y="1282680"/>
            <a:ext cx="685800" cy="685800"/>
          </a:xfrm>
          <a:prstGeom prst="diamond">
            <a:avLst/>
          </a:prstGeom>
          <a:solidFill>
            <a:srgbClr val="85ba54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301840" y="1457280"/>
            <a:ext cx="38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黑体"/>
              </a:rPr>
              <a:t>触发器和锁存器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806480" y="1362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073240" y="238428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e8848"/>
              </a:gs>
              <a:gs pos="100000">
                <a:srgbClr val="f7e4d7"/>
              </a:gs>
            </a:gsLst>
            <a:lin ang="10800000"/>
          </a:gra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2265480"/>
            <a:ext cx="685800" cy="685800"/>
          </a:xfrm>
          <a:prstGeom prst="diamond">
            <a:avLst/>
          </a:prstGeom>
          <a:solidFill>
            <a:srgbClr val="de8848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301840" y="2440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黑体"/>
              </a:rPr>
              <a:t>寄存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867680" y="2344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073240" y="336708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86c2"/>
              </a:gs>
              <a:gs pos="100000">
                <a:srgbClr val="d9e4f1"/>
              </a:gs>
            </a:gsLst>
            <a:lin ang="10800000"/>
          </a:gra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692360" y="3247920"/>
            <a:ext cx="685800" cy="685800"/>
          </a:xfrm>
          <a:prstGeom prst="diamond">
            <a:avLst/>
          </a:prstGeom>
          <a:solidFill>
            <a:srgbClr val="4c59d2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301840" y="4365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黑体"/>
              </a:rPr>
              <a:t>计数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867680" y="3327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4221000"/>
            <a:ext cx="685800" cy="685800"/>
          </a:xfrm>
          <a:prstGeom prst="diamond">
            <a:avLst/>
          </a:prstGeom>
          <a:solidFill>
            <a:srgbClr val="a0b5c4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301840" y="3357720"/>
            <a:ext cx="39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黑体"/>
              </a:rPr>
              <a:t>移位寄存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842120" y="4300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四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4729320" y="60930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24B7D-F60E-4B86-B28A-81205EF452AB}" type="slidenum">
              <a:t>4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FCF087-67CB-4E96-9EB3-64F78E8A5C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</a:rPr>
              <a:t>一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触发器和锁存器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黑体"/>
              </a:rPr>
              <a:t>（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</a:rPr>
              <a:t>）电平触发方式触发器</a:t>
            </a: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250920" y="1628640"/>
          <a:ext cx="7777080" cy="36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628640"/>
                    <a:ext cx="7777080" cy="36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"/>
          <p:cNvSpPr/>
          <p:nvPr/>
        </p:nvSpPr>
        <p:spPr>
          <a:xfrm>
            <a:off x="971640" y="5084640"/>
            <a:ext cx="6408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黑体"/>
                <a:ea typeface="黑体"/>
              </a:rPr>
              <a:t>C</a:t>
            </a:r>
            <a:r>
              <a:rPr b="1" lang="zh-CN" sz="2000" spc="-1" strike="noStrike">
                <a:solidFill>
                  <a:srgbClr val="cc0000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时钟信号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黑体"/>
                <a:ea typeface="黑体"/>
              </a:rPr>
              <a:t>D</a:t>
            </a:r>
            <a:r>
              <a:rPr b="1" lang="zh-CN" sz="2000" spc="-1" strike="noStrike">
                <a:solidFill>
                  <a:srgbClr val="cc0000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数据输入信号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黑体"/>
                <a:ea typeface="黑体"/>
              </a:rPr>
              <a:t>Q</a:t>
            </a:r>
            <a:r>
              <a:rPr b="1" lang="zh-CN" sz="2000" spc="-1" strike="noStrike">
                <a:solidFill>
                  <a:srgbClr val="cc0000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输出信号，代表</a:t>
            </a:r>
            <a:r>
              <a:rPr b="1" lang="zh-CN" sz="2000" spc="-1" strike="noStrike">
                <a:solidFill>
                  <a:srgbClr val="006600"/>
                </a:solidFill>
                <a:latin typeface="黑体"/>
                <a:ea typeface="黑体"/>
              </a:rPr>
              <a:t>触发器的状态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，即储存了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0/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黑体"/>
                <a:ea typeface="黑体"/>
              </a:rPr>
              <a:t>Q</a:t>
            </a:r>
            <a:r>
              <a:rPr b="1" lang="zh-CN" sz="2000" spc="-1" strike="noStrike">
                <a:solidFill>
                  <a:srgbClr val="cc0000"/>
                </a:solidFill>
                <a:latin typeface="黑体"/>
                <a:ea typeface="黑体"/>
              </a:rPr>
              <a:t>＃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：反相输出信号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CC150-352F-4443-824B-C4399E9BAEA0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9D13E-FF41-4DDD-B779-32E1B769C5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8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</a:rPr>
              <a:t>一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触发器和锁存器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076040"/>
            <a:ext cx="7715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黑体"/>
              </a:rPr>
              <a:t>（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</a:rPr>
              <a:t>）电平触发方式触发器</a:t>
            </a: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  <a:p>
            <a:pPr marL="533520" indent="-53352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特点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990720" indent="-533520"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触发器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只在时钟信号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C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为触发约定电平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高电平（或低电平）时，才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接收输入数据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D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（至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Q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端），否则，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触发器状态保持不变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990720" indent="-533520"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在时钟信号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C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为触发约定电平时，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输出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Q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端的状态随着输入端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D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的变化而变化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；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533520" indent="-53352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黑体"/>
              </a:rPr>
              <a:t>电平触发方式触发器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又称为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D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锁存器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，主要用作存储器的地址锁存器，以使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CPU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发出的地址在整个存储器读或写周期保持稳定不变。 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42BBE-9A35-4DB6-8B97-7368202269CF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876A6-0B6D-49B1-8987-379541DFD6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971640" y="1413000"/>
          <a:ext cx="676908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3000"/>
                    <a:ext cx="676908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一、二极管的开关特性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500720" y="60930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BC09F-C246-4DD7-BDE1-21EDEB25F45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384E6-DA1D-4BA8-8D65-5BACE29145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</a:rPr>
              <a:t>一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触发器和锁存器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黑体"/>
              </a:rPr>
              <a:t>（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</a:rPr>
              <a:t>）边沿触发方式触发器</a:t>
            </a: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179280" y="1700280"/>
          <a:ext cx="79218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00280"/>
                    <a:ext cx="79218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"/>
          <p:cNvSpPr/>
          <p:nvPr/>
        </p:nvSpPr>
        <p:spPr>
          <a:xfrm>
            <a:off x="539640" y="4797360"/>
            <a:ext cx="8064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宋体"/>
              </a:rPr>
              <a:t>CP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宋体"/>
              </a:rPr>
              <a:t>：</a:t>
            </a:r>
            <a:r>
              <a:rPr b="1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时钟信号</a:t>
            </a:r>
            <a:r>
              <a:rPr b="1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	</a:t>
            </a:r>
            <a:r>
              <a:rPr b="1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	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宋体"/>
              </a:rPr>
              <a:t>D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宋体"/>
              </a:rPr>
              <a:t>：</a:t>
            </a:r>
            <a:r>
              <a:rPr b="1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数据输入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宋体"/>
              </a:rPr>
              <a:t>R</a:t>
            </a:r>
            <a:r>
              <a:rPr b="1" lang="zh-CN" sz="1800" spc="-1" strike="noStrike" baseline="-25000">
                <a:solidFill>
                  <a:srgbClr val="cc0000"/>
                </a:solidFill>
                <a:latin typeface="Arial"/>
                <a:ea typeface="宋体"/>
              </a:rPr>
              <a:t>D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宋体"/>
              </a:rPr>
              <a:t>＃：</a:t>
            </a:r>
            <a:r>
              <a:rPr b="1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异步清零端，任何时间该信号为</a:t>
            </a:r>
            <a:r>
              <a:rPr b="1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0</a:t>
            </a:r>
            <a:r>
              <a:rPr b="1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，则</a:t>
            </a:r>
            <a:r>
              <a:rPr b="1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Q</a:t>
            </a:r>
            <a:r>
              <a:rPr b="1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端必清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宋体"/>
              </a:rPr>
              <a:t>S</a:t>
            </a:r>
            <a:r>
              <a:rPr b="1" lang="zh-CN" sz="1800" spc="-1" strike="noStrike" baseline="-25000">
                <a:solidFill>
                  <a:srgbClr val="cc0000"/>
                </a:solidFill>
                <a:latin typeface="Arial"/>
                <a:ea typeface="宋体"/>
              </a:rPr>
              <a:t>D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宋体"/>
              </a:rPr>
              <a:t>＃：</a:t>
            </a:r>
            <a:r>
              <a:rPr b="1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异步置位端，任何时间该信号为</a:t>
            </a:r>
            <a:r>
              <a:rPr b="1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0</a:t>
            </a:r>
            <a:r>
              <a:rPr b="1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，则</a:t>
            </a:r>
            <a:r>
              <a:rPr b="1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Q</a:t>
            </a:r>
            <a:r>
              <a:rPr b="1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端必置</a:t>
            </a:r>
            <a:r>
              <a:rPr b="1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宋体"/>
              </a:rPr>
              <a:t>Q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宋体"/>
              </a:rPr>
              <a:t>：</a:t>
            </a:r>
            <a:r>
              <a:rPr b="1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输出信号，代表</a:t>
            </a:r>
            <a:r>
              <a:rPr b="1" lang="zh-CN" sz="1800" spc="-1" strike="noStrike">
                <a:solidFill>
                  <a:srgbClr val="006600"/>
                </a:solidFill>
                <a:latin typeface="Arial"/>
                <a:ea typeface="宋体"/>
              </a:rPr>
              <a:t>触发器的状态；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宋体"/>
              </a:rPr>
              <a:t>Q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宋体"/>
              </a:rPr>
              <a:t>＃</a:t>
            </a:r>
            <a:r>
              <a:rPr b="1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：反相输出信号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539ED-6D48-4365-8D4D-4825CB926FF2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4A2617-2C45-4BC0-BC76-FABCB818D0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</a:rPr>
              <a:t>一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触发器和锁存器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076040"/>
            <a:ext cx="7715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黑体"/>
              </a:rPr>
              <a:t>（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</a:rPr>
              <a:t>）边沿触发方式触发器</a:t>
            </a: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  <a:p>
            <a:pPr marL="533520" indent="-53352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特点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990720" indent="-533520">
              <a:lnSpc>
                <a:spcPct val="90000"/>
              </a:lnSpc>
              <a:buClr>
                <a:srgbClr val="de88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触发器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只在时钟脉冲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CP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的约定边沿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（上升沿或下降沿）来到时，才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接收输入数据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D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（至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Q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端），否则，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触发器状态保持不变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990720" indent="-533520">
              <a:lnSpc>
                <a:spcPct val="90000"/>
              </a:lnSpc>
              <a:buClr>
                <a:srgbClr val="de88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在时钟信号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C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为高电平或者低电平时，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输出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Q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端的状态不会随着输入端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D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的变化而变化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；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533520" indent="-53352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常用的正边沿触发器之一就是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D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触发器，由于它在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CP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上升沿以外时间出现在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D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端的数据变化和干扰信号不会被接收，因此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具有很强的抗干扰能力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而得到广泛应用。它一般可用来组成寄存器、计数器和移位寄存器等 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4729320" y="60930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9A589-C041-4D06-8AA4-D355F0414CC5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8D7C48-1F3C-4D5B-B15F-2D0DDE6A1F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二、寄存器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11280" y="1197000"/>
            <a:ext cx="756108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功能：存储二进制信息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组成：由一组触发器组成，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所有触发器采用同一个时钟信号或其他控制信号</a:t>
            </a:r>
            <a:r>
              <a:rPr b="0" lang="zh-CN" sz="2400" spc="-1" strike="noStrike">
                <a:solidFill>
                  <a:srgbClr val="5086c2"/>
                </a:solidFill>
                <a:latin typeface="黑体"/>
                <a:ea typeface="黑体"/>
              </a:rPr>
              <a:t>，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以便进行统一的打入或其他控制操作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由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n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位触发器构成的寄存器称为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n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位寄存器，它可以存储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n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位二进制信息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F3B51-6216-486B-9F3F-0F3CE6BFF5A9}" type="slidenum">
              <a:t>5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09C2A2-1D34-4E32-B878-3433AE5BB4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二、寄存器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116000" y="1197000"/>
          <a:ext cx="5832360" cy="25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197000"/>
                    <a:ext cx="5832360" cy="25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"/>
          <p:cNvSpPr/>
          <p:nvPr/>
        </p:nvSpPr>
        <p:spPr>
          <a:xfrm>
            <a:off x="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3932280"/>
            <a:ext cx="74880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8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工作原理：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当时钟脉冲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CP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到来时，寄存器的输入数据（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D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～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D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）同时打入寄存器，即输入→存放→输出到寄存器的输出端（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Q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～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Q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）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CLR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＃：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寄存器清零信号，为低电平时，寄存器的输出端清为零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5A605-7083-4637-9E41-07361AAC1CFE}" type="slidenum">
              <a:t>5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F44CCA-43CE-4B97-AA0B-C4145DAD6C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二、寄存器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1835280" y="3573360"/>
          <a:ext cx="5184720" cy="25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3573360"/>
                    <a:ext cx="5184720" cy="25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9" name="" descr=""/>
          <p:cNvPicPr/>
          <p:nvPr/>
        </p:nvPicPr>
        <p:blipFill>
          <a:blip r:embed="rId3"/>
          <a:stretch/>
        </p:blipFill>
        <p:spPr>
          <a:xfrm>
            <a:off x="4729320" y="632304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609480" y="1197000"/>
            <a:ext cx="75628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带清零端的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8D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触发器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74LS273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芯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898560" indent="-270000">
              <a:lnSpc>
                <a:spcPct val="90000"/>
              </a:lnSpc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MR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＃：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清零信号，当为低电平时，无论输入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D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是什么，输出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Q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均为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898560" indent="-270000">
              <a:lnSpc>
                <a:spcPct val="90000"/>
              </a:lnSpc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CP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寄存器打入脉冲信号，当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CP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来一上升沿，则将输入端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D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数据打到输出端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Q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，并在下一上升沿来到之前，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Q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端保持不变。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93D42-A318-4976-89D2-C4A82723637E}" type="slidenum">
              <a:t>5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AC7760-E20C-4DA4-9325-1F8167D247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三、移位寄存器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1619280" y="3716280"/>
          <a:ext cx="5761080" cy="22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716280"/>
                    <a:ext cx="5761080" cy="22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5" name=""/>
          <p:cNvSpPr/>
          <p:nvPr/>
        </p:nvSpPr>
        <p:spPr>
          <a:xfrm>
            <a:off x="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7416720" cy="28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功能：对数据进行移位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组成：由多个触发器组成，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一个触发器的输出接到另一个触发器的输入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，当公共时钟信号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CP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上升沿时，所有触发器的输出均写入相邻的下一个触发器中，从而实现移位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通常，移位寄存器同时具备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置数、左移、右移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等功能。 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D716D-E8DB-4B7F-BAAE-156552D78348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4FC5E4-2CD2-4F6E-AAB6-71DF42E981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三、移位寄存器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1187280" y="4022640"/>
          <a:ext cx="626436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4022640"/>
                    <a:ext cx="626436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3214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74LS299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信号：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S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S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</a:rPr>
              <a:t>0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：功能选择                 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OE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OE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：输出使能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I/O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</a:rPr>
              <a:t>0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～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I/O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</a:rPr>
              <a:t>7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：数据线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MR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＃：清零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DS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</a:rPr>
              <a:t>0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：右移时，将其移入最高位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Q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</a:rPr>
              <a:t>0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573" name=""/>
          <p:cNvSpPr/>
          <p:nvPr/>
        </p:nvSpPr>
        <p:spPr>
          <a:xfrm>
            <a:off x="3924360" y="1052640"/>
            <a:ext cx="424800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74LS299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信号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Q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  <a:ea typeface="黑体"/>
              </a:rPr>
              <a:t>7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：右移时，最低位从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Q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  <a:ea typeface="黑体"/>
              </a:rPr>
              <a:t>7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移出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DS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  <a:ea typeface="黑体"/>
              </a:rPr>
              <a:t>7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：左移时，将其移入最低位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Q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  <a:ea typeface="黑体"/>
              </a:rPr>
              <a:t>7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Q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：左移时，最高位从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Q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移出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3B293-5E5B-4960-9FB5-90A648D66AF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A067E9-93D6-4FBB-8175-4CB92AA351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三、移位寄存器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5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-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324000" y="981000"/>
          <a:ext cx="8229600" cy="371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81000"/>
                    <a:ext cx="8229600" cy="37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729320" y="60930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70FC8-0192-47D0-BB9A-86BAE125A389}" type="slidenum">
              <a:t>5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D7A1EC-AFA3-4B1D-9B3E-7F2DD5C26B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四、计数器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11280" y="1052640"/>
            <a:ext cx="756108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30360" indent="-181080">
              <a:lnSpc>
                <a:spcPct val="100000"/>
              </a:lnSpc>
              <a:spcBef>
                <a:spcPts val="300"/>
              </a:spcBef>
              <a:buClr>
                <a:srgbClr val="de8848"/>
              </a:buClr>
              <a:buFont typeface="Wingdings" charset="2"/>
              <a:buChar char="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按功能分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88920" indent="-1792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黑体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加法计数器：＋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计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88920" indent="-1792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黑体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减法计数器：－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计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88920" indent="-1792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黑体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可逆计数器：即可＋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计数又可－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计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30360" indent="-181080">
              <a:lnSpc>
                <a:spcPct val="100000"/>
              </a:lnSpc>
              <a:spcBef>
                <a:spcPts val="300"/>
              </a:spcBef>
              <a:buClr>
                <a:srgbClr val="de8848"/>
              </a:buClr>
              <a:buFont typeface="Wingdings" charset="2"/>
              <a:buChar char="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按进位制分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88920" indent="-1792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黑体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二进制计数器：低位触发器逢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进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88920" indent="-1792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黑体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十进制计数器：采用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BCD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码计数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3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在计算机中使用的大多是同步二进制计数器，用来作为程序计数器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PC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5900D-487F-4F8F-813D-EA17D83E76F0}" type="slidenum">
              <a:t>5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64E93-840D-4E40-8D58-3681CF422D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四、计数器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39640" y="1125360"/>
            <a:ext cx="763272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74LS161  4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位二进制计数器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特性： 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位二进制、同步、带进位输出的加法计数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功能：置数、清零、加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计数、保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信号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CLR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异步清零信号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LOAD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置数控制信号，为低电平时，在时钟脉冲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CLK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上跳沿，将输入信号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D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～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打入计数器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Q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  <a:ea typeface="黑体"/>
              </a:rPr>
              <a:t>D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～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Q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  <a:ea typeface="黑体"/>
              </a:rPr>
              <a:t>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ENP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ENT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计数使能信号，都为高电平时，＋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计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RCO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进位输出信号，当计数器加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计数到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1111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（即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）时，下一个时钟上升沿则使计数器输出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Q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  <a:ea typeface="黑体"/>
              </a:rPr>
              <a:t>D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～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Q</a:t>
            </a:r>
            <a:r>
              <a:rPr b="0" lang="zh-CN" sz="2400" spc="-1" strike="noStrike" baseline="-25000">
                <a:solidFill>
                  <a:srgbClr val="003366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变为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0000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，此时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RCO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输出一个时钟周期的高电平，用于芯片串联时提供进位；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982F0-5450-42C3-828B-EA7D3481942B}" type="slidenum">
              <a:t>5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E04DB-02AC-4F1D-9782-6DB1694DAC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二、三极管的开关特性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24000" y="1494000"/>
          <a:ext cx="7993080" cy="34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94000"/>
                    <a:ext cx="7993080" cy="34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500720" y="60930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E9B89-75C0-456D-A4F4-EF2FF4A25FB1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C10CEA-79B7-4BB5-BCE1-01E4D1BC08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四、计数器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2050920" y="1125360"/>
          <a:ext cx="4527720" cy="532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125360"/>
                    <a:ext cx="4527720" cy="532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AB67E-252D-4790-BC9D-785244F8AA51}" type="slidenum">
              <a:t>6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83836-8703-495A-BE49-6A8122DA0F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四、计数器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1979640" y="1138320"/>
          <a:ext cx="4248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138320"/>
                    <a:ext cx="4248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"/>
          <p:cNvSpPr/>
          <p:nvPr/>
        </p:nvSpPr>
        <p:spPr>
          <a:xfrm>
            <a:off x="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1692360" y="3573360"/>
          <a:ext cx="4752720" cy="227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3573360"/>
                    <a:ext cx="4752720" cy="22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9" name="" descr=""/>
          <p:cNvPicPr/>
          <p:nvPr/>
        </p:nvPicPr>
        <p:blipFill>
          <a:blip r:embed="rId5"/>
          <a:stretch/>
        </p:blipFill>
        <p:spPr>
          <a:xfrm>
            <a:off x="4729320" y="60930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DB3FF-0450-4D6A-A8CF-64E48F612CA3}" type="slidenum">
              <a:t>6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45AD3A-49E0-4D7C-B9E9-8F1F7240C9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2.5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计算机芯片的制造过程 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黑体"/>
              </a:rPr>
              <a:t>一、制造芯片的准备阶段 </a:t>
            </a: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黑体"/>
              </a:rPr>
              <a:t>二、光刻蚀 </a:t>
            </a: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黑体"/>
              </a:rPr>
              <a:t>三、掺杂 </a:t>
            </a: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黑体"/>
              </a:rPr>
              <a:t>四、测试、切割和封装 </a:t>
            </a:r>
            <a:endParaRPr b="1" lang="en-US" sz="2800" spc="-1" strike="noStrike">
              <a:solidFill>
                <a:srgbClr val="003366"/>
              </a:solidFill>
              <a:latin typeface="黑体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2067120" cy="160020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2658240" y="3283920"/>
            <a:ext cx="17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66"/>
                </a:solidFill>
                <a:latin typeface="Arial"/>
                <a:ea typeface="黑体"/>
              </a:rPr>
              <a:t>图</a:t>
            </a:r>
            <a:r>
              <a:rPr b="1" lang="zh-CN" sz="1800" spc="-1" strike="noStrike">
                <a:solidFill>
                  <a:srgbClr val="003366"/>
                </a:solidFill>
                <a:latin typeface="Arial"/>
                <a:ea typeface="黑体"/>
              </a:rPr>
              <a:t>2</a:t>
            </a:r>
            <a:r>
              <a:rPr b="1" lang="zh-CN" sz="1800" spc="-1" strike="noStrike">
                <a:solidFill>
                  <a:srgbClr val="003366"/>
                </a:solidFill>
                <a:latin typeface="Arial"/>
                <a:ea typeface="黑体"/>
              </a:rPr>
              <a:t>－</a:t>
            </a:r>
            <a:r>
              <a:rPr b="1" lang="zh-CN" sz="1800" spc="-1" strike="noStrike">
                <a:solidFill>
                  <a:srgbClr val="003366"/>
                </a:solidFill>
                <a:latin typeface="Arial"/>
                <a:ea typeface="黑体"/>
              </a:rPr>
              <a:t>39  </a:t>
            </a:r>
            <a:r>
              <a:rPr b="1" lang="zh-CN" sz="1800" spc="-1" strike="noStrike">
                <a:solidFill>
                  <a:srgbClr val="003366"/>
                </a:solidFill>
                <a:latin typeface="Arial"/>
                <a:ea typeface="黑体"/>
              </a:rPr>
              <a:t>单晶硅锭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8970C-D594-4785-9766-0DB595B16F6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23C45F-D9B4-48EC-ACFF-4B4E12AA9F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2.5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计算机芯片的制造过程 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1692360" y="1700280"/>
          <a:ext cx="5748120" cy="36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700280"/>
                    <a:ext cx="5748120" cy="36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7" name="" descr=""/>
          <p:cNvPicPr/>
          <p:nvPr/>
        </p:nvPicPr>
        <p:blipFill>
          <a:blip r:embed="rId3"/>
          <a:stretch/>
        </p:blipFill>
        <p:spPr>
          <a:xfrm>
            <a:off x="4729320" y="60930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836EB-CB95-46DA-A642-C52F9195E40B}" type="slidenum">
              <a:t>6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9ADE55-1A33-4BEF-897E-D17D1E595F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0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本章小结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6840" y="1076400"/>
            <a:ext cx="77151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逻辑代数有三种基本逻辑操作，即“与”、“或”和“非”，逻辑代数化简的目的是减少逻辑电路器件，其化简方法有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代数法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和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</a:rPr>
              <a:t>卡诺图法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两种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组合逻辑电路是由各种门电路组合而成的逻辑电路，它的输出只与当时的输入状态有关，而与电路过去的输入状态无关。计算机中常用的组合逻辑电路有加法器、算术逻辑运算单元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ALU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、译码器、数字选择器等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时序逻辑电路的基本部件是触发器，其输出不仅与当前的输入状态有关，而且还与前一时刻的状态有关。计算机中常用的时序逻辑电路有寄存器、移位寄存器、计数器等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计算机芯片的制造起始于硅，它是一种可以在沙子中找到的物质。硅的导电性不好，称为半导体。通过特殊的化学过程，可以向硅中加入材料，将导体、绝缘体和开关集成在一个单独封装的很小的多层硅片上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pic>
        <p:nvPicPr>
          <p:cNvPr id="61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729320" y="60930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8A268-4D2D-4CBE-911D-0BC6B0B91FA4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CE172-58F5-46AB-B3F3-4699C80596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2124000" y="2133720"/>
            <a:ext cx="45356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Rounded MT Bold"/>
              </a:rPr>
              <a:t>The  End !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Rounded MT Bold"/>
              <a:ea typeface="Arial Rounded MT Bol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F456E-E3F0-48AA-9B35-EA8D02733D16}" type="slidenum">
              <a:t>6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13D5F-AEA2-4AE5-8D53-5216D55275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24000" y="1336680"/>
          <a:ext cx="7921440" cy="35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36680"/>
                    <a:ext cx="7921440" cy="35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114300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MO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管的开关特性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00720" y="60930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A6AA0-3624-4CF9-B9E4-A63DCA853EC0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22684B-B568-49D2-B153-607AB4CD73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2.2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基本逻辑运算和基本门电路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692360" y="1282680"/>
            <a:ext cx="4724280" cy="3624120"/>
            <a:chOff x="1692360" y="1282680"/>
            <a:chExt cx="4724280" cy="3624120"/>
          </a:xfrm>
        </p:grpSpPr>
        <p:sp>
          <p:nvSpPr>
            <p:cNvPr id="172" name=""/>
            <p:cNvSpPr/>
            <p:nvPr/>
          </p:nvSpPr>
          <p:spPr>
            <a:xfrm>
              <a:off x="2073240" y="43401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0b5c4"/>
                </a:gs>
                <a:gs pos="100000">
                  <a:srgbClr val="e9eef1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73240" y="1401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5ba54"/>
                </a:gs>
                <a:gs pos="100000">
                  <a:srgbClr val="e4efd9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92360" y="1282680"/>
              <a:ext cx="685800" cy="685800"/>
            </a:xfrm>
            <a:prstGeom prst="diamond">
              <a:avLst/>
            </a:prstGeom>
            <a:solidFill>
              <a:srgbClr val="85ba54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01840" y="1457280"/>
              <a:ext cx="385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66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003366"/>
                  </a:solidFill>
                  <a:latin typeface="黑体"/>
                  <a:ea typeface="黑体"/>
                </a:rPr>
                <a:t>逻辑变量和逻辑表达式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06480" y="1362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一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3240" y="238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e8848"/>
                </a:gs>
                <a:gs pos="100000">
                  <a:srgbClr val="f7e4d7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92360" y="2265480"/>
              <a:ext cx="685800" cy="685800"/>
            </a:xfrm>
            <a:prstGeom prst="diamond">
              <a:avLst/>
            </a:prstGeom>
            <a:solidFill>
              <a:srgbClr val="de8848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1840" y="24400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66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003366"/>
                  </a:solidFill>
                  <a:latin typeface="黑体"/>
                  <a:ea typeface="黑体"/>
                </a:rPr>
                <a:t>逻辑门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67680" y="2344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二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73240" y="33670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86c2"/>
                </a:gs>
                <a:gs pos="100000">
                  <a:srgbClr val="d9e4f1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692360" y="3247920"/>
              <a:ext cx="685800" cy="685800"/>
            </a:xfrm>
            <a:prstGeom prst="diamond">
              <a:avLst/>
            </a:prstGeom>
            <a:solidFill>
              <a:srgbClr val="4c59d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1840" y="4365720"/>
              <a:ext cx="3429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66"/>
                  </a:solidFill>
                  <a:latin typeface="黑体"/>
                  <a:ea typeface="黑体"/>
                </a:rPr>
                <a:t>  </a:t>
              </a:r>
              <a:r>
                <a:rPr b="0" lang="zh-CN" sz="2400" spc="-1" strike="noStrike" u="sng">
                  <a:solidFill>
                    <a:srgbClr val="4c59d2"/>
                  </a:solidFill>
                  <a:uFillTx/>
                  <a:latin typeface="黑体"/>
                  <a:ea typeface="黑体"/>
                  <a:hlinkClick r:id="rId1" action="ppaction://hlinksldjump"/>
                </a:rPr>
                <a:t>逻辑函数的化简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67680" y="3327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三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92360" y="4221000"/>
              <a:ext cx="685800" cy="685800"/>
            </a:xfrm>
            <a:prstGeom prst="diamond">
              <a:avLst/>
            </a:prstGeom>
            <a:solidFill>
              <a:srgbClr val="a0b5c4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01840" y="33577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逻辑代数的基本定律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842120" y="430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四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729320" y="60930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113CA-7935-4996-AC01-B847CF244259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11DCFF-0117-4B73-94E0-32657602FB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777240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逻辑常量：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逻辑常量只有两个，即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0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和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，用来表示两个对立的逻辑状态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逻辑变量：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逻辑变量一般用字母、数字及其组合来表示，其取值只有两个，即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0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和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在“正逻辑”的数字电路设计中，用低电平信号（如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0.5V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）表示逻辑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0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；用高电平信号（如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3V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）表示逻辑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黑体"/>
              </a:rPr>
              <a:t>。 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逻辑运算：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对于逻辑常量和变量的操作，有与、或、非三种基本逻辑运算。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逻辑门（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logic gates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） ：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对逻辑常量和变量完成基本的逻辑运算的电路。 </a:t>
            </a:r>
            <a:endParaRPr b="1" lang="en-US" sz="2400" spc="-1" strike="noStrike">
              <a:solidFill>
                <a:srgbClr val="003366"/>
              </a:solidFill>
              <a:latin typeface="黑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  <a:ea typeface="宋体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逻辑门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729320" y="60930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456E5-5F63-45F8-BFD2-D57A7F3A13E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95C15F-9788-4091-B17E-98C01B532D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03:25:18Z</dcterms:created>
  <dc:creator>冯建文</dc:creator>
  <dc:description/>
  <dc:language>en-US</dc:language>
  <cp:lastModifiedBy>a</cp:lastModifiedBy>
  <dcterms:modified xsi:type="dcterms:W3CDTF">2010-03-09T02:06:09Z</dcterms:modified>
  <cp:revision>142</cp:revision>
  <dc:subject>第2章 计算机硬件基础</dc:subject>
  <dc:title>计算机组成原理</dc:title>
</cp:coreProperties>
</file>