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2A8-16EA-416E-A200-D1A2227C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86D-8B85-4948-B7D5-20255D60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ABB-40CC-4D61-99FA-47AFF4C2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3BD-C58F-48FF-9193-81B1CF1F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07D-F024-4766-83DE-8A93B2D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231-895F-42D6-959B-9C9E30BF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5C9-67BB-4889-9F1E-79E15A0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8FB-3FA6-4C9D-AD91-3FDD040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B4E-4316-46B8-8013-D2253D9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7A5-D902-485A-A9EC-7748681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64C-F0B5-493A-8969-9FD86B8E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1F1-F7E3-4E8D-9919-C66A41E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08320" y="0"/>
            <a:ext cx="32353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章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体系结构与指令系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16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85C-ADE7-40EB-976E-B6C804B311C7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0720" y="6508440"/>
            <a:ext cx="1341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B6D-6A26-4EC2-A0EA-E65E34613FB4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9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2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5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章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IPS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体系结构与指令系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异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系统里，中断、陷阱、系统调用和任何可以中断程序正常执行流的情况统称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常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”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当一个异常发生时总会有一条被异常打断的指令称为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常受害者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exception victim).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精确异常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”是指异常受害者前面的所有指令要执行完流水线的最后一个阶段；该指令以及其后的指令都要被取消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CFC-B5B3-49B1-9022-4FEBBE1DE8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3FC49-D67F-43BC-8749-9D7394B1C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异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精确异常的处理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异常受害者和其后的指令被终止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异常受害者前的最后一条指令执行到流水线最后一个阶段，异常更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各个寄存器为异常状态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计数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变到相应的异常向量地址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除前面流水线的异常位。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异常和中断能够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一个合法地从用户模式到内核模式的切换通道，使得程序能够访问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S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存等内核模式才允许访问的资源；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一些非法的操作；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外部和内部的中断。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A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架构区别的是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的中断均来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0FC-A704-4178-AC72-B95A021DA6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D35EE-A31D-4581-8C91-6193B7F50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异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异常发生时，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的处理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现场寄存器组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egister Fil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当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rrorE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以便异常处理结束后返回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异常处理的入口向量地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入内核模式，关中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入口向量地址调用异常服务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rrorE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写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从被打断的地方继续执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A20-B860-49AF-BDA2-8AE412E6A0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3F469-9257-43CF-B459-F44AA4A39D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异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984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异常向量地址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异常发生时，系统是否正处于引导启动过程中。引导启动时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未完成初始化，只能访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seg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ncach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内的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8720" y="2781360"/>
            <a:ext cx="7343640" cy="36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77B-22C2-4470-B4C7-01418DA010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2118D-269B-4380-9F2B-114AAB918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异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异常类型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xception 0-5, 8-11, 13, 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为常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: Interru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外部中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..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580536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9F0-3DA1-4837-8F45-E6E1309627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E7425-972F-4ED6-8859-CB35D1A94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  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5877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64105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、MIPS32数据类型与寄存器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、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MIPS32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指令格式、寻址方式和指令分类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556-591B-4E59-B063-6377C53346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69036-A573-49E3-B430-B5A7DD8B3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数据类型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字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半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f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和双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b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lb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浮点处理单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P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的数据类型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单精度浮点数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双精度浮点数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MIPS3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的寄存器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分为三类：通用寄存器、专用寄存器和浮点寄存器。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2F8-8803-4F88-B2DB-1723B08B22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7CF6E-2E08-4377-8A7E-F1C73F2D6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4038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787680" indent="-357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用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4360" y="1628640"/>
          <a:ext cx="7948440" cy="4646520"/>
        </p:xfrm>
        <a:graphic>
          <a:graphicData uri="http://schemas.openxmlformats.org/drawingml/2006/table">
            <a:tbl>
              <a:tblPr/>
              <a:tblGrid>
                <a:gridCol w="1330200"/>
                <a:gridCol w="1735200"/>
                <a:gridCol w="488304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序号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寄存器名称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0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zero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常量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1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at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保留给汇编器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2$3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v0-$v1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子程序（函数）调用的非浮点数返回值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4-$7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a0-$a3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函数调用参数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-$15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t0-$t7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暂时变量。函数调用时不需要保存与恢复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6-$23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s0-$s7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函数寄存器变量。函数返回之前，必须保存和恢复使用过的变量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6C6-CA34-48FA-B672-1CD382EC6E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80D57-6BB1-4967-9C9A-E6EBC8E1C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55640" y="1773360"/>
          <a:ext cx="7791480" cy="3803400"/>
        </p:xfrm>
        <a:graphic>
          <a:graphicData uri="http://schemas.openxmlformats.org/drawingml/2006/table">
            <a:tbl>
              <a:tblPr/>
              <a:tblGrid>
                <a:gridCol w="1371600"/>
                <a:gridCol w="1695600"/>
                <a:gridCol w="4724280"/>
              </a:tblGrid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序号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寄存器名称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5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4-$25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t8-$t9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暂时变量。函数调用时不需要保存与恢复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26-$27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k0-$k1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保留给操作系统内核，通常被中断或异常处理程序用来保存系统参数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28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gp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全局指针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29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p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堆栈指针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30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fp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帧指针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31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ra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函数返回地址</a:t>
                      </a:r>
                      <a:endParaRPr b="0" lang="en-US" sz="2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4038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787680" indent="-357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用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5D9-70F8-4C7C-A237-660680690D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034A9-1D81-4542-BE3B-510FF6AA23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专用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乘商寄存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用程序计数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出下一条指令的地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储器按字节编址，而每条指令固定长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因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指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值自动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指向存储器中的下一条指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区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异常程序计数器，当异常发生时，该寄存器保存系统正在执行的指令的地址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CAD-787F-4ECF-AC76-004E22486E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6AB9D-0D11-47B6-9BE6-614A7D65B2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403280" y="1835280"/>
            <a:ext cx="6454440" cy="656640"/>
            <a:chOff x="1403280" y="1835280"/>
            <a:chExt cx="6454440" cy="656640"/>
          </a:xfrm>
        </p:grpSpPr>
        <p:sp>
          <p:nvSpPr>
            <p:cNvPr id="100" name=""/>
            <p:cNvSpPr/>
            <p:nvPr/>
          </p:nvSpPr>
          <p:spPr>
            <a:xfrm>
              <a:off x="1403280" y="1835280"/>
              <a:ext cx="6454440" cy="65664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5520" y="1951560"/>
              <a:ext cx="6085440" cy="43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系结构与指令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03280" y="2921040"/>
            <a:ext cx="6454440" cy="657000"/>
            <a:chOff x="1403280" y="2921040"/>
            <a:chExt cx="6454440" cy="657000"/>
          </a:xfrm>
        </p:grpSpPr>
        <p:sp>
          <p:nvSpPr>
            <p:cNvPr id="104" name=""/>
            <p:cNvSpPr/>
            <p:nvPr/>
          </p:nvSpPr>
          <p:spPr>
            <a:xfrm>
              <a:off x="1403280" y="2921040"/>
              <a:ext cx="6454440" cy="65700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>
                    <a:alpha val="50196"/>
                  </a:srgbClr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11360" y="3011760"/>
              <a:ext cx="6085800" cy="439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908000" y="2994120"/>
            <a:ext cx="456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1" action="ppaction://hlinksldjump"/>
              </a:rPr>
              <a:t>2.2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2" action="ppaction://hlinksldjump"/>
              </a:rPr>
              <a:t>MIPS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3" action="ppaction://hlinksldjump"/>
              </a:rPr>
              <a:t>指令系统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4" action="ppaction://hlinksldjump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79440" y="1917720"/>
            <a:ext cx="2648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5" action="ppaction://hlinksldjump"/>
              </a:rPr>
              <a:t>2.1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6" action="ppaction://hlinksldjump"/>
              </a:rPr>
              <a:t>MIPS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ea typeface="华文中宋"/>
                <a:hlinkClick r:id="rId7" action="ppaction://hlinksldjump"/>
              </a:rPr>
              <a:t>体系结构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ea typeface="华文中宋"/>
                <a:hlinkClick r:id="rId8" action="ppaction://hlinksldjump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982-4A81-4ADB-93DE-74843180FC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F4040-EB45-42BA-AACE-37D7304B2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19844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浮点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提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浮点寄存器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f0,$f1,...,$f3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对于双精度数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的方法是使用成对的浮点数寄存器。向浮点数寄存器读取或写入的指令是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wc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wc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例如：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wc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f4,4($sp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取出一个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位浮点数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.s $f2,$f4,$f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单精度浮点数加法运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2=f4+f6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wcl $f2,32($sp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中的单精度浮点数存入存储器　　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218-82D5-42CF-ADA8-F623624A30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19ECB-AAD4-4A80-BAB6-F627DC7314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6200" y="1053720"/>
            <a:ext cx="82090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7120" indent="-17136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处理器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在以下情况下会使用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spcBef>
                <a:spcPts val="524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系统加电后，设置状态寄存器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来使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进入正确的引导状态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spcBef>
                <a:spcPts val="524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处理异常。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任何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异常（除特别的内存管理异常而外），都将调用一个入口地址固定的“通用异常处理程序”。通过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的异常原因寄存器找出异常的类型，再根据类型分别处理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spcBef>
                <a:spcPts val="524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异常返回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。异常返回时，需要把状态寄存器设置回原来的值，恢复用户模式，开放中断使能，返回到异常程序计数器所指的地方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spcBef>
                <a:spcPts val="524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中断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。状态寄存器用中断掩码来实现中断的优先级设置。硬件没有提供中断优先逻辑，完全由软件决定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265320">
              <a:lnSpc>
                <a:spcPct val="120000"/>
              </a:lnSpc>
              <a:spcBef>
                <a:spcPts val="524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Times New Roman"/>
              </a:rPr>
              <a:t>触发异常的指令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85C-3E4B-45C4-92DB-28EB7968AE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00006-BC1A-414C-8379-E96B266DB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000" y="1053720"/>
            <a:ext cx="8929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处理器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一些特殊的指令来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，主要有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fc0 rt, 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指令要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寄存器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用户模式下可用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通用寄存器。执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c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tc0 rt, 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指令要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寄存器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用户模式下可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通用寄存器。执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c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F87-3A7C-4771-A6D1-6CF07BDCDA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A2D87-10C8-4EC7-86B6-2BB1B09A93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" y="1053720"/>
            <a:ext cx="8929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处理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一些特殊的指令来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，主要有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fhi/mflo r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指令要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用户模式下可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通用寄存器。 执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h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l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/l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thi/mtlo r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指令要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用户模式下可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通用寄存器。 执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h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l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/l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BA2-763C-4EAA-AA29-E57EB90126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E88A7-FA85-438C-9E51-63D4230E5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000" y="1053720"/>
            <a:ext cx="8929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处理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gister 12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atu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也写作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R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寄存器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用于保存处理器的状态和处理器控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内容包括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0~CU3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8~3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复位向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V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中断屏蔽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~1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c0~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p2~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0~CU3(28~31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用于设置协处理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~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可用性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时表示运行在内核模式，可以访问所有的地址空间和协处理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时运行在用户模式。用户模式下只能访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seg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地址空间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68C-A696-4BD8-B878-BA57F122DF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C97F3-7AEC-4663-A35B-3983C37D4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00" y="1053720"/>
            <a:ext cx="8929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处理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gister 12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atu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也写作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R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寄存器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用于保存处理器的状态和处理器控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p2~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构成了深度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栈，异常发生时，硬件自动压栈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f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指令从异常返回时，从栈中恢复数值。具体操作是，当异常发生时，硬件把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值保存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，把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值保存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，并且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别设置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即内核模式和关中断。异常返回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f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指令把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内容复制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，把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内容复制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Ep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C40-9315-4C35-87A2-50EE22DED0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E4E75-6CA0-4C85-8390-B181DDC93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类型与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000" y="1053720"/>
            <a:ext cx="8929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协处理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P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gister 14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PC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，异常程序计数器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异常发生时，该寄存器保存系统正在执行的指令的地址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62802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67C-25C6-4D80-A1E9-9D1D8B9EE7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8FB3E-DD1E-463C-9184-AEDFEFF80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49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911160"/>
            <a:ext cx="8351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指令格式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PS32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的每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指令长度固定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指令格式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型和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型指令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地址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型指令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单地址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2633760"/>
          <a:ext cx="8066160" cy="3747960"/>
        </p:xfrm>
        <a:graphic>
          <a:graphicData uri="http://schemas.openxmlformats.org/drawingml/2006/table">
            <a:tbl>
              <a:tblPr/>
              <a:tblGrid>
                <a:gridCol w="538200"/>
                <a:gridCol w="1074600"/>
                <a:gridCol w="897120"/>
                <a:gridCol w="896760"/>
                <a:gridCol w="895320"/>
                <a:gridCol w="897120"/>
                <a:gridCol w="896760"/>
                <a:gridCol w="197028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类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共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-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-2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0-1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5-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0-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5-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opcode (6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rs (5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rt (5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rd (5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shamt (5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funct (6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算术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opcode (6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rs (5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rt (5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华文中宋"/>
                        </a:rPr>
                        <a:t>offset</a:t>
                      </a: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/immediate (16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数据传输、分支、立即数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opcode (6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address (26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跳转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AE0-BCB5-4D36-820D-D12C097541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96C1E-AED7-46F7-BF0F-51E57D842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(register)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型指令，也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该类型指令的源操作数和目的寄存器都是寄存器操作数。最高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是操作码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pcod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5-2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、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0-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5-1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，连续三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二进制码来表示三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寄存器的地址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0-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表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移位的位数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如果未使用移位操作，则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0-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置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5-0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功能码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(function),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它与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1-2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的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pcod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码共同决定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型指令的具体操作方式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算术指令都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197000"/>
          <a:ext cx="8229600" cy="1225440"/>
        </p:xfrm>
        <a:graphic>
          <a:graphicData uri="http://schemas.openxmlformats.org/drawingml/2006/table">
            <a:tbl>
              <a:tblPr/>
              <a:tblGrid>
                <a:gridCol w="1479600"/>
                <a:gridCol w="1116000"/>
                <a:gridCol w="1116000"/>
                <a:gridCol w="1116000"/>
                <a:gridCol w="1116000"/>
                <a:gridCol w="1116000"/>
                <a:gridCol w="1170000"/>
              </a:tblGrid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助记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..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..2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0..1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5..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0..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5..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型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ham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func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28B-88B1-416A-AD75-34B3FBACEE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1CB6-FA21-47D5-AF9F-A0EA9FEED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06292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(immediate)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型指令，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即数型指令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该类型指令的一个源操作数是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立即数，另两个操作数是寄存器操作数，因此也称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-I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最高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是操作码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pcod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5-2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0-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，连续两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二进制码分别表示两个寄存器的地址，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5-0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是一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二进制码表示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即数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指令执行时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立即数需要进行符号扩展或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扩展，变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操作数才能参与运算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数据传输、分支、立即数指令采用此类指令结构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03280" y="1125360"/>
          <a:ext cx="6624720" cy="1836720"/>
        </p:xfrm>
        <a:graphic>
          <a:graphicData uri="http://schemas.openxmlformats.org/drawingml/2006/table">
            <a:tbl>
              <a:tblPr/>
              <a:tblGrid>
                <a:gridCol w="1447920"/>
                <a:gridCol w="958680"/>
                <a:gridCol w="924120"/>
                <a:gridCol w="1071360"/>
                <a:gridCol w="222264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助记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..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..2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0..1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5..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I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型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59D-CE10-4E78-9C22-7822409A40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EF695-D4E8-4B1D-BE6C-B6612470E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  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体系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64105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、概述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2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、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MIPS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的内存映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3、MIPS的异常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558972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94C-88C3-42DB-BC05-EC381DB46B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DCF27-3E19-4F1E-A1DC-552E99C0D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37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2997000"/>
            <a:ext cx="8136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J(jump)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型指令，是无条件转移指令。该类型指令使用一个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直接地址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第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5-0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）。因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采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位定长指令，所以每条指令都占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个存储单元，指令地址总是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倍数。于是，只要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将当前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值的高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位拼上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位直接地址，末尾两位置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，即可得到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位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目标转移地址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11280" y="1270080"/>
          <a:ext cx="4038480" cy="1371600"/>
        </p:xfrm>
        <a:graphic>
          <a:graphicData uri="http://schemas.openxmlformats.org/drawingml/2006/table">
            <a:tbl>
              <a:tblPr/>
              <a:tblGrid>
                <a:gridCol w="1216080"/>
                <a:gridCol w="1085760"/>
                <a:gridCol w="1736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助记符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位）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..26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..0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420-8D10-4D3D-973C-6275A462785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95D2F-477D-4091-8A02-C17ED199E7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寄存器寻址，操作数是寄存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or  $s1,$s2,$s3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# $s1=$s2 | $s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03280" y="2637000"/>
          <a:ext cx="702936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70293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433-41EA-4CC3-9BA3-23DEB83790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824CA-CCDA-44A4-A6CC-95C3021713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基址寻址或偏移量寻址，操作数在存储器中，存储器地址是指令中基址寄存器和常数之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w $t0,addr($t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ddr=0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可以写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w $t0,($t3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19280" y="3213000"/>
          <a:ext cx="591192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59119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1A2-22F3-48FB-BAC3-A2A0F819D79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6A89D-2DB8-4E53-886E-2CD411767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立即数寻址，操作数是指令给出的常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例：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addi $s1,$s2,10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# $s1=$s2+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95640" y="2600280"/>
          <a:ext cx="41767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600280"/>
                    <a:ext cx="4176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E7B-CA99-42A3-9D76-7860A1618CF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CA63A-9B8B-4DA0-AEF6-B6DBF45EC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相对寻址，目标地址是当前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值和指令中的常数之和，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的常数在与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相加之前要左移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（相当于乘以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例：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bne $s1,$s2,25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# if $s1≠$s2 then goto 25*4+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当前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值（即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bne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指令的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C+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908000" y="3645000"/>
          <a:ext cx="590724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645000"/>
                    <a:ext cx="59072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D6D-2F0D-4CD1-A5BB-C14F6641461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9776E-1BC2-4AA1-9A84-C97311C13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14400" indent="-4572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伪直接寻址，将当前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值的高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拼上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直接地址，末尾两位置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即可得到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的目标转移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4720" y="3213000"/>
            <a:ext cx="6837120" cy="25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312-8938-486D-88EB-D449F7954D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78EFE-0C3E-45B4-A07D-0B330479BB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从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三种指令类型的角度讨论寻址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：三个操作数均是寄存器寻址方式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　　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or  $s1,$s2,$s3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# $s1=$s2 | $s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DA6-7A22-47A4-838A-D2D7B52EF6B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F3388-D237-4328-84DE-7CBFA40F9F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：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有寄存器寻址、立即数寻址、相对寻址、基址或偏移量寻址四种寻址方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若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型指令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双目运算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则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寄存器和立即数分别作为源操作数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寄存器是目的操作数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　　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addi $sp,$sp,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# $sp=$sp+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立即数寻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50E-BBE7-453E-AC5D-C81B4CABE98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6911-9D42-42AE-93C3-B3F5C36B7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型指令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访存指令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load/stor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则存储器地址由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rs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寄存器加上符号扩展的立即数得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oad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将存储内容读出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中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tor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将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写入存储器中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例如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w $t0,32($s1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假如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1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里是数组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的起始地址，存储器按字节编址，因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s1+32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向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[8]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连续读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个字节，读出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[8]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的值置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0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。这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寄存器相对寻址（基址寻址）方式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1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基地址寄存器，用来装载数组的起始地址，常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偏移量，表示数组元素的下标值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394-EB64-42A0-BB5D-19EFFC41B4C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0EC04-5778-4CC9-AFC9-9AC35CA481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若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1d528d"/>
                </a:solidFill>
                <a:latin typeface="Arial"/>
              </a:rPr>
              <a:t>型指令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条件转移指令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则对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s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的内容进行指定运算，根据结果决定是否跳转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转移目标地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等于当前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值加上符号扩展后的立即数，这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相对寻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。偏移量可正可负。在对数组和堆栈寻址时，相对寻址比其他寻址方式更具优势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例如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ne $s0,$s1,L0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如果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$s0≠s1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则跳转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0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处。这是相对寻址。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PC=(PC)+16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位偏移量，请注意：与偏移量相加的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值是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n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的后一条指令的的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值，即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n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的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值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+4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814-0023-4DCE-8091-988DF53F1ED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DB092-836E-4D1F-A6ED-1911A877E4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croprocessor without interlocked piped stages architecture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（无内部互锁流水级的微处理器）的缩写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架构是一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S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处理器架构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，当今最高的每平方毫米性能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SoC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设计中最低的能耗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指令系统经过通用处理器指令架构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 I~MIPS V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和嵌入式指令体系结构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16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32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到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64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的发展已经十分成熟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向下兼容，比如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64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位扩展对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32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位的工作模式向下兼容。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PS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体系结构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PS I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令集架构为基础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，选择性加入了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 III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 IV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</a:rPr>
              <a:t>MIPS V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</a:rPr>
              <a:t>，提高了代码生成和数据移动的效率。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08360" y="6235560"/>
            <a:ext cx="1435320" cy="5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726-BE61-40D2-8C6D-C3308F0720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52BDA-3580-4616-BB9F-0041D273A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寻址方式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型指令：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只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伪直接寻址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这一种寻址方式。因为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J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型指令都是无条件转移指令，而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系统采用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定长指令，每条指令占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个存储单元，指令地址总是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的倍数。所以只要将当前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值的高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拼上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直接地址，末尾两位置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即可得到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的目标转移地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F15-BD05-452C-9215-963BAD1F4E9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14A33-8225-46C9-B527-7D6D86F187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三、指令分类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汇编指令助记符规则：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开头表示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64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位版本指令，以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尾表示无符号数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以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结尾表示立即数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，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d”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结尾，分别表示字节、字和双字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空操作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：空操作指令有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nop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ssn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传送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寄存器间数据传送指令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v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：伪指令，寄存器之间的传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ovf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：根据浮点条件标志，有条件地进行整数寄存器之间的传递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ovn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ovz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：根据另一个寄存器的状态，有条件地进行整数寄存器之间的传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0B5-C144-4B5C-8849-0597841046A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0FAFA-C289-4D56-BC5E-06773948C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26972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传送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常数加载指令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获取某些标号地址或程序中变量地址的宏指令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装入立即数常数的指令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u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把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位立即数加载到寄存器的高位，寄存器低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位清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a $t1, va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 #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把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va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在主存中的地址装载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1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中，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va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也可以是程序中定义的一个子程序标签的地址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i $t1, 5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 # $t1 = 5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立即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ui $t0,255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421080" y="4654440"/>
          <a:ext cx="439272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1080" y="4654440"/>
                    <a:ext cx="43927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9F5-AF2C-4C90-8C9B-F5076F148B5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5D322-170A-4803-ADBC-E8FBFF2C9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算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逻辑运算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加减运算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dd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dd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ddi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ub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u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混合算术运算指令：取绝对值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bs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取反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neg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n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按位逻辑指令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nd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nd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o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or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xo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xor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no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n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循环和移位指令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o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o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lv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r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rlv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ra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条件设置指令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t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ti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t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：硬件指令，如果条件满足则写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否则写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eq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g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ge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g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gt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lu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ne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根据更复杂的条件设置目的寄存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整数乘除法及求余指令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div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div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divo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divo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；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u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ulo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ulo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ul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ult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em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rem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fh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flo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th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t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380-70A8-4A3B-BFDF-0261ADD9BFD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622CD-596D-4F76-8B5C-BF41260BDF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访存指令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w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b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（寄存器高位填入符号位）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bu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（寄存器高位填入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）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h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（寄存器高位填入符号位）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hu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（寄存器高位填入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）、把数据预取到缓冲的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pref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sb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sh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s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浮点存取指令：存取单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双精度浮点数的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.s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l.d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s.s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s.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2C6-2F31-4FBC-9085-A6C3C52E88E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7BB3E-32B8-4B12-AC2D-EF9B4FC7B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程序控制类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分支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：与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相关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的跳转指令称为“分支指令”，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开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 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基于当前指令地址的无条件相对跳转，跳转范围比较短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eq $t0,$t1,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branch to target if  $t0 = $t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lt $t0,$t1,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branch to target if  $t0 &lt; $t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le $t0,$t1,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branch to target if  $t0 ≤ $t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gt $t0,$t1,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branch to target if  $t0 &gt; $t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ge $t0,$t1,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branch to target if  $t0 ≥ $t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ne $t0,$t1,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branch to target if  $t0 ≠ $t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A81-7F6D-44E2-885A-6ABEC06F5F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2CEAF-D73F-49B8-8672-7669BE2FC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程序控制类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跳转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Jumps)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绝对地址的跳转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称为“跳转指令”，跳转指令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开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是无条件跳转到一个绝对地址，访问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256M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代码空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是跳转到某寄存器指示的地址处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例如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 target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无条件跳转到标号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arge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r $t3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跳转目标地址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t3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C54-6D5C-4D5C-B08F-1D8A0A06E3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A689D-3CA9-4E91-AE5F-7D8FA618D5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子程序调用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子程序调用称为“跳转并链接”或“分支并链接”，指令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...a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结尾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al/jalr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直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间接的子程序调用，跳转到指定地址，并把返回地址放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中，返回地址是当前指令地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+8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。这是因为紧跟在调用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al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后面立即执行的指令称做调用的延迟槽，返回地址应该是延迟槽指令后面的那条指令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4B1-771E-4183-AF94-C6E49566CC5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B1A4E-DB91-43C7-B500-D184801ECC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子程序调用指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调用子程序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al sub_label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把返回地址（返回地址是当前指令地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+8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即当前指令的下下条指令的地址）放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中，然后跳转子程序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ub_labe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子程序的标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例：返回地址是第三行的指令，而不是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al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后面的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ov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al    printf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返回地址是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xxx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的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ove   $4,$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xxx   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子程序返回到该指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C74-42A9-4AE3-9004-F353A89A936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12FA1-534C-42D5-AA86-C0F27A6648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子程序调用指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子程序调用返回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r $ra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# 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跳转到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指示的地址处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中是调用子程序之前保存的主程序返回地址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注意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返回地址存放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寄存器中。如果子程序调用了下一级子程序，或者是递归调用，那么需要将返回地址保存在堆栈中，因为每执行一次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ja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就会覆盖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$ra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中的返回地址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512-FC10-4AD1-95A8-7F1C0301198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77966-56B5-4C35-B321-FDDEA2D0E7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内存映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MIPS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的内存映射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程序中访问的地址，范围在系统提供给用户使用的地址空间中，称之为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虚拟地址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物理地址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是硬件结构中存储器的实际地址。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虚拟地址空间大于物理地址空间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内存管理单元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MMU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完成虚拟地址到物理地址的转换工作。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09A-923F-4D84-90CA-B7CD33FCE4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2FD4-6F6B-4216-9430-E2A562782B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断点及陷阱指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reak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产生“断点”类型的异常，可以在宏扩展指令中产生陷阱或用于调试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dbbp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产生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EJTAG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异常的断点指令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yscall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指令产生一个约定用于系统调用的异常类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eq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eq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g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ge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gei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ge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l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lt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lti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ltu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ne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tnei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是条件异常指令，对一个或两个操作数进行条件测试，条件满足则触发异常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CD4-9B33-4DED-8A5A-6C453D9C2E5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11F2C-E17F-4F48-A01E-09A0641A0C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协处理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功能指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协处理器与通用寄存器之间的双向数据传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cfc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ctc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是把数据拷进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拷出协处理器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的控制寄存器的指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mfc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mtc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是在通用寄存器和协处理器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寄存器之间交换数据的指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用于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控制的特殊指令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:eret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是异常返回指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259-B924-4A48-B674-D18B6B53B0EC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68F2D-704C-4E0C-9437-7F56C1F85C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浮点操作指令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支持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IEEE754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的单精度和双精度格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加法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add.s(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单精度）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, add.d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（双精度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   减法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ub.s, sub.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乘法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mul.s, mul.d,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除法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div.s, div.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比较： 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clt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（条件为真跳转）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clf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（条件为假跳转）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c.x.s, c.x.d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其中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可能为相等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eq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不等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neq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小于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lt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小于等于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le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大于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gt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大于等于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(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条件转移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bclt(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条件为真跳转）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, bclf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（条件为假跳转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　　数据传送：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lwcl(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读存储器字到浮点寄存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swcl(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把浮点寄存器内容写入存储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04240" y="5805360"/>
            <a:ext cx="31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用户模式下对“底层”硬件的有限访问指令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A3A-5643-4FB1-A72B-6BC953578BB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28E1B-5893-488A-9C60-2DD08ACE1D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00"/>
                </a:solidFill>
                <a:latin typeface="Arial"/>
              </a:rPr>
              <a:t>常用指令列表及指令编码</a:t>
            </a:r>
            <a:endParaRPr b="1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55640" y="1917720"/>
            <a:ext cx="7861320" cy="37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DF4-319D-495E-8DFD-8E1AC078D8A8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EA9EE-C1E3-4FEB-BF52-77BADB5D97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00"/>
                </a:solidFill>
                <a:latin typeface="Arial"/>
              </a:rPr>
              <a:t>常用指令列表及指令编码</a:t>
            </a:r>
            <a:endParaRPr b="1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1846440"/>
            <a:ext cx="7461000" cy="34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96C-E8C2-43B4-821F-F67B8279852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667BF-ED32-4028-B407-67054E974B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格式、寻址方式和指令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2ca3c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00"/>
                </a:solidFill>
                <a:latin typeface="Arial"/>
              </a:rPr>
              <a:t>常用指令列表及指令编码</a:t>
            </a:r>
            <a:endParaRPr b="1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917720"/>
            <a:ext cx="8031240" cy="38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233-75E7-4C83-AB50-456DF590A35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A9D65-34AF-45BC-9DE4-37D0208B8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79280" y="1052640"/>
          <a:ext cx="8785080" cy="5325840"/>
        </p:xfrm>
        <a:graphic>
          <a:graphicData uri="http://schemas.openxmlformats.org/drawingml/2006/table">
            <a:tbl>
              <a:tblPr/>
              <a:tblGrid>
                <a:gridCol w="501480"/>
                <a:gridCol w="576360"/>
                <a:gridCol w="576360"/>
                <a:gridCol w="576000"/>
                <a:gridCol w="576360"/>
                <a:gridCol w="647640"/>
                <a:gridCol w="505080"/>
                <a:gridCol w="1223640"/>
                <a:gridCol w="1295640"/>
                <a:gridCol w="2306520"/>
              </a:tblGrid>
              <a:tr h="57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指令格式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（位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含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操作及其解释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1..2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5..2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0..1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5..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..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5..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型指令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op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func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ad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ad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,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,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=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+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+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,rd=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有符号数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3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addu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00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addu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+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无符号数加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7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u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0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ub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-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有符号数减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3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ubu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0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ubu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-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无符号数减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85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10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an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&amp;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按位与运算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784-EB0B-4758-A1A8-B736ED468B7A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E4876-1D85-4FC6-89C7-AAAD574F66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79280" y="1052640"/>
          <a:ext cx="8785440" cy="5545080"/>
        </p:xfrm>
        <a:graphic>
          <a:graphicData uri="http://schemas.openxmlformats.org/drawingml/2006/table">
            <a:tbl>
              <a:tblPr/>
              <a:tblGrid>
                <a:gridCol w="501840"/>
                <a:gridCol w="576360"/>
                <a:gridCol w="576000"/>
                <a:gridCol w="576360"/>
                <a:gridCol w="576360"/>
                <a:gridCol w="647640"/>
                <a:gridCol w="504720"/>
                <a:gridCol w="1224000"/>
                <a:gridCol w="1295280"/>
                <a:gridCol w="2306880"/>
              </a:tblGrid>
              <a:tr h="53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指令格式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（位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含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操作及其解释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25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1..2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5..2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0..1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5..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..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5..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0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型指令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op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func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6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10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or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|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按位或运算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6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xor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1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xor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^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 xor r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按位异或运算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6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nor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1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nor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~(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not(rs|rt)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按位或非运算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10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t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if(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1 else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if(rs&lt;rt)rd=1 else rd=0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有符号数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tu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10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tu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if(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1 else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if(rs&lt;rt)rd=1 else rd=0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无符号数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38C-CEBE-4691-AD12-84D65E7CE450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FF72B-8F25-4D1B-8309-2C6EBC46CA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79280" y="1052640"/>
          <a:ext cx="8785440" cy="5659200"/>
        </p:xfrm>
        <a:graphic>
          <a:graphicData uri="http://schemas.openxmlformats.org/drawingml/2006/table">
            <a:tbl>
              <a:tblPr/>
              <a:tblGrid>
                <a:gridCol w="501840"/>
                <a:gridCol w="576360"/>
                <a:gridCol w="576000"/>
                <a:gridCol w="576360"/>
                <a:gridCol w="576360"/>
                <a:gridCol w="647640"/>
                <a:gridCol w="504720"/>
                <a:gridCol w="1224000"/>
                <a:gridCol w="1295280"/>
                <a:gridCol w="2306880"/>
              </a:tblGrid>
              <a:tr h="57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指令格式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（位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含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操作及其解释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1..2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5..2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0..1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5..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..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5..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型指令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op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func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7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l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0000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l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lt;&lt;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&lt;&lt;sham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逻辑左移。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中存放移位的位数，即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立即数，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l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000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l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gt;&gt;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&gt;&gt;sham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逻辑右移，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7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000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a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gt;&gt;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&gt;&gt;shamt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立即数是移位次数，算术右移，保留符号位。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82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lv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00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llv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lt;&lt;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&lt;&lt;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逻辑左移，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lv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00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lv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gt;&gt;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&gt;&gt;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逻辑右移，其中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640-A8ED-40E3-86AB-5342FD9F1F2C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442CA-2B21-4E02-AC55-CE6477456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79280" y="1733400"/>
          <a:ext cx="8785440" cy="3208320"/>
        </p:xfrm>
        <a:graphic>
          <a:graphicData uri="http://schemas.openxmlformats.org/drawingml/2006/table">
            <a:tbl>
              <a:tblPr/>
              <a:tblGrid>
                <a:gridCol w="501840"/>
                <a:gridCol w="576360"/>
                <a:gridCol w="576000"/>
                <a:gridCol w="576360"/>
                <a:gridCol w="576360"/>
                <a:gridCol w="647640"/>
                <a:gridCol w="504720"/>
                <a:gridCol w="1224000"/>
                <a:gridCol w="1295280"/>
                <a:gridCol w="2306880"/>
              </a:tblGrid>
              <a:tr h="57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指令格式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（位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示例含义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操作及其解释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31..2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5..2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20..1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5..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..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5..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r>
                        <a:rPr b="1" lang="zh-CN" sz="1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型指令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op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func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7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av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srav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&gt;&gt;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←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&gt;&gt;rs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；移位次数存于寄存器中，算术右移，保留符号位。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其中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t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2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,rd=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jr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0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jr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 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go to 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r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PC←rs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其中</a:t>
                      </a:r>
                      <a:r>
                        <a:rPr b="1" lang="zh-CN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＝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$s3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381-4734-47D4-984C-400DE64966B1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5BFC5-E4AE-4013-9495-29246FAAB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内存映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5543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器按字节编址，大端模式（高地址放低字节），数据要求字边界对齐，只能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令来访问存储器数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s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x00000000-0x7FFFFF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虚拟地址的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G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间，是用户空间。系统上电时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s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不允许存取的，必须等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TL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始化之后才可以访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1063800"/>
            <a:ext cx="2951280" cy="55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C65-3C64-42FC-9800-9695E096D2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8DDDC-5CE6-4432-A42B-C019D9833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24000" y="573120"/>
          <a:ext cx="8712000" cy="6095880"/>
        </p:xfrm>
        <a:graphic>
          <a:graphicData uri="http://schemas.openxmlformats.org/drawingml/2006/table">
            <a:tbl>
              <a:tblPr/>
              <a:tblGrid>
                <a:gridCol w="630000"/>
                <a:gridCol w="566640"/>
                <a:gridCol w="498600"/>
                <a:gridCol w="504720"/>
                <a:gridCol w="682560"/>
                <a:gridCol w="1012680"/>
                <a:gridCol w="1152720"/>
                <a:gridCol w="3664080"/>
              </a:tblGrid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助记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示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操作及其解释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..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..2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0..1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5..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I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型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i $s1,$s2,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$s2+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rs+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iu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0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iu $s1,$s2,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$s2+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rs+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nd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ndi $s1,$s2,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$s2&amp;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rs&amp;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r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1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ndi $s1,$s2,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$s2|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rs|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xor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1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ndi $s1,$s2,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$s2^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rs xor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BD2-5A4B-4E01-BE9C-BCA28E5DBC67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E5A71-643C-47CD-8160-0FDC99E04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52360" y="44280"/>
          <a:ext cx="8712360" cy="6705720"/>
        </p:xfrm>
        <a:graphic>
          <a:graphicData uri="http://schemas.openxmlformats.org/drawingml/2006/table">
            <a:tbl>
              <a:tblPr/>
              <a:tblGrid>
                <a:gridCol w="630360"/>
                <a:gridCol w="566640"/>
                <a:gridCol w="498600"/>
                <a:gridCol w="504720"/>
                <a:gridCol w="682560"/>
                <a:gridCol w="1012680"/>
                <a:gridCol w="1152720"/>
                <a:gridCol w="3664080"/>
              </a:tblGrid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助记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示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操作及其解释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..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..2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0..1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5..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I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型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lu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lui $s1,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100*6553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immediate*65536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将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位立即数放到目标寄存器高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位填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lw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00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lw $s1,10($s2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memory[$s2+10]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←memory[rs+(sign-extend)immediate]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01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w $s1,10($s2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memory[$s2+10]=$s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memory[rs+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,rs=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bn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010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bne $s1,$s2,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f($s1!=$s2)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goto PC+4+4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f(rs!=rt)PC←PC+4+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lt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lti $s1,$s2,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f($s2&lt;10)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1 else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f(rs&lt;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＝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2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ltiu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1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mmediat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sltiu $s1,$s2,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f($s2&lt;10)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1 else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1=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if(rs&lt;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其中＝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2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rt=$s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044-C46C-47A8-AF4E-02A89FD7D66B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BFC9A-185E-493E-AD45-478F2D88A8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24000" y="1557360"/>
          <a:ext cx="8569080" cy="3959280"/>
        </p:xfrm>
        <a:graphic>
          <a:graphicData uri="http://schemas.openxmlformats.org/drawingml/2006/table">
            <a:tbl>
              <a:tblPr/>
              <a:tblGrid>
                <a:gridCol w="822240"/>
                <a:gridCol w="977760"/>
                <a:gridCol w="1081080"/>
                <a:gridCol w="1054080"/>
                <a:gridCol w="1554480"/>
                <a:gridCol w="3079440"/>
              </a:tblGrid>
              <a:tr h="612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助记符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格式（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示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示例含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操作及其解释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1..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..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0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 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goto 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PC←(PC+4)[31..28],address,00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ress=10000/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al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0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al 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31←PC+4;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goto 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31←PC+4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；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PC←(PC+4)[31..28],address,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8EA-2679-4A29-8FAB-479BD06B6573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DA28D-31C0-4D66-8C70-92D3D2B3E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PS3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心指令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484280"/>
          <a:ext cx="8229600" cy="4321080"/>
        </p:xfrm>
        <a:graphic>
          <a:graphicData uri="http://schemas.openxmlformats.org/drawingml/2006/table">
            <a:tbl>
              <a:tblPr/>
              <a:tblGrid>
                <a:gridCol w="1296720"/>
                <a:gridCol w="2016360"/>
                <a:gridCol w="1431720"/>
                <a:gridCol w="1108080"/>
                <a:gridCol w="2376720"/>
              </a:tblGrid>
              <a:tr h="684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名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注释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进制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指令（位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op31..2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Address25..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64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 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ump to 2500*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十进制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86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二进制码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0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 0000 0000 0000 1001 1100 0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64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jal 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$s31=PC+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十进制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二进制码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001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00 0000 0000 0000 1001 1100 0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7ff"/>
                    </a:solidFill>
                  </a:tcPr>
                </a:tc>
              </a:tr>
            </a:tbl>
          </a:graphicData>
        </a:graphic>
      </p:graphicFrame>
      <p:pic>
        <p:nvPicPr>
          <p:cNvPr id="2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9280" y="602136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22C-BDBA-4346-AC0C-0865F497DD85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8065-28CA-495C-B9C9-7E470FFF7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解决问题（实现编译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a=b+c+d+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汇编指令实现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a,b,c    #a=b+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a,a,d    #a=b+c+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a,a,e    #a=b+c+d+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编译器还需要为变量分配寄存器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譬如选择寄存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配给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编译成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码即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$s0,$s1,$s2    # $s0 = $s1+$s2= b+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$s0,$s0,$s3    # $s0 = $s0+$s3 =b+c+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$s0,$s0,$s4    # $s0 = $s0+$s4 =b+c+d+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00A-E103-4076-B897-A8C92B688373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5038D-A61B-419C-B907-98CC5D7085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解决问题（实现编译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=(g+h)-(i+j)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汇编指令实现，还需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临时变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g,h    #t0=g+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i,j      #t1=i+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f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0,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f=t0-t1=(g+h)-(i+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编译器为变量分配寄存器，且选择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个寄存器存放临时变量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~j:$S0~$S4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:$t0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:$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$s1,$s2    # $t0 = $s1+$s2= g+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$s3,$s4    # $t1 = $s3+$s4 =i+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$s0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,$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 $s0 = $t0-$t1 =(g+h)-(i+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726-53F8-4299-9BB7-BAA25CFC22FF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C3699-E07B-44F2-8E2D-DAB1328BAC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解决问题（实现编译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指令系统的指令特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算术运算类指令</a:t>
            </a:r>
            <a:r>
              <a:rPr b="1" lang="zh-CN" sz="2800" spc="-1" strike="noStrike" u="sng">
                <a:solidFill>
                  <a:srgbClr val="1d528d"/>
                </a:solidFill>
                <a:uFillTx/>
                <a:latin typeface="Arial"/>
              </a:rPr>
              <a:t>，均是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三操作数指令</a:t>
            </a:r>
            <a:r>
              <a:rPr b="1" lang="zh-CN" sz="2800" spc="-1" strike="noStrike" u="sng">
                <a:solidFill>
                  <a:srgbClr val="1d528d"/>
                </a:solidFill>
                <a:uFillTx/>
                <a:latin typeface="Arial"/>
              </a:rPr>
              <a:t>，且只能是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寄存器类型</a:t>
            </a:r>
            <a:r>
              <a:rPr b="1" lang="zh-CN" sz="2800" spc="-1" strike="noStrike" u="sng">
                <a:solidFill>
                  <a:srgbClr val="1d528d"/>
                </a:solidFill>
                <a:uFillTx/>
                <a:latin typeface="Arial"/>
              </a:rPr>
              <a:t>的操作数或者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立即数类型</a:t>
            </a:r>
            <a:r>
              <a:rPr b="1" lang="zh-CN" sz="2800" spc="-1" strike="noStrike" u="sng">
                <a:solidFill>
                  <a:srgbClr val="1d528d"/>
                </a:solidFill>
                <a:uFillTx/>
                <a:latin typeface="Arial"/>
              </a:rPr>
              <a:t>操作数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k=k+4;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3, $s3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寄存器类型和立即数类型（常数）操作数，比从存储器中取操作数要快得多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w=100;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配寄存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0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0, $zero,100;   #$s0= 0+100=100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成了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常数到寄存器的传送操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作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伪指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$s0, 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66A-2828-40DA-B035-5636E0FFF1D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52423-09EC-4A93-994D-78D727708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解决问题（实现编译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x=y+A[8];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含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的数组，存放在存储器中，其起始地址（基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组元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地址）存放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；则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先需要取数，再运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: $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s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$t0=A[8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0,$s1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$s0=$s1+$t0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y+A[8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IPS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指令系统的指令特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对于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存储器类型的操作数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只能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通过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取数（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w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存数指令（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w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）访问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不能直接参加运算。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1640" y="1052640"/>
            <a:ext cx="2303640" cy="865080"/>
          </a:xfrm>
          <a:prstGeom prst="cloudCallout">
            <a:avLst>
              <a:gd name="adj1" fmla="val -90592"/>
              <a:gd name="adj2" fmla="val 188166"/>
            </a:avLst>
          </a:prstGeom>
          <a:solidFill>
            <a:srgbClr val="b3e2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Verdana"/>
              </a:rPr>
              <a:t>每个字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32</a:t>
            </a:r>
            <a:r>
              <a:rPr b="1" lang="zh-CN" sz="1600" spc="-1" strike="noStrike">
                <a:solidFill>
                  <a:srgbClr val="ff0000"/>
                </a:solidFill>
                <a:latin typeface="Verdana"/>
              </a:rPr>
              <a:t>位，占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1600" spc="-1" strike="noStrike">
                <a:solidFill>
                  <a:srgbClr val="ff0000"/>
                </a:solidFill>
                <a:latin typeface="Verdana"/>
              </a:rPr>
              <a:t>个地址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45B-67AB-4615-96AD-B0353E51EFA8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5141B-9881-4913-8B31-DC9206986D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指令解决问题（实现编译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A[12]=y+A[8];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基地址存放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配寄存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s1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s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$t0=A[8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$s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$t0=$s1+$t0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t0=y+A[8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t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s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# A[12]=y+A[8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5E9-8400-47FC-971B-C788DB60E760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0506-F1E2-41B7-AB3F-31F71E0DE5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机器指令编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种格式：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8360" y="1700280"/>
          <a:ext cx="8280360" cy="4635360"/>
        </p:xfrm>
        <a:graphic>
          <a:graphicData uri="http://schemas.openxmlformats.org/drawingml/2006/table">
            <a:tbl>
              <a:tblPr/>
              <a:tblGrid>
                <a:gridCol w="2303280"/>
                <a:gridCol w="720720"/>
                <a:gridCol w="5256360"/>
              </a:tblGrid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汇编指令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格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机器指令码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p         rs       rt        rd     shamt  func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add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$s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$s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$s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00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1000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1001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1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00000 </a:t>
                      </a: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sub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$s0, $t0,$t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00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01000 01001 10000 00000 </a:t>
                      </a: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1000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sll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$s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$s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00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00000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1000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1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1010 </a:t>
                      </a: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00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op         rs       rt                imm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addi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$s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$zero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100</a:t>
                      </a:r>
                      <a:r>
                        <a:rPr b="1" lang="en-US" sz="16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;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001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10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00000000011001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lw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$t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$s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10001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1001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01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0000000010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sw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$t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48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$s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)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I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c810e"/>
                          </a:solidFill>
                          <a:latin typeface="Arial"/>
                          <a:ea typeface="华文中宋"/>
                        </a:rPr>
                        <a:t>101011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Arial"/>
                          <a:ea typeface="华文中宋"/>
                        </a:rPr>
                        <a:t>1001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  <a:ea typeface="华文中宋"/>
                        </a:rPr>
                        <a:t>0100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华文中宋"/>
                        </a:rPr>
                        <a:t>000000000011000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e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59B-E992-4B5B-8681-8BEDB02B438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0A280-A158-43A8-A4F7-E635FC292F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内存映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5543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seg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x80000000-0x9FFFFF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仅限于内核模式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Mo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可访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没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M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系统中，该段空间用于存放大多数程序和数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M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系统中，该段空间存放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操作系统内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内核代码段，或者内核中的堆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1063800"/>
            <a:ext cx="2951280" cy="55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590-BB66-4772-B767-5CFBD7877C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B8FFA-6460-4A0A-9E0C-DA76D6C9CB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11280" y="2492280"/>
            <a:ext cx="3959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MS UI Gothic"/>
              </a:rPr>
              <a:t>The End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89B-8B17-4BCD-9180-1A6CA108D9FC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61241-F310-4289-B5EF-072311FA5C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内存映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3760" y="911160"/>
            <a:ext cx="60357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seg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xA0000000-0xBFFFFFFF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12M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仅限于内核模式可访问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这两段空间逻辑地址到物理地址的映射关系都不通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MU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而是由硬件直接确定，且两段空间对应的物理空间重叠。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区别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使用高速缓存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不使用高速缓存，因此软件访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时速度比较慢，但是，对于硬件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寄存器来说，不存在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致性问题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刚上电时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MU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均未初始化，因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不使用高速缓存，所以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kseg1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是唯一在系统启动时能正常工作的内存映射空间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程序上电启动地址即入口向量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0xBFC0000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位于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kseg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内，入口向量的物理地址是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0x1FC0000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0360" y="1063800"/>
            <a:ext cx="2951280" cy="55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236-BA40-4C0A-9284-B28C3ECDD3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5DEBA-22CE-4E8A-BEAF-6836E43EC7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P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内存映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6360" y="1269720"/>
            <a:ext cx="547236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se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xC0000000-0xFFFFFF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G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仅限于内核模式可访问，为操作系统的内核所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地址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映射到物理地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候会看到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seg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分成两等分，分别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seg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seg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两等分中的低半部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seg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监管者模式可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0360" y="1063800"/>
            <a:ext cx="2951280" cy="550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6235560"/>
            <a:ext cx="1435320" cy="5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796-DE3A-4B68-9166-C6CB932E4E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0F1C3-3A12-4454-B1D6-F0CCF2A14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5-08T01:42:00Z</dcterms:modified>
  <cp:revision>334</cp:revision>
  <dc:subject>第2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