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A17-90D2-41A9-ABD8-65E64C3A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5D1-0F98-4FA2-93B2-6E325B21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2E9-5E99-46DE-B863-EF6EE392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604-A145-48E4-831E-8469100C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E54-02D5-4EE9-87C3-335CAAA5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9960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235-0807-4332-A27F-091BFCAD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703-E239-447C-A413-50E72FE8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7C1-CD31-455D-9C5E-D5CBB4AA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2BD-BD4D-4036-9043-EA8CB097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38B-68C0-4E74-A28A-BC1B622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960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954-3CB7-436E-8483-01C6973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60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21A-A4DF-41D3-9926-3E533744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936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292720" y="0"/>
            <a:ext cx="3851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章 计算机硬件设计、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PGA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94920" y="6552720"/>
            <a:ext cx="1368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59D-E79F-4ED6-B880-11D8F848AF1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5080" y="655272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1d528d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0047-40A0-4353-83E6-04961E21808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2360" y="117360"/>
            <a:ext cx="30974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9" name="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2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5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260280"/>
            <a:ext cx="5416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计算机组成原理课程设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》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章 计算机硬件设计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中宋"/>
              </a:rPr>
              <a:t>FPG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与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中宋"/>
              </a:rPr>
              <a:t>HD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486900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中宋"/>
              </a:rPr>
              <a:t>主讲教师：冯建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华文中宋"/>
              </a:rPr>
              <a:t>fengjianwen@hdu.edu.c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3AD5-7A82-484B-B291-43A0B738B0E9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38D-842E-46F8-A1E7-2DD44EF5D767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数字电路设计使用芯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设计开发数字电路，可以选择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类芯片： 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）标准芯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具有通用、固定逻辑功能的集成电路器件 ，相同编号的芯片具有相同的逻辑功能和引脚排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标准芯片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集成度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逻辑功能简单、固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点是：所需要的芯片个数多，占用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电路板体积大，功耗大，可靠性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难于实现复杂的逻辑功能；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逻辑功能固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一旦完成设计，就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很难再进行更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E29-BDE7-4551-BAEC-164DD7DAAD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B4375-45B7-43AF-A24F-01BBB2E73B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5E69-9E40-422A-AB80-06C2FE32FC9E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FF0-36D6-41BA-A4B3-5FBC05C24F31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数字电路设计使用芯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设计开发数字电路，可以选择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类芯片： 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）可编程逻辑器件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PL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具有通用的逻辑结构，内部包含大量的可编程开关，用户编程配置这些开关为不同的状态，就能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实现不同的逻辑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以按通用的集成电路器件进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批量生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配置过程由最终的电路产品用户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借助编程工具实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而不必由芯片制造厂商来完成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A23-303C-4075-90A8-A62175B58E2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277FF-2F67-4DA1-ADE4-79ECC9CBB3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E5C-CAE7-4AAF-A856-A2FFA9E2025A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FA10-0416-410A-9523-C6D15C5D5EE9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数字电路设计使用芯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设计开发数字电路，可以选择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类芯片： 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457200" indent="-27792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）定制芯片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34452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将设计好的电路交付半导体器件制造厂商，由厂商选择合适的技术来生产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满足特定性能指标的芯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34452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于生产的芯片主要用于一些特定的应用场合，因此也称为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专用集成电路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ASI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34452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要优点：针对特定的应用需求生产，能够根据特定的任务进行优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34452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制芯片的缺点是：设计和开发周期长，产品投放市场时间长；成本高，风险大，生产数量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"/>
          <p:cNvPicPr/>
          <p:nvPr/>
        </p:nvPicPr>
        <p:blipFill>
          <a:blip r:embed="rId1"/>
          <a:stretch/>
        </p:blipFill>
        <p:spPr>
          <a:xfrm>
            <a:off x="3708360" y="602136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472-71DF-4A14-909B-7E2A7AD642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65D4F-00D3-4412-8F29-97C96DA1AB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2 FP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08360" y="5734080"/>
            <a:ext cx="1435320" cy="5778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1258920" y="2276640"/>
            <a:ext cx="6454440" cy="655200"/>
            <a:chOff x="1258920" y="2276640"/>
            <a:chExt cx="6454440" cy="655200"/>
          </a:xfrm>
        </p:grpSpPr>
        <p:sp>
          <p:nvSpPr>
            <p:cNvPr id="161" name=""/>
            <p:cNvSpPr/>
            <p:nvPr/>
          </p:nvSpPr>
          <p:spPr>
            <a:xfrm>
              <a:off x="1258920" y="227664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002e2e"/>
                </a:gs>
                <a:gs pos="50000">
                  <a:srgbClr val="009999">
                    <a:alpha val="50196"/>
                  </a:srgbClr>
                </a:gs>
                <a:gs pos="100000">
                  <a:srgbClr val="00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51160" y="2392560"/>
              <a:ext cx="6085440" cy="438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51040" y="2311560"/>
            <a:ext cx="16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华文中宋"/>
              </a:rPr>
              <a:t>、可编程逻辑器件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华文中宋"/>
              </a:rPr>
              <a:t>PL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58920" y="3429000"/>
            <a:ext cx="6454440" cy="655200"/>
            <a:chOff x="1258920" y="3429000"/>
            <a:chExt cx="6454440" cy="655200"/>
          </a:xfrm>
        </p:grpSpPr>
        <p:sp>
          <p:nvSpPr>
            <p:cNvPr id="165" name=""/>
            <p:cNvSpPr/>
            <p:nvPr/>
          </p:nvSpPr>
          <p:spPr>
            <a:xfrm>
              <a:off x="1258920" y="342900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144b5c"/>
                </a:gs>
                <a:gs pos="50000">
                  <a:srgbClr val="2ca3c8">
                    <a:alpha val="50196"/>
                  </a:srgbClr>
                </a:gs>
                <a:gs pos="100000">
                  <a:srgbClr val="144b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67000" y="3519720"/>
              <a:ext cx="6085800" cy="438840"/>
            </a:xfrm>
            <a:prstGeom prst="roundRect">
              <a:avLst>
                <a:gd name="adj" fmla="val 16667"/>
              </a:avLst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097000" y="3500280"/>
            <a:ext cx="45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FPG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的基本结构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31C-3166-4CE7-A309-34B8D20A2CD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15E0B-80C8-443B-93EF-00A54BCE9B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可编程逻辑器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PLD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结构： 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2276640"/>
          <a:ext cx="7272360" cy="151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2723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99B-08CD-429D-85DF-17CDD3A585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C8CBC-F443-4921-8AFB-81F2CA050A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可编程逻辑器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PLD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分类：按集成度分为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简单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PLD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：低密度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PLD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（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70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门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片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编程只读存储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现场可编程逻辑阵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P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编程阵列逻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通用可编程阵列逻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复杂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PLD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：高密度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</a:rPr>
              <a:t>P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现场可编程门阵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PG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ield Programable Gate Arra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可编程逻辑器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PL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lex Programmable Logic Devi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3A9-3786-4D21-8D2B-46C9AF5E57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DE0AC-C776-4D67-85F7-B4AA7A2CF1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可编程逻辑器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简单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PLD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特点对比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205000"/>
          <a:ext cx="6913800" cy="3816360"/>
        </p:xfrm>
        <a:graphic>
          <a:graphicData uri="http://schemas.openxmlformats.org/drawingml/2006/table">
            <a:tbl>
              <a:tblPr/>
              <a:tblGrid>
                <a:gridCol w="1716120"/>
                <a:gridCol w="1808280"/>
                <a:gridCol w="1581120"/>
                <a:gridCol w="1808280"/>
              </a:tblGrid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d528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与阵列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d528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或阵列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d528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输出方式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18720">
                      <a:solidFill>
                        <a:srgbClr val="1d528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固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可编程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固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PL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可编程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可编程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固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可编程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固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固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L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d528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可编程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d528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固定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d528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可组态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d528d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51E-C02D-4383-8628-74D81FDDAF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20958-81BD-4FF1-BE82-8BBBDD7F95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可编程逻辑器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复杂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PLD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特点对比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11280" y="1916280"/>
          <a:ext cx="8208720" cy="4243320"/>
        </p:xfrm>
        <a:graphic>
          <a:graphicData uri="http://schemas.openxmlformats.org/drawingml/2006/table">
            <a:tbl>
              <a:tblPr/>
              <a:tblGrid>
                <a:gridCol w="1825560"/>
                <a:gridCol w="2998800"/>
                <a:gridCol w="3384360"/>
              </a:tblGrid>
              <a:tr h="48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d528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CPLD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1d528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FPG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18720">
                      <a:solidFill>
                        <a:srgbClr val="1d528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组合逻辑的实现方法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乘积项，查找表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查找表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编程元素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Flash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EEPROM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SRAM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特点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1d528d"/>
                        </a:buClr>
                        <a:buFont typeface="Wingdings" charset="2"/>
                        <a:buChar char="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非易失性；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1d528d"/>
                        </a:buClr>
                        <a:buFont typeface="Wingdings" charset="2"/>
                        <a:buChar char="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立即上电；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1d528d"/>
                        </a:buClr>
                        <a:buFont typeface="Wingdings" charset="2"/>
                        <a:buChar char="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可在单芯片上运行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1d528d"/>
                        </a:buClr>
                        <a:buFont typeface="Wingdings" charset="2"/>
                        <a:buChar char="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需要外部配置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ROM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1d528d"/>
                        </a:buClr>
                        <a:buFont typeface="Wingdings" charset="2"/>
                        <a:buChar char="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内建高性能硬宏功能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1d528d"/>
                        </a:buClr>
                        <a:buFont typeface="Wingdings" charset="2"/>
                        <a:buChar char="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高集成度，高性能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应用范围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偏向于简单的控制通道应用以及组合逻辑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偏向于复杂高速的控制通道应用以及数据处理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集成度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1d528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d528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小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中规模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d528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中</a:t>
                      </a:r>
                      <a:r>
                        <a:rPr b="1" lang="en-US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1" lang="zh-CN" sz="2400" spc="-1" strike="noStrike">
                          <a:solidFill>
                            <a:srgbClr val="1d528d"/>
                          </a:solidFill>
                          <a:latin typeface="Arial"/>
                          <a:ea typeface="Times New Roman"/>
                        </a:rPr>
                        <a:t>大规模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1d52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1d528d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62802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F61-FE06-4385-B81D-0AAA1E2FA1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F740E-C2B3-471B-9A00-D8989AEA1A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FPG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基本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</a:rPr>
              <a:t>FPG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结构： 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59280" y="981000"/>
          <a:ext cx="6084720" cy="56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81000"/>
                    <a:ext cx="608472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95280" y="2748960"/>
            <a:ext cx="2592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可配置逻辑模块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CLB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可编程输入输出模块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IOB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57120" indent="-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华文中宋"/>
              </a:rPr>
              <a:t>可编程内部连线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华文中宋"/>
              </a:rPr>
              <a:t>PIC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707-E2D8-44C3-A5A5-5BA928E52B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33FA6-B684-44B4-9EE6-FB30A18E0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FPG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基本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PG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芯片的主要生产厂商：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Xilinx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公司：全球最大的生产厂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lter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公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cte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公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Xilinx FPG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芯片进行设计开发，要使用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Xilinx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公司的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开发软件平台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集成软件环境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S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ntegrated Software Environment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，在其中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硬件描述语言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或者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erilog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语言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编程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95640" y="595008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C6E-2610-4A37-BF9C-49B0B7FB04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32D54-62B6-4A16-8549-1D995485B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403280" y="1836720"/>
            <a:ext cx="6454440" cy="655200"/>
            <a:chOff x="1403280" y="1836720"/>
            <a:chExt cx="6454440" cy="655200"/>
          </a:xfrm>
        </p:grpSpPr>
        <p:sp>
          <p:nvSpPr>
            <p:cNvPr id="102" name=""/>
            <p:cNvSpPr/>
            <p:nvPr/>
          </p:nvSpPr>
          <p:spPr>
            <a:xfrm>
              <a:off x="1403280" y="183672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002e2e"/>
                </a:gs>
                <a:gs pos="50000">
                  <a:srgbClr val="009999">
                    <a:alpha val="50196"/>
                  </a:srgbClr>
                </a:gs>
                <a:gs pos="100000">
                  <a:srgbClr val="00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5520" y="1952640"/>
              <a:ext cx="6085440" cy="438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 计算机硬件设计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PG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H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03280" y="4573440"/>
            <a:ext cx="6454440" cy="655560"/>
            <a:chOff x="1403280" y="4573440"/>
            <a:chExt cx="6454440" cy="655560"/>
          </a:xfrm>
        </p:grpSpPr>
        <p:sp>
          <p:nvSpPr>
            <p:cNvPr id="106" name=""/>
            <p:cNvSpPr/>
            <p:nvPr/>
          </p:nvSpPr>
          <p:spPr>
            <a:xfrm>
              <a:off x="1403280" y="4573440"/>
              <a:ext cx="6454440" cy="655560"/>
            </a:xfrm>
            <a:prstGeom prst="rect">
              <a:avLst/>
            </a:prstGeom>
            <a:gradFill rotWithShape="0">
              <a:gsLst>
                <a:gs pos="0">
                  <a:srgbClr val="002e2e"/>
                </a:gs>
                <a:gs pos="50000">
                  <a:srgbClr val="009999">
                    <a:alpha val="50196"/>
                  </a:srgbClr>
                </a:gs>
                <a:gs pos="100000">
                  <a:srgbClr val="00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95520" y="4689360"/>
              <a:ext cx="6085440" cy="438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03280" y="3205080"/>
            <a:ext cx="6454440" cy="655200"/>
            <a:chOff x="1403280" y="3205080"/>
            <a:chExt cx="6454440" cy="655200"/>
          </a:xfrm>
        </p:grpSpPr>
        <p:sp>
          <p:nvSpPr>
            <p:cNvPr id="109" name=""/>
            <p:cNvSpPr/>
            <p:nvPr/>
          </p:nvSpPr>
          <p:spPr>
            <a:xfrm>
              <a:off x="1403280" y="3205080"/>
              <a:ext cx="6454440" cy="655200"/>
            </a:xfrm>
            <a:prstGeom prst="rect">
              <a:avLst/>
            </a:prstGeom>
            <a:gradFill rotWithShape="0">
              <a:gsLst>
                <a:gs pos="0">
                  <a:srgbClr val="144b5c"/>
                </a:gs>
                <a:gs pos="50000">
                  <a:srgbClr val="2ca3c8">
                    <a:alpha val="50196"/>
                  </a:srgbClr>
                </a:gs>
                <a:gs pos="100000">
                  <a:srgbClr val="144b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1360" y="3295800"/>
              <a:ext cx="6085800" cy="438840"/>
            </a:xfrm>
            <a:prstGeom prst="roundRect">
              <a:avLst>
                <a:gd name="adj" fmla="val 16667"/>
              </a:avLst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901880" y="327672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2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PG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96080" y="1916280"/>
            <a:ext cx="12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1.1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计算机硬件组成、设计及实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8720" y="463860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3366"/>
                </a:solidFill>
                <a:uFillTx/>
                <a:latin typeface="Arial"/>
                <a:ea typeface="华文中宋"/>
                <a:hlinkClick r:id="rId1" action="ppaction://hlinksldjump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1.3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HD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0D1-A887-4F82-AE3C-F0022FC17C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3111F-489D-4B9F-9243-144C4F62B1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（ 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Hardware Description Languag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）语言：以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文本形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来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描述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数字系统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硬件结构和行为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是一种用形式化方法来描述数字电路和系统的语言，可以从上层到下层来逐层描述自己的设计思想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用一系列分层次的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模块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来表示复杂的数字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逐层进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验证仿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把具体的模块组合由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综合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工具转化成门级网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利用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布局布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工具把网表转化为具体电路结构的实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CC8-2C6A-402B-B489-FAD3A66025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16ADE-2482-4F6D-9B7B-8BE0C196E3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15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语言特点：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lnSpc>
                <a:spcPct val="115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语言既包含一些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高级程序设计语言的结构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形式，同时也兼顾描述硬件线路连接的具体结构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15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通过使用结构级行为描述，可以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在不同的抽象层次描述设计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15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语言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并行处理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15000"/>
              </a:lnSpc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语言具有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时序的概念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：存在时延的概念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15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语言不仅可以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描述硬件电路的功能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，还可以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描述电路的时序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 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81F-06F6-4A72-9C60-F9260BB42F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1AFE-17FA-4E80-B038-902567DD19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随着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ED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技术的发展，使用硬件语言设计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PLD/FPGA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已成为一种趋势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目前最主要的硬件描述语言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Very-High-Speed Integrated Circuit 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rilog H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对比：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V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发展的较早，语法严格、繁琐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语言的基础上发展起来，语法较自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其他硬件描述语言：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BE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：用于编程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PA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G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lter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公司开发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97B-274C-4F96-93A3-95FF3189651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08CB7-BA8E-47A8-9782-DEF4396819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诞生于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982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1987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年底，被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IEEE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和美国国防部确认为标准硬件描述语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描述数字系统的结构、行为、功能和接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700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将设计实体分成内部和外部两部分，外部又称可视部分或端口；内部又称不可视部分，它涉及实体的内部功能和算法完成部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710-6019-4866-8693-579F4E8D9C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2B15A-DA87-4C4B-8BB9-6D7F4F00A1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5000"/>
              </a:lnSpc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特点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更强的行为描述能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丰富的仿真语句和库函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支持大规模设计的分解和已有设计的再利用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可以利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具进行逻辑综合和优化，并自动的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描述设计转变成门级网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设计的描述具有相对独立性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D1C-6257-4D77-AA96-12C3609944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24DBF-5FA5-4EC1-841F-1176D8A29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5000"/>
              </a:lnSpc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年末，由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GDA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Gateway Design Automation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）公司的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Phil Moorby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首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1995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年，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成为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IEE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标准，即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IEEE Standard 1364-1995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新版本：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IEEE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公布的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Verilog 2001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lnSpc>
                <a:spcPct val="125000"/>
              </a:lnSpc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主要优点是：简洁、高效、功能强、易学易用，语法与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</a:rPr>
              <a:t>语言有许多相似之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609-B99F-4B40-96DE-A867475485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088DA-26EA-4203-8B61-3A7666E59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特点：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lvl="1" marL="442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既能进行面向综合的电路设计，也可用于电路的模拟仿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设计能够在多个层次上加以描述，从开关级、门级、寄存器传送级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到算法级，包括进程和队列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设计的规模可以是任意的；语言不对设计的规模（大小）施加任何限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有三种电路描述与建模方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793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为描述方式：使用过程化结构建模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793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流描述方式：使用连续赋值语句方式建模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793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描述方式：使用门和模块实例语句描述建模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60F-DFBD-4BFC-B625-24A4798C157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76BDA-A550-4439-B49E-63AF2FE176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硬件描述语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5000"/>
              </a:lnSpc>
              <a:spcBef>
                <a:spcPts val="799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Verilog HDL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特点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具有混合方式建模能力，即在一个设计中每个模块均可以在不同设计层次上建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可使用内置基本逻辑门，在门级对设计完整建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可使用内置开关级原语，在开关级对设计完整建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用户可灵活创建自定义原语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85760">
              <a:spcBef>
                <a:spcPts val="601"/>
              </a:spcBef>
              <a:buClr>
                <a:srgbClr val="2ca3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可通过使用编程语言接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允许与外部函数交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564000" y="6093000"/>
            <a:ext cx="143496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28C-2BF8-420F-AF50-9C9906B03E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781F4-C7BC-4AF8-AC7E-435209E37D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484360" y="2205000"/>
            <a:ext cx="46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The End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BB0-C391-4080-A154-5420BBD0DEE9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12FB5-371B-47AB-9CF5-964D7B7991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C69C-5FF4-42F9-BDDC-21E77AE94C5C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9A53-64D8-466F-A99E-2C3FB9B07938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.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计算机硬件组成、设计及实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18920" y="1483920"/>
            <a:ext cx="631044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计算机硬件组成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数字电路的发展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</a:rPr>
              <a:t>、数字电路设计使用芯片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1"/>
          <a:stretch/>
        </p:blipFill>
        <p:spPr>
          <a:xfrm>
            <a:off x="3708360" y="573408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BD1-F9D4-44C2-9481-8CA7046972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E2624-733A-4A55-AC70-D218FBA39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10B9-A973-46E4-A303-BFF4C0219600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E7F0-66F6-4821-9819-94B9341F1ABD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计算机硬件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7560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Times New Roman"/>
              </a:rPr>
              <a:t>按照冯</a:t>
            </a:r>
            <a:r>
              <a:rPr b="1" lang="en-US" sz="3600" spc="-1" strike="noStrike">
                <a:solidFill>
                  <a:srgbClr val="1d528d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1d528d"/>
                </a:solidFill>
                <a:latin typeface="Times New Roman"/>
              </a:rPr>
              <a:t>诺依曼的定义，计算机的硬件系统由五大部件组成：</a:t>
            </a:r>
            <a:endParaRPr b="1" lang="en-US" sz="3600" spc="-1" strike="noStrike">
              <a:solidFill>
                <a:srgbClr val="2ca3c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运算器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存储器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控制器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输入设备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输出设备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Times New Roman"/>
              </a:rPr>
              <a:t>采用二进制表示指令和数据。</a:t>
            </a:r>
            <a:endParaRPr b="1" lang="en-US" sz="36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233-D16C-4587-8BF8-1950F84580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1F3C7-34FA-473D-9BA7-9EB9F9ABA9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31E8-486F-42E4-AD0D-03778E147002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60D0-8F22-4307-B09C-3755068887D6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计算机硬件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7560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</a:rPr>
              <a:t>采用二进制表示指令和数据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计算机的部件必须能够存储、处理、运算二进制信息，这样的二进制信息又称为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数字信号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对数字信号能够进行存储、算术运算和逻辑运算的电路称为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数字电路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计算机硬件设计和实现的基础就是数字电路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2ca3c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	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2D4-0BC1-4B0D-A74F-38080A1CE6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D979E-61A5-481C-AF43-9D98B61CC3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A5F9-44A3-473F-BF74-4A363A11BEB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385-BC3B-4BAE-AE5F-1EE79AE6B763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计算机硬件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7560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在计算机技术发展的历程中，数字电路的发展起着决定性的作用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第一代计算机：使用电子管实现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第二代计算机：使用晶体管器件实现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</a:rPr>
              <a:t>第三代计算机开始至今：硬件实现均是基于集成电路器件或技术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	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</p:txBody>
      </p:sp>
      <p:pic>
        <p:nvPicPr>
          <p:cNvPr id="131" name="Picture 4" descr="1"/>
          <p:cNvPicPr/>
          <p:nvPr/>
        </p:nvPicPr>
        <p:blipFill>
          <a:blip r:embed="rId1"/>
          <a:stretch/>
        </p:blipFill>
        <p:spPr>
          <a:xfrm>
            <a:off x="3708360" y="602136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341-EBB3-4A11-B7FF-E793BC6670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B2064-5C8B-419E-8688-9BD006DAC6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EF5D-B5D5-4B05-A026-E7D53D630F5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12C-6073-4595-985C-AC3DC40A8142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数字电路的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Times New Roman"/>
              </a:rPr>
              <a:t>数字电路：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数字信号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完成对数字量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算术运算和逻辑运算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的电路。</a:t>
            </a:r>
            <a:endParaRPr b="1" lang="en-US" sz="28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528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1d528d"/>
                </a:solidFill>
                <a:latin typeface="Times New Roman"/>
              </a:rPr>
              <a:t>特点：</a:t>
            </a:r>
            <a:endParaRPr b="1" lang="en-US" sz="3600" spc="-1" strike="noStrike">
              <a:solidFill>
                <a:srgbClr val="2ca3c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采用二进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种数码，对应两种逻辑状态：真和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是数字电路最基本的运算形式：与、或、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门电路和触发器是数字电路最基本的电路单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3E4-0F1A-46AE-9510-9971962287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D2A3B-64C4-4166-9BA7-D594BC65F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59D-17FF-4F4F-8C5F-0C3A01105986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50CC-311C-4BF8-9530-428C05BE995E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数字电路的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华文中宋"/>
              </a:rPr>
              <a:t>电子管→晶体管→半导体集成电路 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华文中宋"/>
              </a:rPr>
              <a:t>分离器件电路→集成电路</a:t>
            </a:r>
            <a:r>
              <a:rPr b="1" lang="en-US" sz="3200" spc="-1" strike="noStrike">
                <a:solidFill>
                  <a:srgbClr val="1d528d"/>
                </a:solidFill>
                <a:latin typeface="华文中宋"/>
              </a:rPr>
              <a:t>IC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集成电路的规模：集成度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规模集成电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规模集成电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规模集成电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大规模集成电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L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甚大规模集成电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LSI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巨大规模集成电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S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5E0-F832-4F40-915A-15D5779EBE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CBBC9-82E4-45AC-8F21-2191B55E4D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95280" y="655308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227-CF1C-4719-83E2-3B3BCF7B5A29}" type="datetime">
              <a:rPr b="1" lang="zh-CN" sz="1200" spc="-1" strike="noStrike">
                <a:solidFill>
                  <a:srgbClr val="1d528d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灯片编号占位符 5"/>
          <p:cNvSpPr/>
          <p:nvPr/>
        </p:nvSpPr>
        <p:spPr>
          <a:xfrm>
            <a:off x="7885080" y="6553080"/>
            <a:ext cx="83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1047-AD21-4F98-A3EB-A5F96E3EC14D}" type="slidenum">
              <a:rPr b="1" lang="ko-KR" sz="1400" spc="-1" strike="noStrike">
                <a:solidFill>
                  <a:srgbClr val="1d528d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数字电路的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按照制造工艺，数字电路分为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T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：采用双极型晶体管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M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采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M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M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种互补的金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氧化物半导体场效应晶体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</a:rPr>
              <a:t>按照可编程性：</a:t>
            </a:r>
            <a:endParaRPr b="1" lang="en-US" sz="3200" spc="-1" strike="noStrike">
              <a:solidFill>
                <a:srgbClr val="2ca3c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可编程器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编程逻辑器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L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1"/>
          <p:cNvPicPr/>
          <p:nvPr/>
        </p:nvPicPr>
        <p:blipFill>
          <a:blip r:embed="rId1"/>
          <a:stretch/>
        </p:blipFill>
        <p:spPr>
          <a:xfrm>
            <a:off x="3708360" y="6021360"/>
            <a:ext cx="14353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01F-DA06-454A-BAFB-945C1C9E02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1945C-38A9-4DE2-AF6C-4B934D573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07:47Z</dcterms:created>
  <dc:creator>冯建文</dc:creator>
  <dc:description/>
  <cp:keywords/>
  <dc:language>en-US</dc:language>
  <cp:lastModifiedBy>微软用户</cp:lastModifiedBy>
  <dcterms:modified xsi:type="dcterms:W3CDTF">2014-03-26T14:10:17Z</dcterms:modified>
  <cp:revision>238</cp:revision>
  <dc:subject>第1章</dc:subject>
  <dc:title>《数字电路》实验指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