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8515-E2C7-49F5-855C-49980A4FB20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20D4-2FA1-47CE-AD2F-9B2D39D40D6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F98C-ED59-4869-85DA-17EFC72F2D9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0681-0DF4-4E10-AA94-595AD4D17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399600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EEA1-243D-4C4C-A091-3B9062AC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39960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39960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853B-8BF3-4FE5-85E6-1B1C94719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39960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39960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39960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4739-7990-4AB8-8FC2-EDEC8404D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9960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1F22-7F2B-4EC3-9FE3-53322A49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85400" y="39960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399600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360" y="399600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8360" y="39960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85400" y="39960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8360" y="39960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50800" y="39960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33240" y="39960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AA58-405B-4101-B38F-C62EB1C3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24B5-A539-4C02-8558-040294DF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7788-D1AD-4773-9F85-24C74914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0B66-0681-4427-91FA-9038413E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39960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D251-998C-4E79-A4FD-4A4DCBF8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39960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0693-C09C-4DE7-847F-352F8D86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399600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27AD-B662-4CD1-971B-EA74C1C4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배너"/>
          <p:cNvPicPr/>
          <p:nvPr/>
        </p:nvPicPr>
        <p:blipFill>
          <a:blip r:embed="rId2"/>
          <a:stretch/>
        </p:blipFill>
        <p:spPr>
          <a:xfrm>
            <a:off x="0" y="366840"/>
            <a:ext cx="9144000" cy="93636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1d5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908320" y="0"/>
            <a:ext cx="32353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0" y="6552720"/>
            <a:ext cx="1619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4AF2-7E1C-46F2-89CB-739856C39E4E}" type="datetime">
              <a:rPr b="0" lang="zh-CN" sz="1200" spc="-1" strike="noStrike">
                <a:solidFill>
                  <a:srgbClr val="1d528d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740720" y="6508440"/>
            <a:ext cx="1341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Guli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BDFD-D6D3-4302-9F96-0D5F74853127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22860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" name="Picture 3" descr="hdulogopptcornor(透明)"/>
          <p:cNvPicPr/>
          <p:nvPr/>
        </p:nvPicPr>
        <p:blipFill>
          <a:blip r:embed="rId2"/>
          <a:stretch/>
        </p:blipFill>
        <p:spPr>
          <a:xfrm>
            <a:off x="252360" y="117360"/>
            <a:ext cx="3097440" cy="1119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SW이미지_2"/>
          <p:cNvPicPr/>
          <p:nvPr/>
        </p:nvPicPr>
        <p:blipFill>
          <a:blip r:embed="rId3"/>
          <a:stretch/>
        </p:blipFill>
        <p:spPr>
          <a:xfrm>
            <a:off x="0" y="2349360"/>
            <a:ext cx="9144000" cy="266400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5"/>
          <p:cNvGrpSpPr/>
          <p:nvPr/>
        </p:nvGrpSpPr>
        <p:grpSpPr>
          <a:xfrm>
            <a:off x="28440" y="4653000"/>
            <a:ext cx="9115560" cy="2205000"/>
            <a:chOff x="28440" y="4653000"/>
            <a:chExt cx="9115560" cy="2205000"/>
          </a:xfrm>
        </p:grpSpPr>
        <p:sp>
          <p:nvSpPr>
            <p:cNvPr id="49" name="Rectangle 6"/>
            <p:cNvSpPr/>
            <p:nvPr/>
          </p:nvSpPr>
          <p:spPr>
            <a:xfrm>
              <a:off x="28440" y="4653000"/>
              <a:ext cx="9115560" cy="2205000"/>
            </a:xfrm>
            <a:prstGeom prst="rect">
              <a:avLst/>
            </a:pr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" name="Rectangle 7"/>
            <p:cNvSpPr/>
            <p:nvPr/>
          </p:nvSpPr>
          <p:spPr>
            <a:xfrm>
              <a:off x="28440" y="4653000"/>
              <a:ext cx="9115560" cy="125640"/>
            </a:xfrm>
            <a:prstGeom prst="rect">
              <a:avLst/>
            </a:pr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1" name="Group 8"/>
          <p:cNvGrpSpPr/>
          <p:nvPr/>
        </p:nvGrpSpPr>
        <p:grpSpPr>
          <a:xfrm>
            <a:off x="0" y="4289040"/>
            <a:ext cx="9097920" cy="676800"/>
            <a:chOff x="0" y="4289040"/>
            <a:chExt cx="9097920" cy="676800"/>
          </a:xfrm>
        </p:grpSpPr>
        <p:sp>
          <p:nvSpPr>
            <p:cNvPr id="52" name="未知"/>
            <p:cNvSpPr/>
            <p:nvPr/>
          </p:nvSpPr>
          <p:spPr>
            <a:xfrm flipV="1">
              <a:off x="0" y="4288320"/>
              <a:ext cx="9097920" cy="577800"/>
            </a:xfrm>
            <a:custGeom>
              <a:avLst/>
              <a:gdLst/>
              <a:ahLst/>
              <a:rect l="l" t="t" r="r" b="b"/>
              <a:pathLst>
                <a:path w="5731" h="808">
                  <a:moveTo>
                    <a:pt x="0" y="0"/>
                  </a:moveTo>
                  <a:lnTo>
                    <a:pt x="19" y="279"/>
                  </a:lnTo>
                  <a:cubicBezTo>
                    <a:pt x="321" y="399"/>
                    <a:pt x="1170" y="671"/>
                    <a:pt x="1824" y="739"/>
                  </a:cubicBezTo>
                  <a:cubicBezTo>
                    <a:pt x="2478" y="808"/>
                    <a:pt x="3295" y="769"/>
                    <a:pt x="3946" y="695"/>
                  </a:cubicBezTo>
                  <a:cubicBezTo>
                    <a:pt x="4597" y="621"/>
                    <a:pt x="5435" y="387"/>
                    <a:pt x="5731" y="297"/>
                  </a:cubicBezTo>
                  <a:lnTo>
                    <a:pt x="5722" y="1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" name="未知"/>
            <p:cNvSpPr/>
            <p:nvPr/>
          </p:nvSpPr>
          <p:spPr>
            <a:xfrm flipV="1">
              <a:off x="0" y="4363560"/>
              <a:ext cx="9097920" cy="60192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4" name="Group 1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5" name="AutoShape 1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15328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实验项目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619280" y="4869000"/>
            <a:ext cx="6400800" cy="10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宋体"/>
              </a:rPr>
              <a:t>主讲教师：冯建文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宋体"/>
              </a:rPr>
              <a:t>fengjianwen@hdu.edu.cn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九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-I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8360" y="134136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改造的数据通路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4" name="页脚占位符 3"/>
          <p:cNvSpPr/>
          <p:nvPr/>
        </p:nvSpPr>
        <p:spPr>
          <a:xfrm>
            <a:off x="0" y="6553080"/>
            <a:ext cx="16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7DDC-955C-479A-9E16-E4D496A6DE7C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灯片编号占位符 4"/>
          <p:cNvSpPr/>
          <p:nvPr/>
        </p:nvSpPr>
        <p:spPr>
          <a:xfrm>
            <a:off x="7740720" y="6508800"/>
            <a:ext cx="1341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6AAA-E056-49F1-A376-26A2DEF16AF6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7" name="对象 3"/>
          <p:cNvGraphicFramePr/>
          <p:nvPr/>
        </p:nvGraphicFramePr>
        <p:xfrm>
          <a:off x="237960" y="0"/>
          <a:ext cx="8668080" cy="63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对象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0"/>
                    <a:ext cx="8668080" cy="63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Box 6"/>
          <p:cNvSpPr/>
          <p:nvPr/>
        </p:nvSpPr>
        <p:spPr>
          <a:xfrm>
            <a:off x="4359600" y="65260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61616"/>
                </a:solidFill>
                <a:latin typeface="Verdana"/>
              </a:rPr>
              <a:t>返回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九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-I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68360" y="1341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2.I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型取数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存数指令及其数据通路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2" name="页脚占位符 3"/>
          <p:cNvSpPr/>
          <p:nvPr/>
        </p:nvSpPr>
        <p:spPr>
          <a:xfrm>
            <a:off x="0" y="6553080"/>
            <a:ext cx="16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94FC-9D1B-4513-B8B6-F91DCAC82EBD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灯片编号占位符 4"/>
          <p:cNvSpPr/>
          <p:nvPr/>
        </p:nvSpPr>
        <p:spPr>
          <a:xfrm>
            <a:off x="7740720" y="6508800"/>
            <a:ext cx="1341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1C53-62C9-4839-B56C-04F096C7C6E4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24000" y="2565360"/>
          <a:ext cx="8712000" cy="3700440"/>
        </p:xfrm>
        <a:graphic>
          <a:graphicData uri="http://schemas.openxmlformats.org/drawingml/2006/table">
            <a:tbl>
              <a:tblPr/>
              <a:tblGrid>
                <a:gridCol w="1965240"/>
                <a:gridCol w="1203120"/>
                <a:gridCol w="565200"/>
                <a:gridCol w="874800"/>
                <a:gridCol w="1224000"/>
                <a:gridCol w="2879640"/>
              </a:tblGrid>
              <a:tr h="6541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字段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OP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r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rt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offset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功能描述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</a:tr>
              <a:tr h="450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位数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6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6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汇编助记符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编码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02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lw rt, offset(rs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0001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r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rt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offset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取数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:(rs+offset)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→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rt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</a:tr>
              <a:tr h="9698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sw rt, offset(rs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10101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r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rt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offset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存数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:rt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→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(rs+offset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</a:tr>
            </a:tbl>
          </a:graphicData>
        </a:graphic>
      </p:graphicFrame>
      <p:sp>
        <p:nvSpPr>
          <p:cNvPr id="165" name="Rectangle 6"/>
          <p:cNvSpPr/>
          <p:nvPr/>
        </p:nvSpPr>
        <p:spPr>
          <a:xfrm>
            <a:off x="3085560" y="1915560"/>
            <a:ext cx="42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华文中宋"/>
                <a:ea typeface="华文中宋"/>
              </a:rPr>
              <a:t>MIPS I</a:t>
            </a:r>
            <a:r>
              <a:rPr b="1" lang="zh-CN" sz="2800" spc="-1" strike="noStrike">
                <a:solidFill>
                  <a:srgbClr val="00cc00"/>
                </a:solidFill>
                <a:latin typeface="华文中宋"/>
                <a:ea typeface="华文中宋"/>
              </a:rPr>
              <a:t>型存储器访问指令格式及编码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九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-I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改进数据通路，实现两条访存指令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添加一个数据存储器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A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存放指令访问的数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必须添加吗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有效地址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A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计算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来实现，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t_imm_s=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m_s=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为何是带符号扩展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将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LU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输出直接送存储器地址端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Verilog</a:t>
            </a:r>
            <a:r>
              <a:rPr b="1" lang="zh-CN" sz="2800" spc="-1" strike="noStrike">
                <a:solidFill>
                  <a:srgbClr val="00b0f0"/>
                </a:solidFill>
                <a:latin typeface="Arial"/>
              </a:rPr>
              <a:t>描述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assign Mem_Addr = ALU_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页脚占位符 3"/>
          <p:cNvSpPr/>
          <p:nvPr/>
        </p:nvSpPr>
        <p:spPr>
          <a:xfrm>
            <a:off x="0" y="6553080"/>
            <a:ext cx="16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385C-FF80-4216-81CA-9299DF4EF082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灯片编号占位符 4"/>
          <p:cNvSpPr/>
          <p:nvPr/>
        </p:nvSpPr>
        <p:spPr>
          <a:xfrm>
            <a:off x="7740720" y="6508800"/>
            <a:ext cx="1341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D071-F54E-4A51-9FC4-D4939F7E8563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九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-I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改进数据通路，实现两条访存指令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存储器读出的数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alu_mem_s=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则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输出送寄存器堆的写数据端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alu_mem_s=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则将存储器的读出数据送寄存器堆的写数据端口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70c0"/>
                </a:solidFill>
                <a:latin typeface="Arial"/>
              </a:rPr>
              <a:t>Verilog</a:t>
            </a:r>
            <a:r>
              <a:rPr b="1" lang="zh-CN" sz="2800" spc="-1" strike="noStrike">
                <a:solidFill>
                  <a:srgbClr val="0070c0"/>
                </a:solidFill>
                <a:latin typeface="Arial"/>
              </a:rPr>
              <a:t>描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70c0"/>
                </a:solidFill>
                <a:latin typeface="Arial"/>
              </a:rPr>
              <a:t>assign W_Data=alu_mem_s ?M_R_Data :ALU_F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2" name="页脚占位符 3"/>
          <p:cNvSpPr/>
          <p:nvPr/>
        </p:nvSpPr>
        <p:spPr>
          <a:xfrm>
            <a:off x="0" y="6553080"/>
            <a:ext cx="16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E2FF-9A2C-423E-9DE4-53EE8C2E7A80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灯片编号占位符 4"/>
          <p:cNvSpPr/>
          <p:nvPr/>
        </p:nvSpPr>
        <p:spPr>
          <a:xfrm>
            <a:off x="7740720" y="6508800"/>
            <a:ext cx="1341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8AC6-BD17-4CC8-A995-B6F5EFD0B2CC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九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-I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存储器的写入数据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寄存器堆的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端口数据直接送至存储器的写数据端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b0f0"/>
                </a:solidFill>
                <a:latin typeface="Arial"/>
              </a:rPr>
              <a:t>Verilog</a:t>
            </a:r>
            <a:r>
              <a:rPr b="1" lang="zh-CN" sz="2800" spc="-1" strike="noStrike">
                <a:solidFill>
                  <a:srgbClr val="00b0f0"/>
                </a:solidFill>
                <a:latin typeface="Arial"/>
              </a:rPr>
              <a:t>描述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b050"/>
                </a:solidFill>
                <a:latin typeface="Arial"/>
              </a:rPr>
              <a:t>assign M_W_Data = R_Data_B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6" name="页脚占位符 3"/>
          <p:cNvSpPr/>
          <p:nvPr/>
        </p:nvSpPr>
        <p:spPr>
          <a:xfrm>
            <a:off x="0" y="6553080"/>
            <a:ext cx="16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A70D-BBA6-491B-A976-46CBCC8685E8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灯片编号占位符 4"/>
          <p:cNvSpPr/>
          <p:nvPr/>
        </p:nvSpPr>
        <p:spPr>
          <a:xfrm>
            <a:off x="7740720" y="6508800"/>
            <a:ext cx="1341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3FEB-F674-44A8-8485-485FA1E0CAEC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九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-I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68360" y="134100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新的完整的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R-I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型指令数据通路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0" name="页脚占位符 3"/>
          <p:cNvSpPr/>
          <p:nvPr/>
        </p:nvSpPr>
        <p:spPr>
          <a:xfrm>
            <a:off x="0" y="6553080"/>
            <a:ext cx="16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0977-E687-482B-BE8E-E65080B04578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灯片编号占位符 4"/>
          <p:cNvSpPr/>
          <p:nvPr/>
        </p:nvSpPr>
        <p:spPr>
          <a:xfrm>
            <a:off x="7740720" y="6508800"/>
            <a:ext cx="1341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64A6-C543-4BF7-94B1-DE647B4281FA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83" name="对象 6"/>
          <p:cNvGraphicFramePr/>
          <p:nvPr/>
        </p:nvGraphicFramePr>
        <p:xfrm>
          <a:off x="225360" y="1052640"/>
          <a:ext cx="8918640" cy="52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对象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052640"/>
                    <a:ext cx="891864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九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-I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68360" y="1341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R-I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型指令的控制流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7" name="页脚占位符 3"/>
          <p:cNvSpPr/>
          <p:nvPr/>
        </p:nvSpPr>
        <p:spPr>
          <a:xfrm>
            <a:off x="0" y="6553080"/>
            <a:ext cx="16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70AB-9C3E-47C5-B4ED-1215338F08EF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灯片编号占位符 4"/>
          <p:cNvSpPr/>
          <p:nvPr/>
        </p:nvSpPr>
        <p:spPr>
          <a:xfrm>
            <a:off x="7740720" y="6508800"/>
            <a:ext cx="1341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5112-3F83-4A98-985A-1C64B1F478D8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87280" y="1052640"/>
          <a:ext cx="8856720" cy="5545080"/>
        </p:xfrm>
        <a:graphic>
          <a:graphicData uri="http://schemas.openxmlformats.org/drawingml/2006/table">
            <a:tbl>
              <a:tblPr/>
              <a:tblGrid>
                <a:gridCol w="1944720"/>
                <a:gridCol w="935280"/>
                <a:gridCol w="1008000"/>
                <a:gridCol w="1009440"/>
                <a:gridCol w="1079640"/>
                <a:gridCol w="1152360"/>
                <a:gridCol w="863640"/>
                <a:gridCol w="863640"/>
              </a:tblGrid>
              <a:tr h="511200"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指令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rd_rt_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imm_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rt_imm_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alu_mem_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ALU_OP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Write_Reg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Mem_Writ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2720"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add rd,rs,r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——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3080"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sub rd,rs,r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——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0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2720"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and rd,rs,r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——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3080"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or rd,rs,r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——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0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2720"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xor rd,rs,r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——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1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93760"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nor rd,rs,r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——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1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2720"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sltu rd,rs,r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——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1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3080"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sllv rd,rs,r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——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1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5280"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addi rt,rs,imm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0360"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andi rt, rs, imm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58920"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xori rt, rs, imm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1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0360"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sltiu rt, rs, imm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1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lw rt, offset(rs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3440"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sw rt, offset(rs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——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——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九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-I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6836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3.    I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型指令的时序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立即数寻址的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I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型指令，执行的时序同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型指令：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在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k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的上跳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指令存储器执行读操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在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k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正脉冲内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读出的指令经过译码、执行运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在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k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的下跳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将运算结果打入目的寄存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或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对于取数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存数指令，对数据存储器的读和写访问都要与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lk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脉冲同步。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2" name="页脚占位符 3"/>
          <p:cNvSpPr/>
          <p:nvPr/>
        </p:nvSpPr>
        <p:spPr>
          <a:xfrm>
            <a:off x="0" y="6553080"/>
            <a:ext cx="16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90A5-5AA3-4C2F-AF10-5C1439D3CB6B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灯片编号占位符 4"/>
          <p:cNvSpPr/>
          <p:nvPr/>
        </p:nvSpPr>
        <p:spPr>
          <a:xfrm>
            <a:off x="7740720" y="6508800"/>
            <a:ext cx="1341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88E4-9349-4A8B-BC94-D5724F61043D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九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-I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指令测试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测试代码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汇编后机器码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上述机器指令码填入到和指令存储器模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M_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相关联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.co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件中，也可以调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.co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生成软件来完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在和数据存储器模块</a:t>
            </a:r>
            <a:r>
              <a:rPr b="1" lang="pt-BR" sz="2800" spc="-1" strike="noStrike">
                <a:solidFill>
                  <a:srgbClr val="1d528d"/>
                </a:solidFill>
                <a:latin typeface="Arial"/>
              </a:rPr>
              <a:t>RAM_B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相关联的</a:t>
            </a:r>
            <a:r>
              <a:rPr b="1" lang="pt-BR" sz="2800" spc="-1" strike="noStrike">
                <a:solidFill>
                  <a:srgbClr val="1d528d"/>
                </a:solidFill>
                <a:latin typeface="Arial"/>
              </a:rPr>
              <a:t>*.coe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文件中，可以随意填入一些数据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6" name="页脚占位符 3"/>
          <p:cNvSpPr/>
          <p:nvPr/>
        </p:nvSpPr>
        <p:spPr>
          <a:xfrm>
            <a:off x="0" y="6553080"/>
            <a:ext cx="16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0148-761A-402E-B53B-4C0F01890870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灯片编号占位符 4"/>
          <p:cNvSpPr/>
          <p:nvPr/>
        </p:nvSpPr>
        <p:spPr>
          <a:xfrm>
            <a:off x="7740720" y="6508800"/>
            <a:ext cx="1341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1913-2933-4C83-86C2-7268D3190ACA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九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-I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229600" cy="503280"/>
          </a:xfrm>
          <a:prstGeom prst="rect">
            <a:avLst/>
          </a:prstGeom>
          <a:ln w="0">
            <a:noFill/>
          </a:ln>
        </p:spPr>
      </p:pic>
      <p:sp>
        <p:nvSpPr>
          <p:cNvPr id="200" name="页脚占位符 3"/>
          <p:cNvSpPr/>
          <p:nvPr/>
        </p:nvSpPr>
        <p:spPr>
          <a:xfrm>
            <a:off x="0" y="6553080"/>
            <a:ext cx="16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D8AD-8765-4AAD-A1E7-CC94A5776ADA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灯片编号占位符 4"/>
          <p:cNvSpPr/>
          <p:nvPr/>
        </p:nvSpPr>
        <p:spPr>
          <a:xfrm>
            <a:off x="7740720" y="6508800"/>
            <a:ext cx="1341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9D0E-DF43-4CB7-8AB0-ED65087F7AEF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矩形 5"/>
          <p:cNvSpPr/>
          <p:nvPr/>
        </p:nvSpPr>
        <p:spPr>
          <a:xfrm>
            <a:off x="250920" y="404640"/>
            <a:ext cx="8713800" cy="594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#baseAddr 0000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xori</a:t>
            </a: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$1,</a:t>
            </a: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$0,</a:t>
            </a: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0x1234;</a:t>
            </a: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#$1=0000_1234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addi</a:t>
            </a: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$2,</a:t>
            </a: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$0,</a:t>
            </a: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0x6789;</a:t>
            </a: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#$2=0000_6789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addi </a:t>
            </a: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$3,</a:t>
            </a: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$0,</a:t>
            </a: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-0x7000;</a:t>
            </a: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         #$3=FFFF_9000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xori</a:t>
            </a: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$4,</a:t>
            </a: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$0,</a:t>
            </a: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0x0010;</a:t>
            </a: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#$4=0000_0010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llv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5,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2,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4;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#$5=6789_0000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r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6,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1,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5;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#$6=6789_1234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llv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7,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3,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4;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#$7=9000_0000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dd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8,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2,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6;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#$8=6789_79BD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b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9,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2,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1;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#$9=0000_5555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b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10,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1,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2;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#$10=FFFF_AAAB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dd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11,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3,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x7FFF;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#$11=0000_0FFF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dd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12,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3,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0x8000;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#$12=FFFF_1000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d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13,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10,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xFFFF;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#$13=0000_AAAB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ltiu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14,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2,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x6788;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#$14=0000_0000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sltiu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$15,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$2,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0x678A;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      #$15=0000_0001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TextBox 6"/>
          <p:cNvSpPr/>
          <p:nvPr/>
        </p:nvSpPr>
        <p:spPr>
          <a:xfrm>
            <a:off x="4303800" y="6519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d0d0d"/>
                </a:solidFill>
                <a:latin typeface="Verdana"/>
              </a:rPr>
              <a:t>下一页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4"/>
          <p:cNvSpPr/>
          <p:nvPr/>
        </p:nvSpPr>
        <p:spPr>
          <a:xfrm>
            <a:off x="0" y="6553080"/>
            <a:ext cx="16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BE12-5A47-403E-AA5D-1AE7BCA978E3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7740720" y="6508800"/>
            <a:ext cx="1341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9712-EF17-41B6-B0E4-74F919BCFD49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项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Group 15"/>
          <p:cNvGrpSpPr/>
          <p:nvPr/>
        </p:nvGrpSpPr>
        <p:grpSpPr>
          <a:xfrm>
            <a:off x="1488960" y="4118040"/>
            <a:ext cx="6454440" cy="653760"/>
            <a:chOff x="1488960" y="4118040"/>
            <a:chExt cx="6454440" cy="653760"/>
          </a:xfrm>
        </p:grpSpPr>
        <p:grpSp>
          <p:nvGrpSpPr>
            <p:cNvPr id="111" name="Rectangle 16"/>
            <p:cNvGrpSpPr/>
            <p:nvPr/>
          </p:nvGrpSpPr>
          <p:grpSpPr>
            <a:xfrm>
              <a:off x="1488960" y="4118040"/>
              <a:ext cx="6454440" cy="653760"/>
              <a:chOff x="1488960" y="4118040"/>
              <a:chExt cx="6454440" cy="653760"/>
            </a:xfrm>
          </p:grpSpPr>
          <p:pic>
            <p:nvPicPr>
              <p:cNvPr id="112" name="Rectangle 16" descr=""/>
              <p:cNvPicPr/>
              <p:nvPr/>
            </p:nvPicPr>
            <p:blipFill>
              <a:blip r:embed="rId1"/>
              <a:stretch/>
            </p:blipFill>
            <p:spPr>
              <a:xfrm>
                <a:off x="1488960" y="4118040"/>
                <a:ext cx="6453720" cy="65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1490400" y="4120200"/>
                <a:ext cx="6453000" cy="64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4" name="AutoShape 17"/>
            <p:cNvSpPr/>
            <p:nvPr/>
          </p:nvSpPr>
          <p:spPr>
            <a:xfrm>
              <a:off x="1683000" y="4235040"/>
              <a:ext cx="6084000" cy="435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7647"/>
                </a:gs>
                <a:gs pos="50000">
                  <a:srgbClr val="ffff99"/>
                </a:gs>
                <a:gs pos="100000">
                  <a:srgbClr val="7676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15" name="Group 18"/>
          <p:cNvGrpSpPr/>
          <p:nvPr/>
        </p:nvGrpSpPr>
        <p:grpSpPr>
          <a:xfrm>
            <a:off x="1460520" y="2349360"/>
            <a:ext cx="6454440" cy="655560"/>
            <a:chOff x="1460520" y="2349360"/>
            <a:chExt cx="6454440" cy="655560"/>
          </a:xfrm>
        </p:grpSpPr>
        <p:grpSp>
          <p:nvGrpSpPr>
            <p:cNvPr id="116" name="Rectangle 19"/>
            <p:cNvGrpSpPr/>
            <p:nvPr/>
          </p:nvGrpSpPr>
          <p:grpSpPr>
            <a:xfrm>
              <a:off x="1460520" y="2349360"/>
              <a:ext cx="6454440" cy="655560"/>
              <a:chOff x="1460520" y="2349360"/>
              <a:chExt cx="6454440" cy="655560"/>
            </a:xfrm>
          </p:grpSpPr>
          <p:pic>
            <p:nvPicPr>
              <p:cNvPr id="117" name="Rectangle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1463040" y="2349360"/>
                <a:ext cx="6449400" cy="65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"/>
              <p:cNvSpPr/>
              <p:nvPr/>
            </p:nvSpPr>
            <p:spPr>
              <a:xfrm>
                <a:off x="1460520" y="2350800"/>
                <a:ext cx="6454440" cy="65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9" name="AutoShape 20"/>
            <p:cNvSpPr/>
            <p:nvPr/>
          </p:nvSpPr>
          <p:spPr>
            <a:xfrm>
              <a:off x="1667160" y="2441520"/>
              <a:ext cx="6090480" cy="437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7647"/>
                </a:gs>
                <a:gs pos="50000">
                  <a:srgbClr val="ffff99"/>
                </a:gs>
                <a:gs pos="100000">
                  <a:srgbClr val="7676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20" name="Rectangle 21"/>
          <p:cNvSpPr/>
          <p:nvPr/>
        </p:nvSpPr>
        <p:spPr>
          <a:xfrm>
            <a:off x="2036880" y="242100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实验九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R-I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型指令的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CPU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设计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1920960" y="41893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实验十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R-I-J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型指令的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CPU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设计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九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-I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页脚占位符 3"/>
          <p:cNvSpPr/>
          <p:nvPr/>
        </p:nvSpPr>
        <p:spPr>
          <a:xfrm>
            <a:off x="0" y="6553080"/>
            <a:ext cx="16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5B4A-EE98-4591-A482-997DC01CD1D5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灯片编号占位符 4"/>
          <p:cNvSpPr/>
          <p:nvPr/>
        </p:nvSpPr>
        <p:spPr>
          <a:xfrm>
            <a:off x="7740720" y="6508800"/>
            <a:ext cx="1341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F4D4-EF73-4290-90DB-96843BE16619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矩形 5"/>
          <p:cNvSpPr/>
          <p:nvPr/>
        </p:nvSpPr>
        <p:spPr>
          <a:xfrm>
            <a:off x="250920" y="1384200"/>
            <a:ext cx="8713800" cy="47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ff"/>
                </a:solidFill>
                <a:latin typeface="Arial"/>
              </a:rPr>
              <a:t>sw</a:t>
            </a:r>
            <a:r>
              <a:rPr b="1" lang="pt-BR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0000ff"/>
                </a:solidFill>
                <a:latin typeface="Arial"/>
              </a:rPr>
              <a:t>$11,</a:t>
            </a:r>
            <a:r>
              <a:rPr b="1" lang="pt-BR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0000ff"/>
                </a:solidFill>
                <a:latin typeface="Arial"/>
              </a:rPr>
              <a:t>0($4);</a:t>
            </a:r>
            <a:r>
              <a:rPr b="1" lang="pt-BR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00b050"/>
                </a:solidFill>
                <a:latin typeface="Arial"/>
              </a:rPr>
              <a:t>#mem(0000_0010)=0000_0FFF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ff"/>
                </a:solidFill>
                <a:latin typeface="Arial"/>
              </a:rPr>
              <a:t>sw</a:t>
            </a:r>
            <a:r>
              <a:rPr b="1" lang="pt-BR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0000ff"/>
                </a:solidFill>
                <a:latin typeface="Arial"/>
              </a:rPr>
              <a:t>$12,</a:t>
            </a:r>
            <a:r>
              <a:rPr b="1" lang="pt-BR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0000ff"/>
                </a:solidFill>
                <a:latin typeface="Arial"/>
              </a:rPr>
              <a:t>20($0);</a:t>
            </a:r>
            <a:r>
              <a:rPr b="1" lang="pt-BR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00b050"/>
                </a:solidFill>
                <a:latin typeface="Arial"/>
              </a:rPr>
              <a:t>#mem(0000_0014)=FFFF_1000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ff"/>
                </a:solidFill>
                <a:latin typeface="Arial"/>
              </a:rPr>
              <a:t>sw</a:t>
            </a:r>
            <a:r>
              <a:rPr b="1" lang="pl-PL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l-PL" sz="2200" spc="-1" strike="noStrike">
                <a:solidFill>
                  <a:srgbClr val="0000ff"/>
                </a:solidFill>
                <a:latin typeface="Arial"/>
              </a:rPr>
              <a:t>$13,</a:t>
            </a:r>
            <a:r>
              <a:rPr b="1" lang="pl-PL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l-PL" sz="2200" spc="-1" strike="noStrike">
                <a:solidFill>
                  <a:srgbClr val="0000ff"/>
                </a:solidFill>
                <a:latin typeface="Arial"/>
              </a:rPr>
              <a:t>16($4);</a:t>
            </a:r>
            <a:r>
              <a:rPr b="1" lang="pl-PL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l-PL" sz="2200" spc="-1" strike="noStrike">
                <a:solidFill>
                  <a:srgbClr val="00b050"/>
                </a:solidFill>
                <a:latin typeface="Arial"/>
              </a:rPr>
              <a:t>#mem(0000_0020)=0000_AAAB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ff"/>
                </a:solidFill>
                <a:latin typeface="Arial"/>
              </a:rPr>
              <a:t>sw</a:t>
            </a:r>
            <a:r>
              <a:rPr b="1" lang="pl-PL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l-PL" sz="2200" spc="-1" strike="noStrike">
                <a:solidFill>
                  <a:srgbClr val="0000ff"/>
                </a:solidFill>
                <a:latin typeface="Arial"/>
              </a:rPr>
              <a:t>$14,</a:t>
            </a:r>
            <a:r>
              <a:rPr b="1" lang="pl-PL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l-PL" sz="2200" spc="-1" strike="noStrike">
                <a:solidFill>
                  <a:srgbClr val="0000ff"/>
                </a:solidFill>
                <a:latin typeface="Arial"/>
              </a:rPr>
              <a:t>20($4);</a:t>
            </a:r>
            <a:r>
              <a:rPr b="1" lang="pl-PL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l-PL" sz="2200" spc="-1" strike="noStrike">
                <a:solidFill>
                  <a:srgbClr val="00b050"/>
                </a:solidFill>
                <a:latin typeface="Arial"/>
              </a:rPr>
              <a:t>#mem(0000_0024)=0000_0000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lw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$16,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16($0);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b050"/>
                </a:solidFill>
                <a:latin typeface="Arial"/>
              </a:rPr>
              <a:t>#$16=mem(0000_0010)=0000_0FFF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lw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$17,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4($4);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b050"/>
                </a:solidFill>
                <a:latin typeface="Arial"/>
              </a:rPr>
              <a:t>#$17=mem(0000_0014)=FFFF_1000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or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$18,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$16,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$17;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b050"/>
                </a:solidFill>
                <a:latin typeface="Arial"/>
              </a:rPr>
              <a:t>#$18=FFFF_1FFF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ff"/>
                </a:solidFill>
                <a:latin typeface="Arial"/>
              </a:rPr>
              <a:t>lw</a:t>
            </a:r>
            <a:r>
              <a:rPr b="1" lang="pt-BR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0000ff"/>
                </a:solidFill>
                <a:latin typeface="Arial"/>
              </a:rPr>
              <a:t>$19,</a:t>
            </a:r>
            <a:r>
              <a:rPr b="1" lang="pt-BR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0000ff"/>
                </a:solidFill>
                <a:latin typeface="Arial"/>
              </a:rPr>
              <a:t>16($4);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b050"/>
                </a:solidFill>
                <a:latin typeface="Arial"/>
              </a:rPr>
              <a:t>#$19=mem(0000_0020)=0000_AAAB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ff"/>
                </a:solidFill>
                <a:latin typeface="Arial"/>
              </a:rPr>
              <a:t>lw</a:t>
            </a:r>
            <a:r>
              <a:rPr b="1" lang="pt-BR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0000ff"/>
                </a:solidFill>
                <a:latin typeface="Arial"/>
              </a:rPr>
              <a:t>$20,</a:t>
            </a:r>
            <a:r>
              <a:rPr b="1" lang="pt-BR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0000ff"/>
                </a:solidFill>
                <a:latin typeface="Arial"/>
              </a:rPr>
              <a:t>20($4);</a:t>
            </a:r>
            <a:r>
              <a:rPr b="1" lang="pt-BR" sz="2200" spc="-1" strike="noStrike">
                <a:solidFill>
                  <a:srgbClr val="00b050"/>
                </a:solidFill>
                <a:latin typeface="Arial"/>
              </a:rPr>
              <a:t>#$20=mem(0000_0024)=0000_0000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nor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$21,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$19,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$20;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b050"/>
                </a:solidFill>
                <a:latin typeface="Arial"/>
              </a:rPr>
              <a:t>#$21=FFFF_5554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lw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$22,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-0x10($4);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b050"/>
                </a:solidFill>
                <a:latin typeface="Arial"/>
              </a:rPr>
              <a:t>#$22=mem(0000_0000)</a:t>
            </a:r>
            <a:r>
              <a:rPr b="1" lang="zh-CN" sz="2200" spc="-1" strike="noStrike">
                <a:solidFill>
                  <a:srgbClr val="00b050"/>
                </a:solidFill>
                <a:latin typeface="Arial"/>
              </a:rPr>
              <a:t>，譬如</a:t>
            </a:r>
            <a:r>
              <a:rPr b="1" lang="en-US" sz="2200" spc="-1" strike="noStrike">
                <a:solidFill>
                  <a:srgbClr val="00b050"/>
                </a:solidFill>
                <a:latin typeface="Arial"/>
              </a:rPr>
              <a:t>8888_8888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ff"/>
                </a:solidFill>
                <a:latin typeface="Arial"/>
              </a:rPr>
              <a:t>lw</a:t>
            </a:r>
            <a:r>
              <a:rPr b="1" lang="pt-BR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0000ff"/>
                </a:solidFill>
                <a:latin typeface="Arial"/>
              </a:rPr>
              <a:t>$23,</a:t>
            </a:r>
            <a:r>
              <a:rPr b="1" lang="pt-BR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0000ff"/>
                </a:solidFill>
                <a:latin typeface="Arial"/>
              </a:rPr>
              <a:t>-0x0C($4);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b050"/>
                </a:solidFill>
                <a:latin typeface="Arial"/>
              </a:rPr>
              <a:t>#$23=mem(0000_0004)</a:t>
            </a:r>
            <a:r>
              <a:rPr b="1" lang="zh-CN" sz="2200" spc="-1" strike="noStrike">
                <a:solidFill>
                  <a:srgbClr val="00b050"/>
                </a:solidFill>
                <a:latin typeface="Arial"/>
              </a:rPr>
              <a:t>，譬如</a:t>
            </a:r>
            <a:r>
              <a:rPr b="1" lang="pt-BR" sz="2200" spc="-1" strike="noStrike">
                <a:solidFill>
                  <a:srgbClr val="00b050"/>
                </a:solidFill>
                <a:latin typeface="Arial"/>
              </a:rPr>
              <a:t>9999_9999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sltu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$24,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$22,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$23 </a:t>
            </a:r>
            <a:r>
              <a:rPr b="1" lang="en-US" sz="2200" spc="-1" strike="noStrike">
                <a:solidFill>
                  <a:srgbClr val="00b050"/>
                </a:solidFill>
                <a:latin typeface="Arial"/>
              </a:rPr>
              <a:t>#$24=?  </a:t>
            </a:r>
            <a:r>
              <a:rPr b="1" lang="zh-CN" sz="2200" spc="-1" strike="noStrike">
                <a:solidFill>
                  <a:srgbClr val="00b050"/>
                </a:solidFill>
                <a:latin typeface="Arial"/>
              </a:rPr>
              <a:t>，譬如</a:t>
            </a:r>
            <a:r>
              <a:rPr b="1" lang="en-US" sz="2200" spc="-1" strike="noStrike">
                <a:solidFill>
                  <a:srgbClr val="00b050"/>
                </a:solidFill>
                <a:latin typeface="Arial"/>
              </a:rPr>
              <a:t>=0000_0001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b050"/>
                </a:solidFill>
                <a:latin typeface="Arial"/>
              </a:rPr>
              <a:t>                                            </a:t>
            </a:r>
            <a:r>
              <a:rPr b="1" lang="zh-CN" sz="2200" spc="-1" strike="noStrike">
                <a:solidFill>
                  <a:srgbClr val="00b050"/>
                </a:solidFill>
                <a:latin typeface="Arial"/>
              </a:rPr>
              <a:t>返回        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九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-I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68360" y="1412640"/>
            <a:ext cx="8229600" cy="1150920"/>
          </a:xfrm>
          <a:prstGeom prst="rect">
            <a:avLst/>
          </a:prstGeom>
          <a:ln w="0">
            <a:noFill/>
          </a:ln>
        </p:spPr>
      </p:pic>
      <p:sp>
        <p:nvSpPr>
          <p:cNvPr id="210" name="页脚占位符 3"/>
          <p:cNvSpPr/>
          <p:nvPr/>
        </p:nvSpPr>
        <p:spPr>
          <a:xfrm>
            <a:off x="0" y="6553080"/>
            <a:ext cx="16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9FE7-C65C-47C8-9B81-EF8522F6E2CA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灯片编号占位符 4"/>
          <p:cNvSpPr/>
          <p:nvPr/>
        </p:nvSpPr>
        <p:spPr>
          <a:xfrm>
            <a:off x="7740720" y="6508800"/>
            <a:ext cx="1341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50FC-8DBE-42DD-BA9E-2602E7C61920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矩形 5"/>
          <p:cNvSpPr/>
          <p:nvPr/>
        </p:nvSpPr>
        <p:spPr>
          <a:xfrm>
            <a:off x="684360" y="1125360"/>
            <a:ext cx="745308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8011234,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026789,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039000,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8040010,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0822804,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00253025,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0833804,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00464020,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0414822,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00225022,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6b7fff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206c8000,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14dffff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2c4e6788,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c4f678a,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ac8b0000,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c0c0014,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ac8d0010,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c8e0014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8c100010,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8c910004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02119025,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8c930010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8c940014,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274a827,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8c96fff0,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8c97fff4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02d7c02b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返回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九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-I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8360" y="105264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实验验证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验证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R-I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型指令集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CPU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模块的顶层模块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5" name="页脚占位符 3"/>
          <p:cNvSpPr/>
          <p:nvPr/>
        </p:nvSpPr>
        <p:spPr>
          <a:xfrm>
            <a:off x="0" y="6553080"/>
            <a:ext cx="16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FB51-71A9-430C-A65F-8BD6BAA85DF4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灯片编号占位符 4"/>
          <p:cNvSpPr/>
          <p:nvPr/>
        </p:nvSpPr>
        <p:spPr>
          <a:xfrm>
            <a:off x="7740720" y="6508800"/>
            <a:ext cx="1341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5EC2-AF83-4590-8F99-F456F8CCCEEA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18" name="对象 6"/>
          <p:cNvGraphicFramePr/>
          <p:nvPr/>
        </p:nvGraphicFramePr>
        <p:xfrm>
          <a:off x="133200" y="333360"/>
          <a:ext cx="8877600" cy="58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对象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" y="333360"/>
                    <a:ext cx="887760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九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-I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实验要求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896040" indent="-44784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实验八的基础上，编写一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模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7720" indent="-44784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Arial"/>
              </a:rPr>
              <a:t>实现实验八的</a:t>
            </a: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b0f0"/>
                </a:solidFill>
                <a:latin typeface="Arial"/>
              </a:rPr>
              <a:t>条</a:t>
            </a: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00b0f0"/>
                </a:solidFill>
                <a:latin typeface="Arial"/>
              </a:rPr>
              <a:t>型指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7720" indent="-44784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Arial"/>
              </a:rPr>
              <a:t>实现新的</a:t>
            </a: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b0f0"/>
                </a:solidFill>
                <a:latin typeface="Arial"/>
              </a:rPr>
              <a:t>条</a:t>
            </a: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I</a:t>
            </a:r>
            <a:r>
              <a:rPr b="1" lang="zh-CN" sz="2800" spc="-1" strike="noStrike">
                <a:solidFill>
                  <a:srgbClr val="00b0f0"/>
                </a:solidFill>
                <a:latin typeface="Arial"/>
              </a:rPr>
              <a:t>型指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编写一个实验验证的顶层模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实验室任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7720" indent="-44784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配置管脚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见下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7720" indent="-44784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生成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*.bit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文件，下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Nexys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验板中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7720" indent="-44784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完成板级验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撰写实验报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页脚占位符 3"/>
          <p:cNvSpPr/>
          <p:nvPr/>
        </p:nvSpPr>
        <p:spPr>
          <a:xfrm>
            <a:off x="0" y="6553080"/>
            <a:ext cx="16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9B48-CDFE-4EAF-95BC-815388ABE226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灯片编号占位符 4"/>
          <p:cNvSpPr/>
          <p:nvPr/>
        </p:nvSpPr>
        <p:spPr>
          <a:xfrm>
            <a:off x="7740720" y="6508800"/>
            <a:ext cx="1341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B67D-2BE0-494A-B808-AC5FCA9DC49F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九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-I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68360" y="1413000"/>
          <a:ext cx="8424720" cy="4157640"/>
        </p:xfrm>
        <a:graphic>
          <a:graphicData uri="http://schemas.openxmlformats.org/drawingml/2006/table">
            <a:tbl>
              <a:tblPr/>
              <a:tblGrid>
                <a:gridCol w="863640"/>
                <a:gridCol w="1512720"/>
                <a:gridCol w="2160720"/>
                <a:gridCol w="3887640"/>
              </a:tblGrid>
              <a:tr h="639720"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 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信号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配置设备管脚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功能说明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</a:tr>
              <a:tr h="584280">
                <a:tc rowSpan="3"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输入信号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rst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个按钮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清零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</a:tr>
              <a:tr h="64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clk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个按钮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5"/>
                    </a:solidFill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时钟引脚（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BTND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或者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BTNR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）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</a:tr>
              <a:tr h="141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选择信号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个逻辑开关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选择显示的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ALU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运、算结果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或存储器读出数据字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或者标志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OF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、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ZF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；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</a:tr>
              <a:tr h="865080"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输出信号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67190"/>
                          </a:solidFill>
                          <a:latin typeface="Arial"/>
                          <a:ea typeface="华文中宋"/>
                        </a:rPr>
                        <a:t>LED[7:0]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dcf3"/>
                    </a:solidFill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67190"/>
                          </a:solidFill>
                          <a:latin typeface="Arial"/>
                          <a:ea typeface="华文中宋"/>
                        </a:rPr>
                        <a:t>8</a:t>
                      </a:r>
                      <a:r>
                        <a:rPr b="1" lang="zh-CN" sz="2400" spc="-1" strike="noStrike">
                          <a:solidFill>
                            <a:srgbClr val="367190"/>
                          </a:solidFill>
                          <a:latin typeface="Arial"/>
                          <a:ea typeface="华文中宋"/>
                        </a:rPr>
                        <a:t>个</a:t>
                      </a:r>
                      <a:r>
                        <a:rPr b="1" lang="en-US" sz="2400" spc="-1" strike="noStrike">
                          <a:solidFill>
                            <a:srgbClr val="367190"/>
                          </a:solidFill>
                          <a:latin typeface="Arial"/>
                          <a:ea typeface="华文中宋"/>
                        </a:rPr>
                        <a:t>LED</a:t>
                      </a:r>
                      <a:r>
                        <a:rPr b="1" lang="zh-CN" sz="2400" spc="-1" strike="noStrike">
                          <a:solidFill>
                            <a:srgbClr val="367190"/>
                          </a:solidFill>
                          <a:latin typeface="Arial"/>
                          <a:ea typeface="华文中宋"/>
                        </a:rPr>
                        <a:t>灯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dcf3"/>
                    </a:solidFill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显示字节数据或标志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</a:tr>
            </a:tbl>
          </a:graphicData>
        </a:graphic>
      </p:graphicFrame>
      <p:sp>
        <p:nvSpPr>
          <p:cNvPr id="226" name="页脚占位符 3"/>
          <p:cNvSpPr/>
          <p:nvPr/>
        </p:nvSpPr>
        <p:spPr>
          <a:xfrm>
            <a:off x="0" y="6553080"/>
            <a:ext cx="16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4400-A99D-4935-9FF6-193772E67CAA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灯片编号占位符 4"/>
          <p:cNvSpPr/>
          <p:nvPr/>
        </p:nvSpPr>
        <p:spPr>
          <a:xfrm>
            <a:off x="7740720" y="6508800"/>
            <a:ext cx="1341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E4FE-5425-47E1-982C-527858BB720B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九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-I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、实验步骤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ilinx I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创建工程，编源码，然后编译、综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编写激励代码，观察仿真波形，直至验证正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实验准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N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板卡电源开关跳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J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选择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US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取电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US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电缆连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机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N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板卡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N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验板的电源开关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机上打开工程文件，进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管脚配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生成编程文件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*.bit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，下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到板卡中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实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页脚占位符 3"/>
          <p:cNvSpPr/>
          <p:nvPr/>
        </p:nvSpPr>
        <p:spPr>
          <a:xfrm>
            <a:off x="0" y="6553080"/>
            <a:ext cx="16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598E-AF65-47B1-90BF-FCC1B0B6C7BB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灯片编号占位符 4"/>
          <p:cNvSpPr/>
          <p:nvPr/>
        </p:nvSpPr>
        <p:spPr>
          <a:xfrm>
            <a:off x="7740720" y="6508800"/>
            <a:ext cx="1341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8EE3-E122-4683-99D3-35AB8FC323A1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九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-I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68360" y="1341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、思考与探索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必做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将各条指令执行的结果和标志记录到表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6.2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中，分析结果正确与否？如果不正确，请分析原因。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型指令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ui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t, imm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将立即数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mm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装入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t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寄存器的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位，低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位清零。它的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P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编码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6’b00111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s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字段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’b0000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试着实现该指令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说说你在实验中碰到了哪些问题，你是如何解决的？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4" name="页脚占位符 3"/>
          <p:cNvSpPr/>
          <p:nvPr/>
        </p:nvSpPr>
        <p:spPr>
          <a:xfrm>
            <a:off x="0" y="6553080"/>
            <a:ext cx="16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3981-C89F-481A-98C4-C897788BAE01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灯片编号占位符 4"/>
          <p:cNvSpPr/>
          <p:nvPr/>
        </p:nvSpPr>
        <p:spPr>
          <a:xfrm>
            <a:off x="7740720" y="6508800"/>
            <a:ext cx="1341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9206-D8F8-4215-BA8C-BD4526DFEBF8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6" name="Picture 4" descr="1"/>
          <p:cNvPicPr/>
          <p:nvPr/>
        </p:nvPicPr>
        <p:blipFill>
          <a:blip r:embed="rId1"/>
          <a:stretch/>
        </p:blipFill>
        <p:spPr>
          <a:xfrm>
            <a:off x="3995640" y="5950080"/>
            <a:ext cx="1435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页脚占位符 4"/>
          <p:cNvSpPr/>
          <p:nvPr/>
        </p:nvSpPr>
        <p:spPr>
          <a:xfrm>
            <a:off x="0" y="6553080"/>
            <a:ext cx="16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763E-92BC-46F8-BED7-BFD16326825C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灯片编号占位符 5"/>
          <p:cNvSpPr/>
          <p:nvPr/>
        </p:nvSpPr>
        <p:spPr>
          <a:xfrm>
            <a:off x="7740720" y="6508800"/>
            <a:ext cx="1341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BFB8-8BAB-45CA-8777-07894A2ADE94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十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-I-J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、实验目的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IPS R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型、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型和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型指令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综合数据通路设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掌握各种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转移类指令的控制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指令流的多路选通控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方法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转移指令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指令格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寻址方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学习转移地址的产生方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无条件转移指令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条件转移指令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实现方法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编程实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部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转移指令的功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页脚占位符 4"/>
          <p:cNvSpPr/>
          <p:nvPr/>
        </p:nvSpPr>
        <p:spPr>
          <a:xfrm>
            <a:off x="0" y="6553080"/>
            <a:ext cx="16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8B1A-DA6E-4635-B239-82C6325D614F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7740720" y="6508800"/>
            <a:ext cx="1341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E3C0-4016-47BB-84C2-3DB9E56E81B0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十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-I-J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45720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、实验内容与原理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实验九的基础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预备实现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Arial"/>
              </a:rPr>
              <a:t>条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70c0"/>
                </a:solidFill>
                <a:latin typeface="Arial"/>
              </a:rPr>
              <a:t>型转移指令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Arial"/>
              </a:rPr>
              <a:t>条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I</a:t>
            </a:r>
            <a:r>
              <a:rPr b="1" lang="zh-CN" sz="2400" spc="-1" strike="noStrike">
                <a:solidFill>
                  <a:srgbClr val="0070c0"/>
                </a:solidFill>
                <a:latin typeface="Arial"/>
              </a:rPr>
              <a:t>型条件转移指令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Arial"/>
              </a:rPr>
              <a:t>条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J</a:t>
            </a:r>
            <a:r>
              <a:rPr b="1" lang="zh-CN" sz="2400" spc="-1" strike="noStrike">
                <a:solidFill>
                  <a:srgbClr val="0070c0"/>
                </a:solidFill>
                <a:latin typeface="Arial"/>
              </a:rPr>
              <a:t>型转移指令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与原理课相比，多了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条转移指令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页脚占位符 4"/>
          <p:cNvSpPr/>
          <p:nvPr/>
        </p:nvSpPr>
        <p:spPr>
          <a:xfrm>
            <a:off x="0" y="6553080"/>
            <a:ext cx="16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0501-51BF-444C-AC41-34AC7FFFA723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灯片编号占位符 5"/>
          <p:cNvSpPr/>
          <p:nvPr/>
        </p:nvSpPr>
        <p:spPr>
          <a:xfrm>
            <a:off x="7740720" y="6508800"/>
            <a:ext cx="1341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9FD4-8DC4-4977-9ED9-CFA14698691C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十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-I-J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MIPS</a:t>
            </a:r>
            <a:r>
              <a:rPr b="1" lang="zh-CN" sz="2400" spc="-1" strike="noStrike">
                <a:solidFill>
                  <a:srgbClr val="0070c0"/>
                </a:solidFill>
                <a:latin typeface="Arial"/>
              </a:rPr>
              <a:t>的转移指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14200" y="404640"/>
          <a:ext cx="8821800" cy="6192720"/>
        </p:xfrm>
        <a:graphic>
          <a:graphicData uri="http://schemas.openxmlformats.org/drawingml/2006/table">
            <a:tbl>
              <a:tblPr/>
              <a:tblGrid>
                <a:gridCol w="872280"/>
                <a:gridCol w="872280"/>
                <a:gridCol w="960840"/>
                <a:gridCol w="489600"/>
                <a:gridCol w="704880"/>
                <a:gridCol w="703440"/>
                <a:gridCol w="843120"/>
                <a:gridCol w="633960"/>
                <a:gridCol w="2741400"/>
              </a:tblGrid>
              <a:tr h="4334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R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型指令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字段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OP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r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r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rd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sham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fun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功能描述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位数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2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jr  r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0000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r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5’b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5’b0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5’b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0010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无条件跳转：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rs 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→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 P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125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I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型指令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字段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OP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r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r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cffff"/>
                    </a:solidFill>
                  </a:tcPr>
                </a:tc>
                <a:tc gridSpan="3"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offse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功能描述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位数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cffff"/>
                    </a:solidFill>
                  </a:tcPr>
                </a:tc>
                <a:tc gridSpan="3"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656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beq rs, rt, label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001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r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r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cffff"/>
                    </a:solidFill>
                  </a:tcPr>
                </a:tc>
                <a:tc gridSpan="3"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offse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相等转移：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if(rs=rt) PC+4+offset*4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→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P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3656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bne rs, rt, label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00010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r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r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cffff"/>
                    </a:solidFill>
                  </a:tcPr>
                </a:tc>
                <a:tc gridSpan="3"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offse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不相等转移：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if(rs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≠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rt) PC+4+offset*4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→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P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45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J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型指令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字段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OP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ccff"/>
                    </a:solidFill>
                  </a:tcPr>
                </a:tc>
                <a:tc gridSpan="5"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addres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功能描述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位数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ccff"/>
                    </a:solidFill>
                  </a:tcPr>
                </a:tc>
                <a:tc gridSpan="5"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2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656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j label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0001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ccff"/>
                    </a:solidFill>
                  </a:tcPr>
                </a:tc>
                <a:tc gridSpan="5"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addres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无条件跳转：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{(PC+4)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高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位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,address,0,0}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→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P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0501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jal label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00001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ccff"/>
                    </a:solidFill>
                  </a:tcPr>
                </a:tc>
                <a:tc gridSpan="5"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addres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无条件跳转并链接：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(PC+4)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→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$31, 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页面转移地址→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P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页脚占位符 4"/>
          <p:cNvSpPr/>
          <p:nvPr/>
        </p:nvSpPr>
        <p:spPr>
          <a:xfrm>
            <a:off x="0" y="6553080"/>
            <a:ext cx="16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5345-D38C-40AA-B043-C28F8A81EE55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灯片编号占位符 5"/>
          <p:cNvSpPr/>
          <p:nvPr/>
        </p:nvSpPr>
        <p:spPr>
          <a:xfrm>
            <a:off x="7740720" y="6508800"/>
            <a:ext cx="1341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0107-0099-457D-A43F-C6C20909413F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九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-I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、实验目的 </a:t>
            </a:r>
            <a:endParaRPr b="1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IPS R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型指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综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数据通路设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数据流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多路选通控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取数指令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w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存数指令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w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指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寻址方式及其有效地址产生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部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型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型指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功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页脚占位符 4"/>
          <p:cNvSpPr/>
          <p:nvPr/>
        </p:nvSpPr>
        <p:spPr>
          <a:xfrm>
            <a:off x="0" y="6553080"/>
            <a:ext cx="16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C789-00B8-413C-98D3-DA1D69830B3B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7740720" y="6508800"/>
            <a:ext cx="1341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31F0-182F-4725-BC12-03C97E1A6B74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十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-I-J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45720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从上表可知：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J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型格式的指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位的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OP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字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26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位的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addres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字段构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是直接转移地址，需要和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+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的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高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位并位处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条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J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型格式的指令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j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jal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是无条件必转指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相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令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令不仅转移，且在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转移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令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下一条指令的地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保存到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编号为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的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$ra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$3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寄存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型格式必转指令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j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寄存器中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数据作指令地址，直接置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常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搭配使用，用于子程序的调用与返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页脚占位符 4"/>
          <p:cNvSpPr/>
          <p:nvPr/>
        </p:nvSpPr>
        <p:spPr>
          <a:xfrm>
            <a:off x="0" y="6553080"/>
            <a:ext cx="16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C12C-F3FA-4104-91D1-467A7C1EAF78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灯片编号占位符 5"/>
          <p:cNvSpPr/>
          <p:nvPr/>
        </p:nvSpPr>
        <p:spPr>
          <a:xfrm>
            <a:off x="7740720" y="6508800"/>
            <a:ext cx="1341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B388-7087-4D07-B1EB-D64D2FDAE85A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十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-I-J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jal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指令：相当于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call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（子程序调用）指令，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jr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指令相当于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ret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（子程序返回）指令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---------</a:t>
            </a:r>
            <a:r>
              <a:rPr b="1" lang="zh-CN" sz="2400" spc="-1" strike="noStrike">
                <a:solidFill>
                  <a:srgbClr val="0070c0"/>
                </a:solidFill>
                <a:latin typeface="Arial"/>
              </a:rPr>
              <a:t>查看举例代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条条件转移指令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指令格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ffset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是带符号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需做符号扩展（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）后，再左移两位，与新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值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+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相加，得到转移地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页脚占位符 4"/>
          <p:cNvSpPr/>
          <p:nvPr/>
        </p:nvSpPr>
        <p:spPr>
          <a:xfrm>
            <a:off x="0" y="6553080"/>
            <a:ext cx="16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CCEB-D04C-452A-9835-3CA80F066D40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灯片编号占位符 5"/>
          <p:cNvSpPr/>
          <p:nvPr/>
        </p:nvSpPr>
        <p:spPr>
          <a:xfrm>
            <a:off x="7740720" y="6508800"/>
            <a:ext cx="1341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2203-D51F-44D3-BDDA-411DF7E4CFCE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十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-I-J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2" name="矩形 1"/>
          <p:cNvSpPr/>
          <p:nvPr/>
        </p:nvSpPr>
        <p:spPr>
          <a:xfrm>
            <a:off x="468360" y="1197000"/>
            <a:ext cx="8496360" cy="441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Arial"/>
                <a:ea typeface="华文中宋"/>
              </a:rPr>
              <a:t>主存地址：指令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华文中宋"/>
              </a:rPr>
              <a:t>……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华文中宋"/>
              </a:rPr>
              <a:t>0x0040_0000:jal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华文中宋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华文中宋"/>
              </a:rPr>
              <a:t>subroutine1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华文中宋"/>
              </a:rPr>
              <a:t>;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  <a:ea typeface="华文中宋"/>
              </a:rPr>
              <a:t>#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  <a:ea typeface="华文中宋"/>
              </a:rPr>
              <a:t>子程序调用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  <a:ea typeface="华文中宋"/>
              </a:rPr>
              <a:t>,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  <a:ea typeface="华文中宋"/>
              </a:rPr>
              <a:t>$ra=0x0040_0004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华文中宋"/>
              </a:rPr>
              <a:t>0x0040_0004: ……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华文中宋"/>
              </a:rPr>
              <a:t>……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华文中宋"/>
              </a:rPr>
              <a:t>0x0040_0038: subroutine1: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华文中宋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华文中宋"/>
              </a:rPr>
              <a:t>……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华文中宋"/>
              </a:rPr>
              <a:t>……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华文中宋"/>
              </a:rPr>
              <a:t>0x0040_0040:jr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华文中宋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华文中宋"/>
              </a:rPr>
              <a:t>$31; 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  <a:ea typeface="华文中宋"/>
              </a:rPr>
              <a:t>#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  <a:ea typeface="华文中宋"/>
              </a:rPr>
              <a:t>子程序返回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华文中宋"/>
              </a:rPr>
              <a:t>0x0040_0044: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华文中宋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华文中宋"/>
              </a:rPr>
              <a:t>……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华文中宋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华文中宋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华文中宋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华文中宋"/>
              </a:rPr>
              <a:t>	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  <a:ea typeface="华文中宋"/>
              </a:rPr>
              <a:t>返回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页脚占位符 4"/>
          <p:cNvSpPr/>
          <p:nvPr/>
        </p:nvSpPr>
        <p:spPr>
          <a:xfrm>
            <a:off x="0" y="6553080"/>
            <a:ext cx="16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60D7-545E-46DB-AE2C-671855E49D14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灯片编号占位符 5"/>
          <p:cNvSpPr/>
          <p:nvPr/>
        </p:nvSpPr>
        <p:spPr>
          <a:xfrm>
            <a:off x="7740720" y="6508800"/>
            <a:ext cx="1341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3625-9AE3-477B-9A98-F4DF4798C569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十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-I-J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45720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）转移指令的数据通路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条转移指令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转移地址的产生方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种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rs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PC+4+offset*4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{(PC+4)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高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位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,address,0,0}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何产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后继地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对于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PC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自增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可以使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_new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PC+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对于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r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直接使用寄存器堆的读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据端口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对于相对转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添加一个地址加法器，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_new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符号扩展和左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后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fse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相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对于页面寻址的转移地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需简单的左移和拼接操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页脚占位符 4"/>
          <p:cNvSpPr/>
          <p:nvPr/>
        </p:nvSpPr>
        <p:spPr>
          <a:xfrm>
            <a:off x="0" y="6553080"/>
            <a:ext cx="16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6379-BB37-46D1-8389-B87AFCF7ABA2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灯片编号占位符 5"/>
          <p:cNvSpPr/>
          <p:nvPr/>
        </p:nvSpPr>
        <p:spPr>
          <a:xfrm>
            <a:off x="7740720" y="6508800"/>
            <a:ext cx="1341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D118-F870-46B7-BE46-62086B6850D6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十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-I-J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实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-I-J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型指令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完整结构和数据通路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72" name="对象 2"/>
          <p:cNvGraphicFramePr/>
          <p:nvPr/>
        </p:nvGraphicFramePr>
        <p:xfrm>
          <a:off x="-22320" y="144360"/>
          <a:ext cx="9134640" cy="65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对象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320" y="144360"/>
                    <a:ext cx="913464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页脚占位符 4"/>
          <p:cNvSpPr/>
          <p:nvPr/>
        </p:nvSpPr>
        <p:spPr>
          <a:xfrm>
            <a:off x="0" y="6553080"/>
            <a:ext cx="16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523B-53B7-46A2-B314-277A55712634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灯片编号占位符 5"/>
          <p:cNvSpPr/>
          <p:nvPr/>
        </p:nvSpPr>
        <p:spPr>
          <a:xfrm>
            <a:off x="7740720" y="6508800"/>
            <a:ext cx="1341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2F67-4293-4B52-B431-83C20947FE03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十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-I-J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wr_data_s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信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于选择写入寄存器的数据来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Arial"/>
              </a:rPr>
              <a:t>用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Verilog HD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描述如下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assig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_Addr 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= (w_r_s[1]) ? 5’b11111 : ((w_r_s[0]) ? rt : rd);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assig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_Data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 = (wr_data_s[1]) ? PC_new : ((wr_data_s[0]) ? </a:t>
            </a:r>
            <a:r>
              <a:rPr b="1" lang="pt-BR" sz="2400" spc="-1" strike="noStrike">
                <a:solidFill>
                  <a:srgbClr val="1d528d"/>
                </a:solidFill>
                <a:latin typeface="Arial"/>
              </a:rPr>
              <a:t>M_R_Data : ALU_F);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PC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的四选一数据选择器及转移地址的计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1"/>
          <p:cNvSpPr/>
          <p:nvPr/>
        </p:nvSpPr>
        <p:spPr>
          <a:xfrm>
            <a:off x="826920" y="4005360"/>
            <a:ext cx="7993080" cy="2654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always @(negedge clk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case (PC_s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2’b00: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PC &lt;= PC_new;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2’b01: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PC &lt;= R_Data_A;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2’b10: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PC &lt;= PC_new + (imm_data&lt;&lt;2);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2’b11: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PC &lt;= {PC_new[31:28], address, 2’b00};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endcas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十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-I-J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68360" y="1341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70c0"/>
                </a:solidFill>
                <a:latin typeface="Arial"/>
              </a:rPr>
              <a:t>R-I-J</a:t>
            </a:r>
            <a:r>
              <a:rPr b="1" lang="zh-CN" sz="2400" spc="-1" strike="noStrike">
                <a:solidFill>
                  <a:srgbClr val="0070c0"/>
                </a:solidFill>
                <a:latin typeface="Arial"/>
              </a:rPr>
              <a:t>型指令的控制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1" name="页脚占位符 3"/>
          <p:cNvSpPr/>
          <p:nvPr/>
        </p:nvSpPr>
        <p:spPr>
          <a:xfrm>
            <a:off x="0" y="6553080"/>
            <a:ext cx="16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7927-322C-4BB3-A871-C77D9C04F168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灯片编号占位符 4"/>
          <p:cNvSpPr/>
          <p:nvPr/>
        </p:nvSpPr>
        <p:spPr>
          <a:xfrm>
            <a:off x="7740720" y="6508800"/>
            <a:ext cx="1341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B2DB-A9C5-430F-A227-180E8DBD78C6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79280" y="620640"/>
          <a:ext cx="8785440" cy="6099120"/>
        </p:xfrm>
        <a:graphic>
          <a:graphicData uri="http://schemas.openxmlformats.org/drawingml/2006/table">
            <a:tbl>
              <a:tblPr/>
              <a:tblGrid>
                <a:gridCol w="1486080"/>
                <a:gridCol w="826920"/>
                <a:gridCol w="827280"/>
                <a:gridCol w="825480"/>
                <a:gridCol w="826920"/>
                <a:gridCol w="827280"/>
                <a:gridCol w="1195200"/>
                <a:gridCol w="1143000"/>
                <a:gridCol w="827280"/>
              </a:tblGrid>
              <a:tr h="555480"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指令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w_r_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imm_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rt_imm_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wr_data_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ALU_OP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Write_Reg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Mem_Writ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PC_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</a:tr>
              <a:tr h="476280"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add rd,rs,r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——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</a:tr>
              <a:tr h="477720"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sub rd,rs,r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——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5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5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0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5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</a:tr>
              <a:tr h="478080"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and rd,rs,r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——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</a:tr>
              <a:tr h="285480"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or rd,rs,r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——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5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5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0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5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</a:tr>
              <a:tr h="478080"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xor rd,rs,r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——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1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</a:tr>
              <a:tr h="361800"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nor rd,rs,r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——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5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5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1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5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</a:tr>
              <a:tr h="476280"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sltu rd,rs,r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——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1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</a:tr>
              <a:tr h="477720"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sllv rd,rs,r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——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5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5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1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5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</a:tr>
              <a:tr h="508320"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addi rt,rs,imm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</a:tr>
              <a:tr h="507960"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andi rt, rs, imm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5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5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5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</a:tr>
              <a:tr h="507960"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xori rt, rs, imm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1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</a:tr>
              <a:tr h="507960"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sltiu rt, rs, imm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0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9e8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9e8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9e8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9e8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11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9e8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9e8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9e8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十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-I-J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68360" y="1196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690840" indent="-26568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70c0"/>
                </a:solidFill>
                <a:latin typeface="Arial"/>
              </a:rPr>
              <a:t>R-I-J</a:t>
            </a:r>
            <a:r>
              <a:rPr b="1" lang="zh-CN" sz="2400" spc="-1" strike="noStrike">
                <a:solidFill>
                  <a:srgbClr val="0070c0"/>
                </a:solidFill>
                <a:latin typeface="Arial"/>
              </a:rPr>
              <a:t>型指令的控制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页脚占位符 3"/>
          <p:cNvSpPr/>
          <p:nvPr/>
        </p:nvSpPr>
        <p:spPr>
          <a:xfrm>
            <a:off x="0" y="6553080"/>
            <a:ext cx="16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5771-1A01-4FB5-8BE4-520288F2036C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灯片编号占位符 4"/>
          <p:cNvSpPr/>
          <p:nvPr/>
        </p:nvSpPr>
        <p:spPr>
          <a:xfrm>
            <a:off x="7740720" y="6508800"/>
            <a:ext cx="1341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BE65-C2FB-4CB7-B162-29398A784924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250920" y="1773360"/>
          <a:ext cx="8640720" cy="4541760"/>
        </p:xfrm>
        <a:graphic>
          <a:graphicData uri="http://schemas.openxmlformats.org/drawingml/2006/table">
            <a:tbl>
              <a:tblPr/>
              <a:tblGrid>
                <a:gridCol w="1461960"/>
                <a:gridCol w="812880"/>
                <a:gridCol w="812880"/>
                <a:gridCol w="812520"/>
                <a:gridCol w="814680"/>
                <a:gridCol w="812520"/>
                <a:gridCol w="1175040"/>
                <a:gridCol w="1125360"/>
                <a:gridCol w="812880"/>
              </a:tblGrid>
              <a:tr h="645840"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指令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w_r_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imm_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rt_imm_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wr_data_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ALU_OP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Write_Reg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Mem_Writ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PC_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</a:tr>
              <a:tr h="646200"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lw rt, offset(rs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0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0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—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</a:tr>
              <a:tr h="650880"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sw rt, offset(rs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——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——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——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</a:tr>
              <a:tr h="434880"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jr r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——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——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5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——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——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5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——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5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0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</a:tr>
              <a:tr h="650880"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beq rs, rt, label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——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——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——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0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00/1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</a:tr>
              <a:tr h="644760"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bne rs, rt, label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——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——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5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——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5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0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5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00/1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</a:tr>
              <a:tr h="434880"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j label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——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——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——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——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——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1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</a:tr>
              <a:tr h="433440"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jal label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1X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——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——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1X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——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18000" rIns="18000" tIns="0" bIns="0" anchor="ctr" anchorCtr="1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1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十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-I-J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）指令测试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模拟器上用实现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指令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指令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指令，编写一段用于测试的汇编程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测试程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将内存单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开始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数据进行累加，累加和送至内存单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单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程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汇编后机器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00004020, 00004820, 200a0014, 8d2b0010, 010b4020, 21290004, 214affff, 11400001, 08000003, ac0b003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Arial"/>
              </a:rPr>
              <a:t>程序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内存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号单元开始的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数据复制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号单元开始的数据区，其中使用了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ankMov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子程序</a:t>
            </a:r>
            <a:r>
              <a:rPr b="1" lang="zh-CN" sz="2400" spc="-1" strike="noStrike">
                <a:solidFill>
                  <a:srgbClr val="0070c0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页脚占位符 3"/>
          <p:cNvSpPr/>
          <p:nvPr/>
        </p:nvSpPr>
        <p:spPr>
          <a:xfrm>
            <a:off x="0" y="6553080"/>
            <a:ext cx="16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870B-1213-4E44-8286-3A87DA0AF33C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灯片编号占位符 4"/>
          <p:cNvSpPr/>
          <p:nvPr/>
        </p:nvSpPr>
        <p:spPr>
          <a:xfrm>
            <a:off x="7740720" y="6508800"/>
            <a:ext cx="1341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396B-578E-43F3-BCAA-C9EE6FDF4858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十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-I-J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68360" y="1341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下程序段将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内存单元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0H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开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个数据进行累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累加和送至内存单元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0H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单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页脚占位符 3"/>
          <p:cNvSpPr/>
          <p:nvPr/>
        </p:nvSpPr>
        <p:spPr>
          <a:xfrm>
            <a:off x="0" y="6553080"/>
            <a:ext cx="16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EE7E-2DB3-411E-B99D-3825948EF8AE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灯片编号占位符 4"/>
          <p:cNvSpPr/>
          <p:nvPr/>
        </p:nvSpPr>
        <p:spPr>
          <a:xfrm>
            <a:off x="7740720" y="6508800"/>
            <a:ext cx="1341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99CF-EFDD-4E43-8947-FBF95C043F88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矩形 5"/>
          <p:cNvSpPr/>
          <p:nvPr/>
        </p:nvSpPr>
        <p:spPr>
          <a:xfrm>
            <a:off x="324000" y="1341360"/>
            <a:ext cx="8208720" cy="4449960"/>
          </a:xfrm>
          <a:prstGeom prst="rect">
            <a:avLst/>
          </a:prstGeom>
          <a:solidFill>
            <a:srgbClr val="ffccff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#baseAddr 0000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add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$t0,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$zero,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$zero;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#$8=0000_0000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，累加器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add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$t1,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$zero,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$zero;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#$9=0000_0000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，变址指针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addi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$t2,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$zero,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20;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#$10=0000_0014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，计数器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Loop1: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lw 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$t3,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0x10($t1);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#$11=mem(0000_0010+$9)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add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$t0,$t0,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$t3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#$8=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累加和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addi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$t1,$t1,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#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指针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+4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addi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$t2,$t2,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-1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#$10=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计数器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-1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beq 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$t2,$zero,Loop2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#$10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等于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0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，则跳出循环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1d528d"/>
                </a:solidFill>
                <a:latin typeface="Arial"/>
              </a:rPr>
              <a:t>j</a:t>
            </a:r>
            <a:r>
              <a:rPr b="1" lang="de-DE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1d528d"/>
                </a:solidFill>
                <a:latin typeface="Arial"/>
              </a:rPr>
              <a:t>Loop1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1d528d"/>
                </a:solidFill>
                <a:latin typeface="Arial"/>
              </a:rPr>
              <a:t>Loop2:</a:t>
            </a:r>
            <a:r>
              <a:rPr b="1" lang="de-DE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1d528d"/>
                </a:solidFill>
                <a:latin typeface="Arial"/>
              </a:rPr>
              <a:t>sw $t3,</a:t>
            </a:r>
            <a:r>
              <a:rPr b="1" lang="de-DE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1d528d"/>
                </a:solidFill>
                <a:latin typeface="Arial"/>
              </a:rPr>
              <a:t>0x30($zero)</a:t>
            </a:r>
            <a:r>
              <a:rPr b="1" lang="de-DE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1d528d"/>
                </a:solidFill>
                <a:latin typeface="Arial"/>
              </a:rPr>
              <a:t>#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存数到</a:t>
            </a:r>
            <a:r>
              <a:rPr b="1" lang="de-DE" sz="2000" spc="-1" strike="noStrike">
                <a:solidFill>
                  <a:srgbClr val="1d528d"/>
                </a:solidFill>
                <a:latin typeface="Arial"/>
              </a:rPr>
              <a:t>0x30H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单元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返回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九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-I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360" y="1341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343080" indent="-343080">
              <a:spcBef>
                <a:spcPts val="799"/>
              </a:spcBef>
              <a:buClr>
                <a:srgbClr val="2ca3c8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、实验内容与原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实验八的基础上，再行实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IPS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条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型指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700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条立即数寻址的运算和传送指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700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条相对寄存器寻址的存数和取数指令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700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与原理课相比，多了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条立即数运算指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页脚占位符 3"/>
          <p:cNvSpPr/>
          <p:nvPr/>
        </p:nvSpPr>
        <p:spPr>
          <a:xfrm>
            <a:off x="0" y="6553080"/>
            <a:ext cx="16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0C91-D5E8-4556-8E65-EDCA7401BB3B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4"/>
          <p:cNvSpPr/>
          <p:nvPr/>
        </p:nvSpPr>
        <p:spPr>
          <a:xfrm>
            <a:off x="7740720" y="6508800"/>
            <a:ext cx="1341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FEF9-C95F-46B1-9634-5E318781D311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十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-I-J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8360" y="1341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将内存</a:t>
            </a:r>
            <a:r>
              <a:rPr b="1" lang="de-DE" sz="2800" spc="-1" strike="noStrike">
                <a:solidFill>
                  <a:srgbClr val="1d528d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号单元开始的</a:t>
            </a:r>
            <a:r>
              <a:rPr b="1" lang="de-DE" sz="2800" spc="-1" strike="noStrike">
                <a:solidFill>
                  <a:srgbClr val="1d528d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个数据复制</a:t>
            </a:r>
            <a:r>
              <a:rPr b="1" lang="de-DE" sz="2800" spc="-1" strike="noStrike">
                <a:solidFill>
                  <a:srgbClr val="1d528d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号单元开始的数据区，其中使用了</a:t>
            </a:r>
            <a:r>
              <a:rPr b="1" lang="de-DE" sz="2800" spc="-1" strike="noStrike">
                <a:solidFill>
                  <a:srgbClr val="1d528d"/>
                </a:solidFill>
                <a:latin typeface="Arial"/>
              </a:rPr>
              <a:t>BankMove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子程序。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0" name="页脚占位符 3"/>
          <p:cNvSpPr/>
          <p:nvPr/>
        </p:nvSpPr>
        <p:spPr>
          <a:xfrm>
            <a:off x="0" y="6553080"/>
            <a:ext cx="16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BB91-2DCF-4263-B4C2-73E82C4F458F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灯片编号占位符 4"/>
          <p:cNvSpPr/>
          <p:nvPr/>
        </p:nvSpPr>
        <p:spPr>
          <a:xfrm>
            <a:off x="7740720" y="6508800"/>
            <a:ext cx="1341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0FB8-E683-4C53-9D55-1D7DF8388347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矩形 6"/>
          <p:cNvSpPr/>
          <p:nvPr/>
        </p:nvSpPr>
        <p:spPr>
          <a:xfrm>
            <a:off x="395280" y="1268280"/>
            <a:ext cx="8497800" cy="52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#</a:t>
            </a: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主程序：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70c0"/>
                </a:solidFill>
                <a:latin typeface="Arial"/>
              </a:rPr>
              <a:t>#baseAddr 0000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add  $a0, $zero, $zero;     #$a0=0000_0000</a:t>
            </a: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源数据区域首址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addi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$a1,$zero,20;         #$a1=0000_0014</a:t>
            </a: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，目的数据区域首址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addi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$a2, $zero,10;        #$a2=0000_000a</a:t>
            </a: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，复制的数据个数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jal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BankMove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   #</a:t>
            </a: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子程序调用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#BankMove</a:t>
            </a: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子程序：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add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$t0, $a0, $zero;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#$t0=</a:t>
            </a: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源数据区域首址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add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$t1, $a1, $zero;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#$t1=</a:t>
            </a: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目的数据区域首址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add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$t2,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$a2,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$zero;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#$t2=</a:t>
            </a: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数据块长度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Loop1: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lw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$t3,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0($t0);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#$t3=</a:t>
            </a: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取出数据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w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$t3,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0($t1);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#</a:t>
            </a: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存数据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addi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$t2,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$t2,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-1;       #</a:t>
            </a: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计数值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-1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bne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$t2, $zero, Loop1;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                       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#</a:t>
            </a: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计数值≠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0</a:t>
            </a: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，则没有复制完，转循环体首部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jr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$ra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#</a:t>
            </a: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复制完成，则子程序返回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返回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十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-I-J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程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汇编后，机器码如下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70c0"/>
                </a:solidFill>
                <a:latin typeface="Arial"/>
              </a:rPr>
              <a:t>00002020, 20050014, 2006000a, 0c000004, 00804020, 00a04820, 00c05020, 8d0b0000, ad2b0000, 214affff , 1540fffc, 03e000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上述机器指令码填入到和指令存储器模块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M_B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相关联的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*.coe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文件中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也可以调用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*.coe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的生成软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来完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AM_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相关联的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*.co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件中，可以随意填入一些数据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最后执行指令存储器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M_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实例）和数据存储器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M_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实例）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enerate Cor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操作，更新指令存储器和数据存储器的初始化操作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页脚占位符 3"/>
          <p:cNvSpPr/>
          <p:nvPr/>
        </p:nvSpPr>
        <p:spPr>
          <a:xfrm>
            <a:off x="0" y="6553080"/>
            <a:ext cx="16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7D04-FD0A-46E2-8381-12E2CFC1C936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灯片编号占位符 4"/>
          <p:cNvSpPr/>
          <p:nvPr/>
        </p:nvSpPr>
        <p:spPr>
          <a:xfrm>
            <a:off x="7740720" y="6508800"/>
            <a:ext cx="1341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F222-C4C5-4EAB-8323-52A458E75C6D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十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-I-J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68360" y="1341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实验验证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顶层控制模块和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PU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模块关系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页脚占位符 3"/>
          <p:cNvSpPr/>
          <p:nvPr/>
        </p:nvSpPr>
        <p:spPr>
          <a:xfrm>
            <a:off x="0" y="6553080"/>
            <a:ext cx="16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04FA-8CBE-4647-8AF0-3443D0C555FA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灯片编号占位符 4"/>
          <p:cNvSpPr/>
          <p:nvPr/>
        </p:nvSpPr>
        <p:spPr>
          <a:xfrm>
            <a:off x="7740720" y="6508800"/>
            <a:ext cx="1341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64CC-0F0E-4B2C-9492-F821BBF8FADD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12" name="对象 6"/>
          <p:cNvGraphicFramePr/>
          <p:nvPr/>
        </p:nvGraphicFramePr>
        <p:xfrm>
          <a:off x="468360" y="333360"/>
          <a:ext cx="8351640" cy="589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对象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33360"/>
                    <a:ext cx="8351640" cy="58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十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-I-J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若按上图所示的多路选择器来控制输出显示：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当执行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型指令和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I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型的立即数寻址指令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可以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的开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[3:0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置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0X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状态，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灯观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运算结果（最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选择字节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在执行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I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型的访存指令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lw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sw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指令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将开关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W[3:0]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置于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0X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状态，则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灯观察到的是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数据存储器地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也就是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输出的地址加法运算结果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将开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[3:0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置于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1X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状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则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灯观察到的是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数据存储器的读出数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最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选择字节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页脚占位符 3"/>
          <p:cNvSpPr/>
          <p:nvPr/>
        </p:nvSpPr>
        <p:spPr>
          <a:xfrm>
            <a:off x="0" y="6553080"/>
            <a:ext cx="16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8C08-763F-4552-9C13-52959261B537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灯片编号占位符 4"/>
          <p:cNvSpPr/>
          <p:nvPr/>
        </p:nvSpPr>
        <p:spPr>
          <a:xfrm>
            <a:off x="7740720" y="6508800"/>
            <a:ext cx="1341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83CE-CF16-4584-A521-4C09A22082DC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十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-I-J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开关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SW[3:0]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置于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00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状态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显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ZF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F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标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在执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型指令时，可以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位的开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W[3:0]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置于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状态，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灯观察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C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位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是转移后的指令地址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0" name="页脚占位符 3"/>
          <p:cNvSpPr/>
          <p:nvPr/>
        </p:nvSpPr>
        <p:spPr>
          <a:xfrm>
            <a:off x="0" y="6553080"/>
            <a:ext cx="16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8E9A-D909-44E6-BD09-F636002A5553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灯片编号占位符 4"/>
          <p:cNvSpPr/>
          <p:nvPr/>
        </p:nvSpPr>
        <p:spPr>
          <a:xfrm>
            <a:off x="7740720" y="6508800"/>
            <a:ext cx="1341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7C8E-331D-4C1E-BA1A-7588C178DE6E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十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-I-J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、实验要求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验九的基础上，编写一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模块，除了能够实现实验九的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条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型指令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条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I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型指令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外，还要求能够实现新的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条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J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型指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实验九的工程拷贝至新目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成为一个新工程；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修改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M_B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AM_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初始化关联文件为新工程下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.co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件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定义一些控制和数据信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添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四选一数据通道和移位部件、地址加法器部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重新对各模块进行逻辑连接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修改和扩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模块中指令译码、指令执行控制部分的代码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完善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PU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模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页脚占位符 3"/>
          <p:cNvSpPr/>
          <p:nvPr/>
        </p:nvSpPr>
        <p:spPr>
          <a:xfrm>
            <a:off x="0" y="6553080"/>
            <a:ext cx="16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5D51-53EE-4DD9-B88A-F8AAD9ACA90B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灯片编号占位符 4"/>
          <p:cNvSpPr/>
          <p:nvPr/>
        </p:nvSpPr>
        <p:spPr>
          <a:xfrm>
            <a:off x="7740720" y="6508800"/>
            <a:ext cx="1341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A816-9202-4D77-812F-AAA236225B7C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十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-I-J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编写一个实验验证的顶层模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实验室任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配置管脚：</a:t>
            </a:r>
            <a:r>
              <a:rPr b="1" lang="zh-CN" sz="2800" spc="-1" strike="noStrike">
                <a:solidFill>
                  <a:srgbClr val="0070c0"/>
                </a:solidFill>
                <a:latin typeface="Arial"/>
              </a:rPr>
              <a:t>见下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生成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*.bit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文件，下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Nexys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验板中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完成板级验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撰写实验报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页脚占位符 3"/>
          <p:cNvSpPr/>
          <p:nvPr/>
        </p:nvSpPr>
        <p:spPr>
          <a:xfrm>
            <a:off x="0" y="6553080"/>
            <a:ext cx="16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12E7-54AF-4A15-8DC7-EAD5615596CD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灯片编号占位符 4"/>
          <p:cNvSpPr/>
          <p:nvPr/>
        </p:nvSpPr>
        <p:spPr>
          <a:xfrm>
            <a:off x="7740720" y="6508800"/>
            <a:ext cx="1341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693B-040A-4479-BCDD-A6F9787FFA6C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十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-I-J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68360" y="134100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信号配置表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2" name="页脚占位符 3"/>
          <p:cNvSpPr/>
          <p:nvPr/>
        </p:nvSpPr>
        <p:spPr>
          <a:xfrm>
            <a:off x="0" y="6553080"/>
            <a:ext cx="16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7F6D-195C-471D-860B-B9D7AE9AF0FA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灯片编号占位符 4"/>
          <p:cNvSpPr/>
          <p:nvPr/>
        </p:nvSpPr>
        <p:spPr>
          <a:xfrm>
            <a:off x="7740720" y="6508800"/>
            <a:ext cx="1341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1C54-DCC0-401F-A885-0BF9CDFEB403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539640" y="2060640"/>
          <a:ext cx="8280360" cy="4219560"/>
        </p:xfrm>
        <a:graphic>
          <a:graphicData uri="http://schemas.openxmlformats.org/drawingml/2006/table">
            <a:tbl>
              <a:tblPr/>
              <a:tblGrid>
                <a:gridCol w="863640"/>
                <a:gridCol w="1368360"/>
                <a:gridCol w="2232000"/>
                <a:gridCol w="3816360"/>
              </a:tblGrid>
              <a:tr h="720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中宋"/>
                          <a:ea typeface="华文中宋"/>
                        </a:rPr>
                        <a:t> 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中宋"/>
                          <a:ea typeface="华文中宋"/>
                        </a:rPr>
                        <a:t>信号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中宋"/>
                          <a:ea typeface="华文中宋"/>
                        </a:rPr>
                        <a:t>配置设备管脚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中宋"/>
                          <a:ea typeface="华文中宋"/>
                        </a:rPr>
                        <a:t>功能说明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</a:tr>
              <a:tr h="648000"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中宋"/>
                          <a:ea typeface="华文中宋"/>
                        </a:rPr>
                        <a:t>输入信号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d528d"/>
                          </a:solidFill>
                          <a:latin typeface="华文中宋"/>
                          <a:ea typeface="华文中宋"/>
                        </a:rPr>
                        <a:t>rst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d528d"/>
                          </a:solidFill>
                          <a:latin typeface="华文中宋"/>
                          <a:ea typeface="华文中宋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1d528d"/>
                          </a:solidFill>
                          <a:latin typeface="华文中宋"/>
                          <a:ea typeface="华文中宋"/>
                        </a:rPr>
                        <a:t>个按钮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中宋"/>
                          <a:ea typeface="华文中宋"/>
                        </a:rPr>
                        <a:t>清零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</a:tr>
              <a:tr h="83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d528d"/>
                          </a:solidFill>
                          <a:latin typeface="华文中宋"/>
                          <a:ea typeface="华文中宋"/>
                        </a:rPr>
                        <a:t>clk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d528d"/>
                          </a:solidFill>
                          <a:latin typeface="华文中宋"/>
                          <a:ea typeface="华文中宋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1d528d"/>
                          </a:solidFill>
                          <a:latin typeface="华文中宋"/>
                          <a:ea typeface="华文中宋"/>
                        </a:rPr>
                        <a:t>个按钮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5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中宋"/>
                          <a:ea typeface="华文中宋"/>
                        </a:rPr>
                        <a:t>时钟引脚（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中宋"/>
                          <a:ea typeface="华文中宋"/>
                        </a:rPr>
                        <a:t>BTND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中宋"/>
                          <a:ea typeface="华文中宋"/>
                        </a:rPr>
                        <a:t>或者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中宋"/>
                          <a:ea typeface="华文中宋"/>
                        </a:rPr>
                        <a:t>BTNR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中宋"/>
                          <a:ea typeface="华文中宋"/>
                        </a:rPr>
                        <a:t>）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</a:tr>
              <a:tr h="109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d528d"/>
                          </a:solidFill>
                          <a:latin typeface="华文中宋"/>
                          <a:ea typeface="华文中宋"/>
                        </a:rPr>
                        <a:t>选择信号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d528d"/>
                          </a:solidFill>
                          <a:latin typeface="华文中宋"/>
                          <a:ea typeface="华文中宋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1d528d"/>
                          </a:solidFill>
                          <a:latin typeface="华文中宋"/>
                          <a:ea typeface="华文中宋"/>
                        </a:rPr>
                        <a:t>个逻辑开关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中宋"/>
                          <a:ea typeface="华文中宋"/>
                        </a:rPr>
                        <a:t>选择显示的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中宋"/>
                          <a:ea typeface="华文中宋"/>
                        </a:rPr>
                        <a:t>ALU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中宋"/>
                          <a:ea typeface="华文中宋"/>
                        </a:rPr>
                        <a:t>运算结果或存储器读出数据字节或者标志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中宋"/>
                          <a:ea typeface="华文中宋"/>
                        </a:rPr>
                        <a:t>OF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中宋"/>
                          <a:ea typeface="华文中宋"/>
                        </a:rPr>
                        <a:t>、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中宋"/>
                          <a:ea typeface="华文中宋"/>
                        </a:rPr>
                        <a:t>ZF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中宋"/>
                          <a:ea typeface="华文中宋"/>
                        </a:rPr>
                        <a:t>；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</a:tr>
              <a:tr h="920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中宋"/>
                          <a:ea typeface="华文中宋"/>
                        </a:rPr>
                        <a:t>输出信号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d528d"/>
                          </a:solidFill>
                          <a:latin typeface="华文中宋"/>
                          <a:ea typeface="华文中宋"/>
                        </a:rPr>
                        <a:t>LED[7:0]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8dce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d528d"/>
                          </a:solidFill>
                          <a:latin typeface="华文中宋"/>
                          <a:ea typeface="华文中宋"/>
                        </a:rPr>
                        <a:t>8</a:t>
                      </a:r>
                      <a:r>
                        <a:rPr b="1" lang="zh-CN" sz="2400" spc="-1" strike="noStrike">
                          <a:solidFill>
                            <a:srgbClr val="1d528d"/>
                          </a:solidFill>
                          <a:latin typeface="华文中宋"/>
                          <a:ea typeface="华文中宋"/>
                        </a:rPr>
                        <a:t>个</a:t>
                      </a:r>
                      <a:r>
                        <a:rPr b="1" lang="en-US" sz="2400" spc="-1" strike="noStrike">
                          <a:solidFill>
                            <a:srgbClr val="1d528d"/>
                          </a:solidFill>
                          <a:latin typeface="华文中宋"/>
                          <a:ea typeface="华文中宋"/>
                        </a:rPr>
                        <a:t>LED</a:t>
                      </a:r>
                      <a:r>
                        <a:rPr b="1" lang="zh-CN" sz="2400" spc="-1" strike="noStrike">
                          <a:solidFill>
                            <a:srgbClr val="1d528d"/>
                          </a:solidFill>
                          <a:latin typeface="华文中宋"/>
                          <a:ea typeface="华文中宋"/>
                        </a:rPr>
                        <a:t>灯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8dce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中宋"/>
                          <a:ea typeface="华文中宋"/>
                        </a:rPr>
                        <a:t>显示字节数据或标志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十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-I-J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、实验步骤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ilinx I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创建工程，编源码，然后编译、综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编写激励代码，观察仿真波形，直至验证正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实验准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N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板卡电源开关跳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J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选择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US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取电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US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电缆连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机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N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板卡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N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验板的电源开关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机上打开工程文件，进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管脚配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生成编程文件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*.bit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，下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到板卡中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实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页脚占位符 3"/>
          <p:cNvSpPr/>
          <p:nvPr/>
        </p:nvSpPr>
        <p:spPr>
          <a:xfrm>
            <a:off x="0" y="6553080"/>
            <a:ext cx="16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F456-9183-454B-85B9-DF40024B4118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灯片编号占位符 4"/>
          <p:cNvSpPr/>
          <p:nvPr/>
        </p:nvSpPr>
        <p:spPr>
          <a:xfrm>
            <a:off x="7740720" y="6508800"/>
            <a:ext cx="1341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D372-6422-4320-B1AE-31B352D5E759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9" name="Picture 4" descr="1"/>
          <p:cNvPicPr/>
          <p:nvPr/>
        </p:nvPicPr>
        <p:blipFill>
          <a:blip r:embed="rId1"/>
          <a:stretch/>
        </p:blipFill>
        <p:spPr>
          <a:xfrm>
            <a:off x="4211640" y="5950080"/>
            <a:ext cx="143496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十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-I-J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343080" indent="-34308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Arial"/>
              </a:rPr>
              <a:t>、思考与探索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必做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各条指令执行的结果和标志记录到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2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，分析结果正确与否？如果不正确，请分析原因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转移指令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fse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字段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字段的编码，计算出转移地址，观察是否和你的转移目标地址一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指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tzal rs, labe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nch if less than zero,and link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的功能是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若寄存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则转移并链接，相对当前指令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+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转移的指令数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fse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来决定。它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编码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’b00000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字段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’b10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试着实现该指令，谈谈你的实现方法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页脚占位符 3"/>
          <p:cNvSpPr/>
          <p:nvPr/>
        </p:nvSpPr>
        <p:spPr>
          <a:xfrm>
            <a:off x="0" y="6553080"/>
            <a:ext cx="16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5026-F1BF-4B50-8A14-827D4FA8FD0B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灯片编号占位符 4"/>
          <p:cNvSpPr/>
          <p:nvPr/>
        </p:nvSpPr>
        <p:spPr>
          <a:xfrm>
            <a:off x="7740720" y="6508800"/>
            <a:ext cx="1341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02DB-755A-4C4C-ACCE-B3F9D404D161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1547640" y="2133000"/>
            <a:ext cx="68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MIPS I</a:t>
            </a:r>
            <a:r>
              <a:rPr b="1" lang="zh-CN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型立即数寻址指令格式及编码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九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-I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95280" y="134100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MIPS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的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I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型立即数寻址指令及数据通路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3" name="页脚占位符 3"/>
          <p:cNvSpPr/>
          <p:nvPr/>
        </p:nvSpPr>
        <p:spPr>
          <a:xfrm>
            <a:off x="0" y="6553080"/>
            <a:ext cx="16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A340-5E7C-4EFC-927E-72F10E86351E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灯片编号占位符 4"/>
          <p:cNvSpPr/>
          <p:nvPr/>
        </p:nvSpPr>
        <p:spPr>
          <a:xfrm>
            <a:off x="7740720" y="6508800"/>
            <a:ext cx="1341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6F3F-2FBC-4C74-9EF2-89D825C64EC9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79280" y="1989000"/>
          <a:ext cx="8785440" cy="4319640"/>
        </p:xfrm>
        <a:graphic>
          <a:graphicData uri="http://schemas.openxmlformats.org/drawingml/2006/table">
            <a:tbl>
              <a:tblPr/>
              <a:tblGrid>
                <a:gridCol w="2089080"/>
                <a:gridCol w="984600"/>
                <a:gridCol w="691920"/>
                <a:gridCol w="741600"/>
                <a:gridCol w="966600"/>
                <a:gridCol w="3311640"/>
              </a:tblGrid>
              <a:tr h="726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字段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OP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r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r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imm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功能描述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</a:tr>
              <a:tr h="574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位数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汇编助记符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编码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addi rt, rs, imm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010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r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r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imm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算术加：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rs + imm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→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r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</a:tr>
              <a:tr h="574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andi rt, rs, imm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011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r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r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imm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逻辑与：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rs &amp; imm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→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r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</a:tr>
              <a:tr h="507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xori rt, rs, imm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0111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r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r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imm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de0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逻辑异或：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rs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⊕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imm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→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r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</a:tr>
              <a:tr h="789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sltiu rt, rs, imm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  <a:ea typeface="华文中宋"/>
                        </a:rPr>
                        <a:t>00101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dcf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  <a:ea typeface="华文中宋"/>
                        </a:rPr>
                        <a:t>r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dcf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  <a:ea typeface="华文中宋"/>
                        </a:rPr>
                        <a:t>r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dcf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  <a:ea typeface="华文中宋"/>
                        </a:rPr>
                        <a:t>imm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dcf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无符号数小于则置位：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华文中宋"/>
                        </a:rPr>
                        <a:t>if (rs &lt; imm) rt=1 else rt=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a3c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页脚占位符 4"/>
          <p:cNvSpPr/>
          <p:nvPr/>
        </p:nvSpPr>
        <p:spPr>
          <a:xfrm>
            <a:off x="0" y="6553080"/>
            <a:ext cx="16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F7ED-D7BD-470A-8267-122255CC02D2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灯片编号占位符 5"/>
          <p:cNvSpPr/>
          <p:nvPr/>
        </p:nvSpPr>
        <p:spPr>
          <a:xfrm>
            <a:off x="7740720" y="6508800"/>
            <a:ext cx="1341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AAC4-615B-4935-BEB1-8866262C43E4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WordArt 3"/>
          <p:cNvSpPr txBox="1"/>
          <p:nvPr/>
        </p:nvSpPr>
        <p:spPr>
          <a:xfrm>
            <a:off x="2411280" y="2492280"/>
            <a:ext cx="446580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The End!</a:t>
            </a:r>
            <a:endParaRPr b="1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九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-I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8360" y="134100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型与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型指令有明显不同：</a:t>
            </a:r>
            <a:endParaRPr b="1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没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寄存器，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为目的寄存器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源操作数有一个为立即数，位于指令的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页脚占位符 3"/>
          <p:cNvSpPr/>
          <p:nvPr/>
        </p:nvSpPr>
        <p:spPr>
          <a:xfrm>
            <a:off x="0" y="6553080"/>
            <a:ext cx="16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348E-F710-4414-8C96-68DA6B48D7C6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灯片编号占位符 4"/>
          <p:cNvSpPr/>
          <p:nvPr/>
        </p:nvSpPr>
        <p:spPr>
          <a:xfrm>
            <a:off x="7740720" y="6508800"/>
            <a:ext cx="1341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49D5-1C94-4C49-8356-B256F36A97B4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九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-I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6836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解决目的寄存器的可选性：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设置一个二选一数据选择器，控制信号为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d_rt_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当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d_rt_s=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将指令的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d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字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送写地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_Add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当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d_rt_s=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将指令的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t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字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送写地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_Add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Verilog</a:t>
            </a:r>
            <a:r>
              <a:rPr b="1" lang="zh-CN" sz="2400" spc="-1" strike="noStrike">
                <a:solidFill>
                  <a:srgbClr val="0070c0"/>
                </a:solidFill>
                <a:latin typeface="Arial"/>
              </a:rPr>
              <a:t>语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下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assign W_Addr =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d_rt_s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) ? rt : rd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2" name="页脚占位符 3"/>
          <p:cNvSpPr/>
          <p:nvPr/>
        </p:nvSpPr>
        <p:spPr>
          <a:xfrm>
            <a:off x="0" y="6553080"/>
            <a:ext cx="16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04E0-DC41-4466-B96B-F16F7E181310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灯片编号占位符 4"/>
          <p:cNvSpPr/>
          <p:nvPr/>
        </p:nvSpPr>
        <p:spPr>
          <a:xfrm>
            <a:off x="7740720" y="6508800"/>
            <a:ext cx="1341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ECA6-59A5-4C3D-BBBC-DC0D212BD897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九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-I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扩展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位的立即数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imm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设置一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m_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来控制这两种扩展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mm_s=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符号扩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mm_s=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则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扩展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a3c8"/>
                </a:solidFill>
                <a:latin typeface="Arial"/>
              </a:rPr>
              <a:t>Verilog</a:t>
            </a:r>
            <a:r>
              <a:rPr b="1" lang="zh-CN" sz="2400" spc="-1" strike="noStrike">
                <a:solidFill>
                  <a:srgbClr val="2ca3c8"/>
                </a:solidFill>
                <a:latin typeface="Arial"/>
              </a:rPr>
              <a:t>语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下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ssign imm_data=(imm_s) ?{16{imm[15]},imm} :{16{1’b0},imm};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页脚占位符 3"/>
          <p:cNvSpPr/>
          <p:nvPr/>
        </p:nvSpPr>
        <p:spPr>
          <a:xfrm>
            <a:off x="0" y="6553080"/>
            <a:ext cx="16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D55A-648B-4697-B847-730B289B8BEB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灯片编号占位符 4"/>
          <p:cNvSpPr/>
          <p:nvPr/>
        </p:nvSpPr>
        <p:spPr>
          <a:xfrm>
            <a:off x="7740720" y="6508800"/>
            <a:ext cx="1341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5558-C9AE-4C52-A771-990B9DF52D5E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九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-I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ALU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的输入数据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端的数据选择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方法：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设置二选一数据选择器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控制信号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t_imm_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当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t_imm_s=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将寄存器堆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端口读出数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_Data_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当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t_imm_s=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将扩展好的立即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m_dat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输入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Verilog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语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ssign ALU_B = (rt_imm_s) ? imm_data :R_Data_B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页脚占位符 3"/>
          <p:cNvSpPr/>
          <p:nvPr/>
        </p:nvSpPr>
        <p:spPr>
          <a:xfrm>
            <a:off x="0" y="6553080"/>
            <a:ext cx="16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6CA9-08D4-4064-BD06-B6D5A84B8DC6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灯片编号占位符 4"/>
          <p:cNvSpPr/>
          <p:nvPr/>
        </p:nvSpPr>
        <p:spPr>
          <a:xfrm>
            <a:off x="7740720" y="6508800"/>
            <a:ext cx="1341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D632-0484-4314-819B-A0ACD05FF070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7T16:07:47Z</dcterms:created>
  <dc:creator>冯建文</dc:creator>
  <dc:description/>
  <cp:keywords/>
  <dc:language>en-US</dc:language>
  <cp:lastModifiedBy>微软用户</cp:lastModifiedBy>
  <dcterms:modified xsi:type="dcterms:W3CDTF">2014-05-29T01:50:48Z</dcterms:modified>
  <cp:revision>429</cp:revision>
  <dc:subject>第5章</dc:subject>
  <dc:title>《数字电路》实验指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