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9AFD-0930-4859-BD63-04F3EAE23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7D13-6CDD-4808-ABC8-0C7630B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5B98-823A-42E8-815C-316CB1C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2971-E63F-409F-8F12-3F3F038B9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2BB8-9C2F-44B5-8158-59D041C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D7FE-B342-4456-9498-0A9231EC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4EA3-3097-4E0B-B551-86F6190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E615-8346-47F0-A30F-185CB798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7161-CEDA-41A8-9D1F-786FC157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61E8-EAE7-461C-B4AE-EB8F85C9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DA2D-C9F9-481D-8FAF-1EE37CA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4183-8D63-4F6E-8FBA-F4E52FF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배너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163-594C-4305-8F31-D04C0AD8BC4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468000" y="6524280"/>
            <a:ext cx="1584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363-D43D-4B09-A14C-7EC0FB4B7965}" type="datetime">
              <a:rPr b="0" lang="zh-CN" sz="1400" spc="-1" strike="noStrike">
                <a:solidFill>
                  <a:srgbClr val="1d528d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Picture 3" descr="hdulogopptcornor(透明)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W이미지_2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8" name="Rectangle 6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AutoShape 1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实验项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主讲教师：冯建文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fengjianwen@hdu.edu.cn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84360" y="2060640"/>
          <a:ext cx="8065800" cy="3151080"/>
        </p:xfrm>
        <a:graphic>
          <a:graphicData uri="http://schemas.openxmlformats.org/drawingml/2006/table">
            <a:tbl>
              <a:tblPr/>
              <a:tblGrid>
                <a:gridCol w="833400"/>
                <a:gridCol w="1938240"/>
                <a:gridCol w="1986120"/>
                <a:gridCol w="3308040"/>
              </a:tblGrid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配置设备管脚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功能说明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6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输入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rs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按钮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=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，清零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PC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；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clk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按钮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华文中宋"/>
                          <a:ea typeface="Times New Roman"/>
                        </a:rPr>
                        <a:t>时钟引脚，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上跳沿取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选择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逻辑开关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选择显示的指令字节；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输出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[7:0]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显示读出指令的某个字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411280" y="134028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实验七信号配置表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E751-9A81-4DDF-A2D9-793F30A0F06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9662212-C346-4CA0-A183-232B5E1AE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s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钮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钮则读取指令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拨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逻辑开关选择指令字节，并记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06A1-7CCF-4A9E-BA6E-9D8233E28C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8BB481-ECD0-439C-8752-B60C766A6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和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82224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取指令存储器的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指令代码记录到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分析取出的指令代码是否和指令存储器关联文件中的指令码一致？如果不一致，请分析原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复位后，第一次按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钮，你的程序读出的指令是哪个单元的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单元还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单元的指令？分析为什么？如果要求在复位后的第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临时，读出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单元的指令，你实现了吗？如果没有实现，尝试修改程序实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说说你在实验中碰到了哪些问题，你是如何解决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6237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DB99-4D67-484B-B628-CD54CB8473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202772-1435-4FAC-A08F-9E8458C7A1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PS 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的数据通路设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掌握指令流和数据流的控制方法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整的单周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顶层模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设计方法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PS 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的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1D17-0219-4795-B85B-1B0C85589C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FE3364-80F6-40F6-AC8E-0FCCA8E430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28760" indent="-185760"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设计实现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单周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实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279360"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建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的数据通路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279360"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构造顶层模块，含部件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1857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令存储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实验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1857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及自增电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实验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1857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寄存器堆模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实验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1857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实验三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1857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令译码与控制单元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200" indent="-35712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根据指令码和功能码，为数据通路上各部件发送控制信号（置位或复位）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5A6E-3DD5-4E18-BF97-3BE2DDC782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D70BC4-E250-4AED-8253-957AD3FFB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型指令数据通路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1844640"/>
          <a:ext cx="88203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8203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4DEC-50DB-4388-821F-39A698C2F6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592741-C05B-435F-9F5D-F30FE28A5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型指令集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700280"/>
          <a:ext cx="8748720" cy="4565520"/>
        </p:xfrm>
        <a:graphic>
          <a:graphicData uri="http://schemas.openxmlformats.org/drawingml/2006/table">
            <a:tbl>
              <a:tblPr/>
              <a:tblGrid>
                <a:gridCol w="1384200"/>
                <a:gridCol w="1044720"/>
                <a:gridCol w="620640"/>
                <a:gridCol w="619200"/>
                <a:gridCol w="620640"/>
                <a:gridCol w="792000"/>
                <a:gridCol w="1009800"/>
                <a:gridCol w="265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字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O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ham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fun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功能描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数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汇编助记符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编码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add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算术加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 + rt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ub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算术减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 - rt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and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与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 &amp; rt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or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或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 | rt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xor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异或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⊕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nor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或非：</a:t>
                      </a: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~(rs | rt)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ltu rd,rs,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1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无符号数小于则置位：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if(rs &lt; rt)rd=1 else rd=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llv rd,rt,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1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逻辑左移：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(rt &lt;&lt; rs)→r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7007-6173-49D7-9124-D84D1177BC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AF60CB8-D67E-4762-85BA-F012D5C4C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由上表可知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型指令的共同特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操作码字段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OP=000000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指令的功能则由功能码字段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unc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指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型指令的操作数有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两个源操作数在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字段所指定的寄存器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目的操作数是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字段所指定的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汇编助记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紧跟指令符号右边的寄存器是目的寄存器，这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机器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排列顺序有差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8A85-FA93-4A74-ADAD-55609DE5DA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BE99C5-8C71-4BB7-A37D-D6FAA21DC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构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顶层模块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建一个工程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建一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ilog Modul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顶层模块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拷贝各个模块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v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件到当前工程目录下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各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v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件加到工程中来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指令存储器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x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处理较复杂（可重新在工程中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顶层模块中，引用各个模块的实例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一组信号做为各个模块间的信号连接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顶层模块中，编写有关指令译码和控制单元的程序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12E5-BB42-4C88-AA6C-6C112ABA79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41E3E8B-1476-4999-A12E-E1A0CA309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意：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寄存器模块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要始终置为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且不允许写操作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译码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=00000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，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字段识别具体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控制信号赋值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依据指令译码，见下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9DE0-41C3-457C-86C3-811F4E1D70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BAD7E4-C38C-429D-A016-9DA402D61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实验四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寄存器堆模块必须单独编写实现，以便后续实验使用（譬如实验八）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模块必须符合实验的要求，譬如输入输出端口和功能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误观点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认为只需完成功能验证即可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功能上的误解：只设置一个寄存器的读地址端口，完成读和写功能即可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际上：该寄存器堆能同时进行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操作：两个寄存器的读和一个寄存器的写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没有实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寄存器要求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$0=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且禁止写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0387-0464-48F2-844E-50EB85992A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CD2AC2-AAE2-4435-AA79-09BC35D5C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指令译码与控制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P=6‘b000000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55640" y="1989000"/>
          <a:ext cx="7561440" cy="4384800"/>
        </p:xfrm>
        <a:graphic>
          <a:graphicData uri="http://schemas.openxmlformats.org/drawingml/2006/table">
            <a:tbl>
              <a:tblPr/>
              <a:tblGrid>
                <a:gridCol w="1846440"/>
                <a:gridCol w="1757160"/>
                <a:gridCol w="2228760"/>
                <a:gridCol w="172908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指令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func(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输入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ALU_OP(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输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操作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ad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与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ub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或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and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异或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位非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x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算术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nor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01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算术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ltu rd,rs,r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010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小于置位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sllv rd,rt,r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000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1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宋体"/>
                        </a:rPr>
                        <a:t>逻辑左移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C95C-D4EA-4BE0-9B4C-218A2DBB1F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E6530AC-C11A-4DF8-8B9F-E1C2F0ED9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 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序设计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时钟源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主频脉冲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上升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启动指令存储器依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电平持续期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完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的自增、指令译码、寄存器读操作，随后完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下降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完成目的寄存器的写入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的更新和标志寄存器的更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时序实现时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指令存储器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寄存器的打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~c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寄存器堆的写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~c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页脚占位符 3"/>
          <p:cNvSpPr/>
          <p:nvPr/>
        </p:nvSpPr>
        <p:spPr>
          <a:xfrm>
            <a:off x="0" y="6553080"/>
            <a:ext cx="16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21B-9D01-44B9-A69C-885DD19C2FB5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4"/>
          <p:cNvSpPr/>
          <p:nvPr/>
        </p:nvSpPr>
        <p:spPr>
          <a:xfrm>
            <a:off x="7740720" y="6508800"/>
            <a:ext cx="1341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2D3-7D23-4B64-824D-AB2849CAFF6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55C1-EC53-4A30-8987-5D1E59A8CCC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98E01B-F7A4-4DE0-B517-9734895D2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指令对标志寄存器的影响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传送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跳转类指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影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志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有符号算术运算类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算术移位指令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影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F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无符号算术运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指令和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逻辑运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指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影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影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条件转移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一般会使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标志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111D-130A-4B99-A4DC-71A08206A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C502EB5-3425-4F5A-A989-4B18F4719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标志寄存器的赋值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算术运算类指令：影响标志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逻辑运算类指令：只影响标志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存储器访问指令：不影响标志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条件跳转指令：不影响标志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条件分支指令：影响标志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影响→赋值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不影响→不赋值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CDE7-D6B4-4A07-8C01-787921C66C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881EB4-7A18-4BDC-9D6B-31F2E8D52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指令测试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现的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能够支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子集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条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型指令编写一段程序，用于测试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563D-3897-4DF9-8B24-136F53813D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017CD1-222B-4695-8B5C-FCCBCCD19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0540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测试程序：汇编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660680"/>
            <a:ext cx="4174920" cy="50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nor $1, $0,$0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=F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tu $2, $0, $1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2=0000_0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3, $2, $2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3=0000_000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4, $3, $2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4=0000_0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5, $4, $3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5=0000_0005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6, $5, $3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6=0000_0007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lv $7, $6, $2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7=0000_000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9, $5, $6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9=0000_000C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lv $8, $6, $9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8=0000_7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xor $9, $1, $8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9=FFFF_8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10, $9, $1;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0=FFFF_8FF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ub $11, $8, $7;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1=0000_6FF2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ub $12, $7, $8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2=FFFF_900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nd $13, $9, $12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3=FFFF_800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or $14, $9, $12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4=FFFF_9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or $15, $6, $7;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#$15=0000_000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660680"/>
            <a:ext cx="4319640" cy="50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nor $16, $6, $7;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    #$16=FFFF_FFF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17, $7, $3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    #$17=0000_001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lv  $18, $8, $17;    #$18=7000_0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lv  $19, $3, $17;    #$19=0002_0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lv $20, $19, $7;    #$20=8000_0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 $21, $20, $1;   #$21=7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or $22, $18, $21;    #$22=7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 $23, $20, $22; #$23=F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ub $24, $20, $22;  #$24=0000_0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ub $25, $22, $20;  #$25=F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xor $26, $18, $1;     #$26=8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tu $27, $22, $20;  #$27=0000_0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ltu $28, $26, $20;  #$28=0000_0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29, $22, $2;    #$29=8000_0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sub $30, $20, $2;    #$30=7FFF_FFF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dd $31, $11, $26;  #$30=9000_6FF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EED2-2011-480E-A803-D3E315F5E56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089D69D-EBC7-4416-9D83-BBC663B1E7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测试程序：机器指令编码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0000827, 0001102b, 00421820, 00622020, 00832820, 00a33020, 00463804, 00a64820, 01264004, 00284826, 01215020, 01075822, 00e86022, 012c6824, 012c7025, 00c77825, 00c78027, 00e38820, 02289004, 02239804, 00f3a004, 0281a820, 0255b025, 0296b820, 0296c022, 02d4c822, 0241d026, 02d4d82b, 0354e02b, 02c2e820, 0282f022, 017af82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机器代码编辑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co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文件（格式化）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指令存储器关联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重新生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核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generate Cor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操作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3AF9-8968-4893-851B-45CD220C1EC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DE2DAE-504D-4B51-86DA-6EB29A0A5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实验验证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在板卡上如何看到测试程序的每条指令的执行结果？如何验证功能是否正确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之上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再构造一个实验验证模块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其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改造过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运算结果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76360" y="3500280"/>
          <a:ext cx="612144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500280"/>
                    <a:ext cx="61214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180F-09C5-4F47-943C-5449019005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F410F6-1C09-4D2F-A12E-84B3C87D1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要求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实验三、实验四、实验五和实验六的基础上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写一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能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指定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一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测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条指令的汇编程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用实验六的汇编器，将其翻译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二进制机器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通过关联文件初始化指令存储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验证的顶层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用于验证实验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实验室任务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配置管脚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文件并下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完成板级验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7880-1800-48BB-9BC8-1A1577E780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BA2FC77-31B2-41BD-A4EB-5855882043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411280" y="134028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实验八信号配置表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00000" y="1989000"/>
          <a:ext cx="7632720" cy="4032360"/>
        </p:xfrm>
        <a:graphic>
          <a:graphicData uri="http://schemas.openxmlformats.org/drawingml/2006/table">
            <a:tbl>
              <a:tblPr/>
              <a:tblGrid>
                <a:gridCol w="790560"/>
                <a:gridCol w="1832040"/>
                <a:gridCol w="1879560"/>
                <a:gridCol w="313056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配置设备管脚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功能说明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2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输入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rs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按钮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清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clk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按钮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时钟引脚（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BTND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或者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BTNR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选择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逻辑开关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选择显示的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ALU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运算结果字节或者标志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OF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ZF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；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输出信号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[7:0]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显示字节数据或标志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BB71-9510-4364-8F67-37860112BBA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99C6F3-D6D8-4DC3-AC60-9A50E49BE4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实验五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一定学会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核的方法，设计存储器模块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验证时，需要先测试下存储器读出的数据是否和关联文件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.co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中的是否一致？再测试写入新数据后，读出的数据是否已经更新？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、写、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199D-C5AF-4265-8BB8-1986B33FF7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6EF91C-D92E-4B5F-969A-47F581EF7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s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钮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寄存器堆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F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零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按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钮一次，则执行一条指令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拨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逻辑开关选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结果字节或者标志，并记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141-7E8E-4EB4-8A9D-27E5A693BDE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A642C1-7535-4DE6-AB04-41C0F875AD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八实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型指令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将测试程序（≥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条）的各条指令执行的结果和标志记录到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6.19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中，分析结果正确与否？如果不正确，请分析原因。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ll rd,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t, sham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令将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寄存器的数据进行逻辑左移，左移的位数则是由字段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ham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定。试着实现该指令，谈谈你的实现方法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本实验实现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ltu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令是对无符号数的比较置位指令，如果需要实现有符号数的比较置位指令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l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指令，请问应该如何实现？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rav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是对（有符号）数据的算术右移指令，考虑如何实现它？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说说你在实验中碰到了哪些问题，你是如何解决的？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2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6237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C3E0-F56B-4A56-ACC3-93379B2F9B0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E049177-5772-4D02-86A3-865443548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2411280" y="2492280"/>
            <a:ext cx="4465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The End!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B605-FB30-40C5-8D9F-3C60A728D04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3FB667-0E2C-4B70-8CE4-66DD5E8C3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实验六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PCSpim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打开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.asm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文件出现错误，可能需要修改一些环境设置；也可能程序有误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学会摘录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机器码的方法，以便后续实验使用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A390-22ED-400C-AEA8-B691429369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015D08-6245-4CBF-8021-7AE6594FA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14560" y="3213000"/>
            <a:ext cx="6840000" cy="653760"/>
            <a:chOff x="1114560" y="3213000"/>
            <a:chExt cx="6840000" cy="653760"/>
          </a:xfrm>
        </p:grpSpPr>
        <p:grpSp>
          <p:nvGrpSpPr>
            <p:cNvPr id="107" name=""/>
            <p:cNvGrpSpPr/>
            <p:nvPr/>
          </p:nvGrpSpPr>
          <p:grpSpPr>
            <a:xfrm>
              <a:off x="1114560" y="3213000"/>
              <a:ext cx="6840000" cy="653760"/>
              <a:chOff x="1114560" y="3213000"/>
              <a:chExt cx="6840000" cy="653760"/>
            </a:xfrm>
          </p:grpSpPr>
          <p:pic>
            <p:nvPicPr>
              <p:cNvPr id="108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720" y="3213000"/>
                <a:ext cx="6834600" cy="65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114560" y="3214800"/>
                <a:ext cx="684000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0" name="AutoShape 5"/>
            <p:cNvSpPr/>
            <p:nvPr/>
          </p:nvSpPr>
          <p:spPr>
            <a:xfrm>
              <a:off x="1316880" y="3330000"/>
              <a:ext cx="6453720" cy="43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14560" y="2060640"/>
            <a:ext cx="6913080" cy="655200"/>
            <a:chOff x="1114560" y="2060640"/>
            <a:chExt cx="6913080" cy="655200"/>
          </a:xfrm>
        </p:grpSpPr>
        <p:grpSp>
          <p:nvGrpSpPr>
            <p:cNvPr id="112" name=""/>
            <p:cNvGrpSpPr/>
            <p:nvPr/>
          </p:nvGrpSpPr>
          <p:grpSpPr>
            <a:xfrm>
              <a:off x="1114560" y="2060640"/>
              <a:ext cx="6913080" cy="655200"/>
              <a:chOff x="1114560" y="2060640"/>
              <a:chExt cx="6913080" cy="655200"/>
            </a:xfrm>
          </p:grpSpPr>
          <p:pic>
            <p:nvPicPr>
              <p:cNvPr id="11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720" y="2060640"/>
                <a:ext cx="6907680" cy="65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114560" y="2060640"/>
                <a:ext cx="691308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" name="AutoShape 8"/>
            <p:cNvSpPr/>
            <p:nvPr/>
          </p:nvSpPr>
          <p:spPr>
            <a:xfrm>
              <a:off x="1335600" y="2151000"/>
              <a:ext cx="6523200" cy="43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1546200" y="2133720"/>
            <a:ext cx="5689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3" action="ppaction://hlinksldjump"/>
              </a:rPr>
              <a:t>实验七  取指令与指令译码实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474920" y="3286080"/>
            <a:ext cx="619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4" action="ppaction://hlinksldjump"/>
              </a:rPr>
              <a:t>实验八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5" action="ppaction://hlinksldjump"/>
              </a:rPr>
              <a:t>  实现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6" action="ppaction://hlinksldjump"/>
              </a:rPr>
              <a:t>R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7" action="ppaction://hlinksldjump"/>
              </a:rPr>
              <a:t>型指令的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8" action="ppaction://hlinksldjump"/>
              </a:rPr>
              <a:t>CPU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9" action="ppaction://hlinksldjump"/>
              </a:rPr>
              <a:t>设计实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983C-B024-4D32-90D4-D019CF1BE10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1D8CD3-FA34-4D57-A9E6-C88A4E07D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存储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设计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取指令操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指令译码的方法和过程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8C83-05EB-4992-BC57-E528942E77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0FD3D4-CD59-438D-BD91-D8D15A968B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264960" indent="-612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计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指令存储器，只读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物理大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4×3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612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设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及其自增电路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地址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字节编址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指令存储器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6×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，但是指令存储器地址只需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27280" y="2133720"/>
          <a:ext cx="60850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133720"/>
                    <a:ext cx="608508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C64C-4AB3-47EC-93C2-099236FEB6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08F0F1-54DD-4FBD-A775-26FC89034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终目标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设计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单周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PS CPU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指令周期（即时钟周期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k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跳沿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执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取指令操作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跳沿更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值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复位信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st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=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清零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即指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 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主存开始执行程序。 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生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读的指令存储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时，使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mory I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核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同实验五，但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选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gle port ROM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300720" y="2060640"/>
            <a:ext cx="2519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0448-8B1B-4F60-B6E8-CCACC79914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B9989A-489D-4679-A6E8-B0C0BF6492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七 取指令与指令译码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实验要求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mory I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核生成一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_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当做指令存储器，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关联一个实验六所生成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co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程实现取指令模块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_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存储器模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写一个实验验证的顶层模块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按照以下方法设计实验，也可以自行设计验证实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实验室任务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配置管脚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文件并下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完成板级验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6A65-17D2-45A4-A974-0C61035CC3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AE2FD8-295F-47A1-A5D3-14D367923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5-21T14:33:47Z</dcterms:modified>
  <cp:revision>393</cp:revision>
  <dc:subject>第5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